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4FC-8FCC-4909-A6AE-308CFDDC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939-805C-4570-B86F-5F14425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72C-3BDC-4E1C-AE28-D73FF398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0B5-EA1F-4E61-A5B5-4230E118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F62-21EC-4840-AD45-F4656D4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FE6-1FF4-443F-964A-0565F64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3E5-989F-482C-8990-0EA56806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F1C-8D0F-454A-85E1-3DB2961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B77-D5F0-4D16-947C-CFA51805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795-FFA8-49DE-998F-B16189B7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032-38B7-46B3-B02F-6DBE3F5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A19-7E16-43D4-954B-29DFC27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1365-8A37-490C-BD8C-ADD5D983D9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h.de/de/Das%20BSH/Organisation/Struktur%20des%20BSH/index.j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h.de/de/Das%20BSH/Organisation/Struktur%20des%20BSH/index.j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h.de/de/Meeresdaten/Seevermessung%20und%20Wracksuche/Bathymetrie/index.jsp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bsh.de/de/Meeresdaten/Beobachtungen/DOD-Datenzentrum/index.jsp" TargetMode="External"/><Relationship Id="rId4" Type="http://schemas.openxmlformats.org/officeDocument/2006/relationships/hyperlink" Target="http://www.bsh.de/de/Meeresdaten/Beobachtungen/DOD-Datenzentrum/index.jsp" TargetMode="External"/><Relationship Id="rId5" Type="http://schemas.openxmlformats.org/officeDocument/2006/relationships/hyperlink" Target="http://www.bsh.de/de/Meeresdaten/Beobachtungen/DOD-Datenzentrum/index.jsp" TargetMode="External"/><Relationship Id="rId6" Type="http://schemas.openxmlformats.org/officeDocument/2006/relationships/hyperlink" Target="http://www.bsh.de/de/Meeresdaten/Beobachtungen/DOD-Datenzentrum/index.jsp" TargetMode="External"/><Relationship Id="rId7" Type="http://schemas.openxmlformats.org/officeDocument/2006/relationships/hyperlink" Target="http://www.bsh.de/de/Meeresdaten/Beobachtungen/DOD-Datenzentrum/index.jsp" TargetMode="External"/><Relationship Id="rId8" Type="http://schemas.openxmlformats.org/officeDocument/2006/relationships/hyperlink" Target="http://www.bsh.de/de/Meeresdaten/Beobachtungen/DOD-Datenzentrum/index.jsp" TargetMode="External"/><Relationship Id="rId9" Type="http://schemas.openxmlformats.org/officeDocument/2006/relationships/hyperlink" Target="http://www.bsh.de/de/Meeresdaten/Beobachtungen/DOD-Datenzentrum/index.jsp" TargetMode="External"/><Relationship Id="rId10" Type="http://schemas.openxmlformats.org/officeDocument/2006/relationships/hyperlink" Target="http://www.bsh.de/de/Meeresdaten/Beobachtungen/DOD-Datenzentrum/index.jsp" TargetMode="External"/><Relationship Id="rId11" Type="http://schemas.openxmlformats.org/officeDocument/2006/relationships/hyperlink" Target="http://www.bsh.de/de/Meeresdaten/Beobachtungen/DOD-Datenzentrum/index.jsp" TargetMode="External"/><Relationship Id="rId12" Type="http://schemas.openxmlformats.org/officeDocument/2006/relationships/hyperlink" Target="http://www.ospar.org/" TargetMode="External"/><Relationship Id="rId13" Type="http://schemas.openxmlformats.org/officeDocument/2006/relationships/hyperlink" Target="http://www.helcom.fi/" TargetMode="External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sh.de/de/Meeresdaten/Beobachtungen/BLMP-Messprogramm/steuer/2330.jsp" TargetMode="External"/><Relationship Id="rId3" Type="http://schemas.openxmlformats.org/officeDocument/2006/relationships/hyperlink" Target="http://www.bsh.de/de/Meeresdaten/Beobachtungen/MURSYS-Umweltreportsystem/index.jsp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bsh.de/de/Meeresdaten/Umweltschutz/MUDAB-Datenbank/index.jsp" TargetMode="External"/><Relationship Id="rId6" Type="http://schemas.openxmlformats.org/officeDocument/2006/relationships/hyperlink" Target="http://www.bsh.de/de/Meeresdaten/Umweltschutz/MUDAB-Datenbank/index.jsp" TargetMode="Externa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fki.baw.de/Die_Kueste.59.0.html?&amp;L=0%3Ftx_kuddelprojects_pi1%5Bproject_id%5D%3D123" TargetMode="External"/><Relationship Id="rId2" Type="http://schemas.openxmlformats.org/officeDocument/2006/relationships/hyperlink" Target="http://kfki.baw.de/Newsletter.28.0.html?&amp;L=0%3Ftx_kuddelprojects_pi1%5Bproject_id%5D%3D123" TargetMode="External"/><Relationship Id="rId3" Type="http://schemas.openxmlformats.org/officeDocument/2006/relationships/hyperlink" Target="http://kfki.baw.de/InfoGuideClient/start.do?Login=webexter&amp;BaseURL=this" TargetMode="External"/><Relationship Id="rId4" Type="http://schemas.openxmlformats.org/officeDocument/2006/relationships/hyperlink" Target="http://www.hosted-by-kfki.baw.de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6720" cy="490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0" y="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Gemeinsamkei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840040" cy="537372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348000" y="907920"/>
            <a:ext cx="57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BSH, KFKI und NO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haben großes Interesse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Themen und Diskussi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dieses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und wünsc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Gutes Geling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2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Hamburg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Workshops 1993 –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6720" cy="490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5960" y="76500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66699"/>
                </a:solidFill>
                <a:latin typeface="Arial"/>
              </a:rPr>
              <a:t>Arbeitskreis 'Umweltdatenbanken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Hamburg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840040" cy="537372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205800" y="1413000"/>
            <a:ext cx="204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BSH</a:t>
            </a:r>
            <a:br>
              <a:rPr sz="3600"/>
            </a:b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KF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666699"/>
                </a:solidFill>
                <a:latin typeface="Arial"/>
              </a:rPr>
              <a:t>NO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0360" y="1484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Bundesamt für </a:t>
            </a:r>
            <a:br>
              <a:rPr sz="1800"/>
            </a:b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Seeschiffahrt und Hydr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83040" y="249228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Kuratorium für </a:t>
            </a:r>
            <a:br>
              <a:rPr sz="1800"/>
            </a:b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Forschung im Küsteningenieurw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0720" y="3645000"/>
            <a:ext cx="30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Nord- und Ostsee Küst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Informations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BSH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ufga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20560"/>
            <a:ext cx="820908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Bundesamt für Seeschiffahrt und Hydrographie (BSH)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maritimer Partner für Wirtschaft, Umwelt und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840 Mitarbeiterinnen und Mitarbeiter in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Hamburg und Ro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Dienste für die Seeschifffahrt, </a:t>
            </a:r>
            <a:br>
              <a:rPr sz="1600"/>
            </a:b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wie Schiffsvermessung, Flaggenrecht, Internationales Seeschifffahrtsregi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Förderung der deutschen Handelsflot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Erteilung und Registrierung von Zeugnissen für Seele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Prüfung und Zulassung von Navigations- und Funkausrüstun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Vermessung der Nord- und Ostsee mit eigener BSH-Flotte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Herausgabe von Seekarten und Sportbootkar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Genehmigung von Offshore-Aktivitäten wie Windenergieanlagen, Pipelines, Seekab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Vorhersage von Gezeiten, Wasserstand und Sturmflu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Überwachung der Meeresumwelt</a:t>
            </a: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Verfolgung von Umweltverstößen</a:t>
            </a: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Verbesserung der Kenntnisse über das Meer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71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BSH Abteil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615960"/>
            <a:ext cx="820908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6699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eeres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Vorhersagedien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Physik des Me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Chemie des Me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Daten- und Interpret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Interpret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Deutsches ozeanographisches Datenzen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Zentrale Datenaufbereitu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NAUTHIS (Nautisch-hydrographisches Informationssytem)</a:t>
            </a: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Meereskundliche Querschittsaufga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6699"/>
                </a:solidFill>
                <a:latin typeface="Arial"/>
              </a:rPr>
              <a:t>N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autische Hydr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Seevermessung und Geodä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Nautischer Informationsdie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Schiffe und Gerä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Graphische Tech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6699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chifffa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6699"/>
                </a:solidFill>
                <a:latin typeface="Arial"/>
              </a:rPr>
              <a:t>Z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entralabtei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Rechtsangelegenh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Rechtliche Grundsatzfragen, Verwaltungsverfah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666699"/>
                </a:solidFill>
                <a:latin typeface="Arial"/>
              </a:rPr>
              <a:t>Rechtsangelegenheiten nach MARPOL, Ballastwasserab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Raumord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71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BSH Datenzent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228640"/>
            <a:ext cx="820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thymetrisches Datenzen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assung und Archivierung bathymetrische Datensätze der deutschen Meeresfor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714240" cy="140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240" y="1195560"/>
            <a:ext cx="861048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utsches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eanographisches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tenzentrum (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OD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)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Knotenpunkt für den nationalen und internationalen Austausch ozeanographischer Daten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Sammlung mariner Beobachtungsdaten der wissenschaftlichen Institute und Behö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MUDAB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Überwachungsdaten deutscher Institutionen aus den Verpflichtungen auf Gr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des Übereinkommens von Oslo/Paris zur Überwachung der Nordsee </a:t>
            </a:r>
            <a:br>
              <a:rPr sz="1600"/>
            </a:b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 (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J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oint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M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onitoring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P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rogramme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666699"/>
                </a:solidFill>
                <a:latin typeface="Arial"/>
              </a:rPr>
              <a:t>JMP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 bzw. jetzt </a:t>
            </a:r>
            <a:r>
              <a:rPr b="1" lang="de-DE" sz="1600" spc="-1" strike="noStrike">
                <a:solidFill>
                  <a:srgbClr val="666699"/>
                </a:solidFill>
                <a:latin typeface="Arial"/>
              </a:rPr>
              <a:t>JAMP 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-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Os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lo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Pa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ris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Com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missions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SPAR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der Übereinkommen von Helsinki zur Überwachung der Ostsee </a:t>
            </a:r>
            <a:r>
              <a:rPr b="0" lang="en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ELCOM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 (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Hel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sinki </a:t>
            </a:r>
            <a:r>
              <a:rPr b="1" lang="en" sz="1600" spc="-1" strike="noStrike">
                <a:solidFill>
                  <a:srgbClr val="666699"/>
                </a:solidFill>
                <a:latin typeface="Arial"/>
              </a:rPr>
              <a:t>Com</a:t>
            </a:r>
            <a:r>
              <a:rPr b="0" lang="en" sz="1600" spc="-1" strike="noStrike">
                <a:solidFill>
                  <a:srgbClr val="666699"/>
                </a:solidFill>
                <a:latin typeface="Arial"/>
              </a:rPr>
              <a:t>mission, Cooperative Monitoring in the Baltic Marine Environment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666699"/>
                </a:solidFill>
                <a:latin typeface="Arial"/>
              </a:rPr>
              <a:t>COMBINE</a:t>
            </a: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) </a:t>
            </a:r>
            <a:br>
              <a:rPr sz="1600"/>
            </a:b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und Weitergabe dieser Daten an die entsprechenden Gremien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6699"/>
                </a:solidFill>
                <a:latin typeface="Arial"/>
              </a:rPr>
              <a:t>BSH MUD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714240" cy="140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7760" y="1174320"/>
            <a:ext cx="772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L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und/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L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änder-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ess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rogramm für die Meeresumwelt von Nord- und Ost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Mitglieder: BMELV, BMVBS, BMU, BM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HH-BSU, MV-UM, NI-UM, SH-ML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580640"/>
            <a:ext cx="842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UR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eeres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mwelt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eport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sys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regelmäßiger Meeresumweltbericht 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-1916280" y="3732120"/>
            <a:ext cx="47880" cy="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8840" y="2565000"/>
            <a:ext cx="7495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UDAB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eeres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mwelt 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Da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ten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a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zentrale Datenbank des BL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gemeinsames Projekt des BSH und des 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Daten und Informationen von etwa 5 500 Reisen und 250 000 Stationen </a:t>
            </a:r>
            <a:br>
              <a:rPr sz="1800"/>
            </a:b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mit insgesamt 13Millionen Datensät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KF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8640" y="1195560"/>
            <a:ext cx="9016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666699"/>
                </a:solidFill>
                <a:latin typeface="Arial"/>
              </a:rPr>
              <a:t>uratorium für 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666699"/>
                </a:solidFill>
                <a:latin typeface="Arial"/>
              </a:rPr>
              <a:t>orschung im 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666699"/>
                </a:solidFill>
                <a:latin typeface="Arial"/>
              </a:rPr>
              <a:t>üsten</a:t>
            </a: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666699"/>
                </a:solidFill>
                <a:latin typeface="Arial"/>
              </a:rPr>
              <a:t>ngenieurwe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Mitglieder: BMELV, BMVBS, BM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HH-BSU, MV-UM, NI-UM, SH-MLUR, HB-SB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Forschungsaufgaben: Erfassung und Vorhersage der Naturvorgänge im Küstenber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Kernaufgaben: Verbreitung, Nutzung und Dokumentation von Forschungsergebn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Zeitschrift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e Küste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(deutsche Küstenforschung, Sonderheft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Newsletter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FKI aktuell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Spezialbibliothek zum Küsteningenieurwesen (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OPAC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Projektdatenbank (Berichte zu allen KFKI-Projekte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Daten aus beendeten Forschungsprojekten (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sted-by-kfki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) auf Dauer verfüg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Informations-Infrastruktur von NOKIS in den Jahren 2001 bis 2004 aufgeb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6699"/>
                </a:solidFill>
                <a:latin typeface="Arial"/>
              </a:rPr>
              <a:t>kfki.baw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516720" y="189000"/>
            <a:ext cx="244800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NO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760" y="3603600"/>
            <a:ext cx="889200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99"/>
                </a:solidFill>
                <a:latin typeface="Arial"/>
              </a:rPr>
              <a:t>Projek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NOKIS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Informations-Infrastrukturen für Nord- und Ostseekü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als Beitrag zu einem Integrierten Küstenzonen-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Informations-Infrastrukturen für ein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Integriertes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Küsteningenieurwesen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(B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Informations-Infrastrukturen für einen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Integrierten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Küstengewässerschutz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(LANU) </a:t>
            </a:r>
            <a:br>
              <a:rPr sz="1800"/>
            </a:b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14 Projekt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16280" cy="73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1125000"/>
            <a:ext cx="950616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ord- und 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O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stsee 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K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üsten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nformations</a:t>
            </a:r>
            <a:r>
              <a:rPr b="1" lang="de-DE" sz="1800" spc="-1" strike="noStrike">
                <a:solidFill>
                  <a:srgbClr val="666699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6600"/>
                </a:solidFill>
                <a:latin typeface="Arial"/>
              </a:rPr>
              <a:t>Metadaten – Informationssystem</a:t>
            </a:r>
            <a:r>
              <a:rPr b="0" lang="de-DE" sz="1700" spc="-1" strike="noStrike">
                <a:solidFill>
                  <a:srgbClr val="666699"/>
                </a:solidFill>
                <a:latin typeface="Arial"/>
              </a:rPr>
              <a:t> für die Küstenforschung und das Küsteningenieurwes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seit 2000 bei der BAW, Dienststelle Hamburg, in Betrieb: nokis.baw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Nutzung durch KFKI und BM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1:26:16Z</dcterms:created>
  <dc:creator>Dr. Rainer Lehfeldt</dc:creator>
  <dc:description/>
  <dc:language>en-US</dc:language>
  <cp:lastModifiedBy>Dr. Rainer Lehfeldt</cp:lastModifiedBy>
  <dcterms:modified xsi:type="dcterms:W3CDTF">2007-05-19T00:40:05Z</dcterms:modified>
  <cp:revision>24</cp:revision>
  <dc:subject/>
  <dc:title>Tagungsorte 1993 – 2007 </dc:title>
</cp:coreProperties>
</file>