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74E0B-AAA2-4DA5-918C-A346C9FA1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9131A-2291-4865-A302-FA1B4F050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8E3DF-31B9-404A-81CC-CF21F6DC7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488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7844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132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488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7844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16E3-7DB8-4B04-AAAC-26A720672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DFDE6-CB18-44D0-91F5-CB625180C0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FEC33-1268-4259-A5B8-4E6C849A3F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67625-8C8B-4526-8D70-AA690A373D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73574-FD5F-48F6-AEE4-1D43452DF3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3BA7E-BCCC-45E6-95D4-A0CB72EC23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7200" y="376200"/>
            <a:ext cx="6594480" cy="17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2A69B-3DC8-4AF3-B41F-359A78C2D3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B7693-91A8-4F36-9F6D-EE870E8B72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B7CC5-F4DF-463B-891B-105E3A918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25B82-F45A-4951-8335-7510AC2EC3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F751E-5603-4BB6-891F-0FEE3F01F2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AAF4C-2848-465B-B18E-FFA892CAC8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057D2-019F-4E3A-BD8C-4DF9361D06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2488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7844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7132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2488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7844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5BC0B-FD42-4762-8B4D-418BA6AE20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06EB-9FDB-40D2-BC88-C82178EF6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1EE1-8F2F-4416-BBC9-CC6055582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EC65-61E0-494F-A120-1A318BCD8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7200" y="376200"/>
            <a:ext cx="6594480" cy="17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E0234-3027-4845-BF13-C1DA45414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387A3-F65E-4998-B510-C6DAF3012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98031-D211-4704-A793-8726E1272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DCAD-8898-4BDB-893E-112928D7D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535960" y="235080"/>
            <a:ext cx="609480" cy="488880"/>
            <a:chOff x="8535960" y="235080"/>
            <a:chExt cx="609480" cy="488880"/>
          </a:xfrm>
        </p:grpSpPr>
        <p:sp>
          <p:nvSpPr>
            <p:cNvPr id="1" name=""/>
            <p:cNvSpPr/>
            <p:nvPr/>
          </p:nvSpPr>
          <p:spPr>
            <a:xfrm>
              <a:off x="8535960" y="519120"/>
              <a:ext cx="609480" cy="204840"/>
            </a:xfrm>
            <a:custGeom>
              <a:avLst/>
              <a:gdLst/>
              <a:ahLst/>
              <a:rect l="l" t="t" r="r" b="b"/>
              <a:pathLst>
                <a:path w="384" h="129">
                  <a:moveTo>
                    <a:pt x="0" y="128"/>
                  </a:moveTo>
                  <a:lnTo>
                    <a:pt x="97" y="128"/>
                  </a:lnTo>
                  <a:lnTo>
                    <a:pt x="110" y="96"/>
                  </a:lnTo>
                  <a:lnTo>
                    <a:pt x="383" y="96"/>
                  </a:lnTo>
                  <a:lnTo>
                    <a:pt x="383" y="0"/>
                  </a:lnTo>
                  <a:lnTo>
                    <a:pt x="147" y="0"/>
                  </a:lnTo>
                  <a:lnTo>
                    <a:pt x="135" y="30"/>
                  </a:lnTo>
                  <a:lnTo>
                    <a:pt x="0" y="30"/>
                  </a:lnTo>
                  <a:lnTo>
                    <a:pt x="0" y="1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35960" y="235080"/>
              <a:ext cx="609480" cy="204480"/>
            </a:xfrm>
            <a:custGeom>
              <a:avLst/>
              <a:gdLst/>
              <a:ahLst/>
              <a:rect l="l" t="t" r="r" b="b"/>
              <a:pathLst>
                <a:path w="384" h="129">
                  <a:moveTo>
                    <a:pt x="0" y="128"/>
                  </a:moveTo>
                  <a:lnTo>
                    <a:pt x="168" y="128"/>
                  </a:lnTo>
                  <a:lnTo>
                    <a:pt x="181" y="96"/>
                  </a:lnTo>
                  <a:lnTo>
                    <a:pt x="383" y="96"/>
                  </a:lnTo>
                  <a:lnTo>
                    <a:pt x="383" y="0"/>
                  </a:lnTo>
                  <a:lnTo>
                    <a:pt x="218" y="0"/>
                  </a:lnTo>
                  <a:lnTo>
                    <a:pt x="206" y="30"/>
                  </a:lnTo>
                  <a:lnTo>
                    <a:pt x="0" y="30"/>
                  </a:lnTo>
                  <a:lnTo>
                    <a:pt x="0" y="128"/>
                  </a:lnTo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81080" y="851040"/>
            <a:ext cx="8962920" cy="5702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190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09720" indent="-190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0972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0972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10360" y="6668640"/>
            <a:ext cx="310968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915400" y="6645240"/>
            <a:ext cx="18432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132C-A4A7-4FF3-B206-8C9AF8DD15A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0" y="259200"/>
            <a:ext cx="1562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samt fü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ur und Umwe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 Land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leswig-Holst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35960" y="519120"/>
            <a:ext cx="609480" cy="204840"/>
          </a:xfrm>
          <a:custGeom>
            <a:avLst/>
            <a:gdLst/>
            <a:ahLst/>
            <a:rect l="l" t="t" r="r" b="b"/>
            <a:pathLst>
              <a:path w="384" h="129">
                <a:moveTo>
                  <a:pt x="0" y="128"/>
                </a:moveTo>
                <a:lnTo>
                  <a:pt x="97" y="128"/>
                </a:lnTo>
                <a:lnTo>
                  <a:pt x="110" y="96"/>
                </a:lnTo>
                <a:lnTo>
                  <a:pt x="383" y="96"/>
                </a:lnTo>
                <a:lnTo>
                  <a:pt x="383" y="0"/>
                </a:lnTo>
                <a:lnTo>
                  <a:pt x="147" y="0"/>
                </a:lnTo>
                <a:lnTo>
                  <a:pt x="135" y="30"/>
                </a:lnTo>
                <a:lnTo>
                  <a:pt x="0" y="30"/>
                </a:lnTo>
                <a:lnTo>
                  <a:pt x="0" y="12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35960" y="235080"/>
            <a:ext cx="609480" cy="204480"/>
          </a:xfrm>
          <a:custGeom>
            <a:avLst/>
            <a:gdLst/>
            <a:ahLst/>
            <a:rect l="l" t="t" r="r" b="b"/>
            <a:pathLst>
              <a:path w="384" h="129">
                <a:moveTo>
                  <a:pt x="0" y="128"/>
                </a:moveTo>
                <a:lnTo>
                  <a:pt x="168" y="128"/>
                </a:lnTo>
                <a:lnTo>
                  <a:pt x="181" y="96"/>
                </a:lnTo>
                <a:lnTo>
                  <a:pt x="383" y="96"/>
                </a:lnTo>
                <a:lnTo>
                  <a:pt x="383" y="0"/>
                </a:lnTo>
                <a:lnTo>
                  <a:pt x="218" y="0"/>
                </a:lnTo>
                <a:lnTo>
                  <a:pt x="206" y="30"/>
                </a:lnTo>
                <a:lnTo>
                  <a:pt x="0" y="30"/>
                </a:lnTo>
                <a:lnTo>
                  <a:pt x="0" y="128"/>
                </a:lnTo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1080" y="851040"/>
            <a:ext cx="8962920" cy="5702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5310360" y="6652800"/>
            <a:ext cx="310968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8915400" y="6645240"/>
            <a:ext cx="18432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5596-FFF1-4312-9BD1-44A08582891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259200"/>
            <a:ext cx="1562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ate Agency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ature and Environ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f L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chleswig-Holst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eb.lanu.landsh.de/publish/tsystems/index.html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1066680"/>
            <a:ext cx="8424720" cy="22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Öffnung des Schleswig-Holsteinischen Fachsystems Gewässer-Anlagen zu einer Informations- und Austauschplattform im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4581360"/>
            <a:ext cx="835344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ctr">
              <a:lnSpc>
                <a:spcPct val="15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des AK Umweltdaten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 Mai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k Gör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k Görtzen, LANU 1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15DCD-9610-4236-B5D8-0C1A2923B9F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99"/>
                </a:solidFill>
                <a:latin typeface="Arial"/>
              </a:rPr>
              <a:t>WBV‘s und BGV‘s im Atlas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71680" y="1355760"/>
            <a:ext cx="7848360" cy="4755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2990880" cy="3695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95280" y="4869000"/>
            <a:ext cx="2376360" cy="43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5445000"/>
            <a:ext cx="2232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4437000"/>
            <a:ext cx="1584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k Görtzen, LANU 1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03990-8857-4343-8564-2D8613E5C9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6840" y="376200"/>
            <a:ext cx="726444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99"/>
                </a:solidFill>
                <a:latin typeface="Arial"/>
              </a:rPr>
              <a:t>Nutzer WBV 40124 – SV Fahretoft Bottschl. Koog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71680" y="1420920"/>
            <a:ext cx="7848360" cy="4626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195640" y="2060640"/>
            <a:ext cx="4659120" cy="45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k Görtzen, LANU 1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4A55-9DB1-43B2-BE56-793A815FA5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WBV 40124 mit Anlagen (Gesamtes DAV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71680" y="1432080"/>
            <a:ext cx="7848360" cy="46018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048120" cy="31370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95280" y="4292640"/>
            <a:ext cx="1293840" cy="504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2195640" y="2060640"/>
            <a:ext cx="4638600" cy="4604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6588000" y="260280"/>
            <a:ext cx="2413080" cy="6046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 rot="19452600">
            <a:off x="5272200" y="2066760"/>
            <a:ext cx="72072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5508720" y="2492280"/>
            <a:ext cx="3467160" cy="408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k Görtzen, LANU 1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0C666-6E35-48AA-8B2C-838753304E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99"/>
                </a:solidFill>
                <a:latin typeface="Arial"/>
              </a:rPr>
              <a:t>Atlas-Nutzer bgv3 – Bongsieler Kanal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71680" y="1370160"/>
            <a:ext cx="7848360" cy="47257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 rot="20408400">
            <a:off x="2637000" y="4205160"/>
            <a:ext cx="720720" cy="444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k Görtzen, LANU 1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63D9-1FC7-4E15-83FF-A0DE2AE10C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BGV 3 mit Anlagen (reduziertes DAV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1680" y="1368360"/>
            <a:ext cx="7848360" cy="47307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708360" y="2565360"/>
            <a:ext cx="5276880" cy="39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k Görtzen, LANU 1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1328D-5313-4F14-BCDB-9BE95B1451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376200"/>
            <a:ext cx="6858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Danke für die Aufmerksamke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72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k Görtzen, LANU 1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5468-2A27-4290-978D-6A1C11BAC218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80880" y="1144440"/>
          <a:ext cx="8534520" cy="51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4440"/>
                    <a:ext cx="853452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86840" y="376200"/>
            <a:ext cx="7193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Arial"/>
              </a:rPr>
              <a:t>N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atur- und </a:t>
            </a:r>
            <a:r>
              <a:rPr b="1" i="1" lang="en-US" sz="2800" spc="-1" strike="noStrike">
                <a:solidFill>
                  <a:srgbClr val="3399ff"/>
                </a:solidFill>
                <a:latin typeface="Arial"/>
              </a:rPr>
              <a:t>U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mwelt</a:t>
            </a:r>
            <a:r>
              <a:rPr b="1" i="1" lang="en-US" sz="2800" spc="-1" strike="noStrike">
                <a:solidFill>
                  <a:srgbClr val="3399ff"/>
                </a:solidFill>
                <a:latin typeface="Arial"/>
              </a:rPr>
              <a:t>-I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nformations-</a:t>
            </a:r>
            <a:r>
              <a:rPr b="1" i="1" lang="en-US" sz="2800" spc="-1" strike="noStrike">
                <a:solidFill>
                  <a:srgbClr val="3399ff"/>
                </a:solidFill>
                <a:latin typeface="Arial"/>
              </a:rPr>
              <a:t>S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ystem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56360" y="1989000"/>
            <a:ext cx="1655640" cy="792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708280"/>
            <a:ext cx="1656000" cy="79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k Görtzen, LANU 1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D181-A617-4679-BE96-7F53722C09D0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6840" y="376200"/>
            <a:ext cx="689940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Vom NUIS ins Internet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00000" y="1125360"/>
            <a:ext cx="7161120" cy="5257440"/>
            <a:chOff x="900000" y="1125360"/>
            <a:chExt cx="7161120" cy="5257440"/>
          </a:xfrm>
        </p:grpSpPr>
        <p:sp>
          <p:nvSpPr>
            <p:cNvPr id="100" name=""/>
            <p:cNvSpPr/>
            <p:nvPr/>
          </p:nvSpPr>
          <p:spPr>
            <a:xfrm>
              <a:off x="916200" y="1125360"/>
              <a:ext cx="2695680" cy="4130640"/>
            </a:xfrm>
            <a:custGeom>
              <a:avLst/>
              <a:gdLst>
                <a:gd name="textAreaLeft" fmla="*/ 131400 w 2695680"/>
                <a:gd name="textAreaRight" fmla="*/ 2564280 w 2695680"/>
                <a:gd name="textAreaTop" fmla="*/ 131400 h 4130640"/>
                <a:gd name="textAreaBottom" fmla="*/ 3999240 h 4130640"/>
              </a:gdLst>
              <a:ahLst/>
              <a:rect l="textAreaLeft" t="textAreaTop" r="textAreaRight" b="textAreaBottom"/>
              <a:pathLst>
                <a:path w="21600" h="33097">
                  <a:moveTo>
                    <a:pt x="3600" y="0"/>
                  </a:moveTo>
                  <a:arcTo wR="3600" hR="3600" stAng="16200000" swAng="-5400000"/>
                  <a:lnTo>
                    <a:pt x="0" y="29497"/>
                  </a:lnTo>
                  <a:arcTo wR="3600" hR="3600" stAng="10800000" swAng="-5400000"/>
                  <a:lnTo>
                    <a:pt x="18000" y="330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5ffca">
                <a:alpha val="50000"/>
              </a:srgbClr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29040" y="1125360"/>
              <a:ext cx="3782160" cy="4130640"/>
            </a:xfrm>
            <a:custGeom>
              <a:avLst/>
              <a:gdLst>
                <a:gd name="textAreaLeft" fmla="*/ 184320 w 3782160"/>
                <a:gd name="textAreaRight" fmla="*/ 3597840 w 3782160"/>
                <a:gd name="textAreaTop" fmla="*/ 184320 h 4130640"/>
                <a:gd name="textAreaBottom" fmla="*/ 3946320 h 4130640"/>
              </a:gdLst>
              <a:ahLst/>
              <a:rect l="textAreaLeft" t="textAreaTop" r="textAreaRight" b="textAreaBottom"/>
              <a:pathLst>
                <a:path w="21600" h="23590">
                  <a:moveTo>
                    <a:pt x="3600" y="0"/>
                  </a:moveTo>
                  <a:arcTo wR="3600" hR="3600" stAng="16200000" swAng="-5400000"/>
                  <a:lnTo>
                    <a:pt x="0" y="19990"/>
                  </a:lnTo>
                  <a:arcTo wR="3600" hR="3600" stAng="10800000" swAng="-5400000"/>
                  <a:lnTo>
                    <a:pt x="18000" y="235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9edff">
                <a:alpha val="50000"/>
              </a:srgbClr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6200000">
              <a:off x="4384440" y="2865600"/>
              <a:ext cx="626400" cy="419760"/>
            </a:xfrm>
            <a:prstGeom prst="leftRightArrow">
              <a:avLst>
                <a:gd name="adj1" fmla="val 50000"/>
                <a:gd name="adj2" fmla="val 297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366360" y="3190320"/>
              <a:ext cx="2453400" cy="87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960880" y="2189880"/>
              <a:ext cx="1608840" cy="1813320"/>
              <a:chOff x="5960880" y="2189880"/>
              <a:chExt cx="1608840" cy="1813320"/>
            </a:xfrm>
          </p:grpSpPr>
          <p:sp>
            <p:nvSpPr>
              <p:cNvPr id="105" name=""/>
              <p:cNvSpPr/>
              <p:nvPr/>
            </p:nvSpPr>
            <p:spPr>
              <a:xfrm>
                <a:off x="5960880" y="2189880"/>
                <a:ext cx="1608840" cy="1813320"/>
              </a:xfrm>
              <a:custGeom>
                <a:avLst/>
                <a:gdLst>
                  <a:gd name="textAreaLeft" fmla="*/ 78480 w 1608840"/>
                  <a:gd name="textAreaRight" fmla="*/ 1530360 w 1608840"/>
                  <a:gd name="textAreaTop" fmla="*/ 78480 h 1813320"/>
                  <a:gd name="textAreaBottom" fmla="*/ 1734840 h 1813320"/>
                </a:gdLst>
                <a:ahLst/>
                <a:rect l="textAreaLeft" t="textAreaTop" r="textAreaRight" b="textAreaBottom"/>
                <a:pathLst>
                  <a:path w="21600" h="24345">
                    <a:moveTo>
                      <a:pt x="3600" y="0"/>
                    </a:moveTo>
                    <a:arcTo wR="3600" hR="3600" stAng="16200000" swAng="-5400000"/>
                    <a:lnTo>
                      <a:pt x="0" y="20745"/>
                    </a:lnTo>
                    <a:arcTo wR="3600" hR="3600" stAng="10800000" swAng="-5400000"/>
                    <a:lnTo>
                      <a:pt x="18000" y="243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00560" y="2252160"/>
                <a:ext cx="1343520" cy="102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6730200" y="3502800"/>
                <a:ext cx="629280" cy="312480"/>
              </a:xfrm>
              <a:prstGeom prst="can">
                <a:avLst>
                  <a:gd name="adj" fmla="val 25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4069800" y="1563480"/>
              <a:ext cx="1608840" cy="1126800"/>
              <a:chOff x="4069800" y="1563480"/>
              <a:chExt cx="1608840" cy="1126800"/>
            </a:xfrm>
          </p:grpSpPr>
          <p:sp>
            <p:nvSpPr>
              <p:cNvPr id="109" name=""/>
              <p:cNvSpPr/>
              <p:nvPr/>
            </p:nvSpPr>
            <p:spPr>
              <a:xfrm>
                <a:off x="4069800" y="1563480"/>
                <a:ext cx="1608840" cy="1126800"/>
              </a:xfrm>
              <a:prstGeom prst="roundRect">
                <a:avLst>
                  <a:gd name="adj" fmla="val 16667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209480" y="1751040"/>
                <a:ext cx="1343520" cy="753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" name=""/>
            <p:cNvGrpSpPr/>
            <p:nvPr/>
          </p:nvGrpSpPr>
          <p:grpSpPr>
            <a:xfrm>
              <a:off x="4069800" y="3691080"/>
              <a:ext cx="1608840" cy="1126800"/>
              <a:chOff x="4069800" y="3691080"/>
              <a:chExt cx="1608840" cy="11268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69800" y="3691080"/>
                <a:ext cx="1608840" cy="1126800"/>
              </a:xfrm>
              <a:prstGeom prst="roundRect">
                <a:avLst>
                  <a:gd name="adj" fmla="val 16667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197960" y="3742920"/>
                <a:ext cx="626400" cy="33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67280" y="3805560"/>
                <a:ext cx="626400" cy="48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4197960" y="4181400"/>
                <a:ext cx="979200" cy="563400"/>
              </a:xfrm>
              <a:prstGeom prst="can">
                <a:avLst>
                  <a:gd name="adj" fmla="val 25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898960" y="4099320"/>
              <a:ext cx="1985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oNet-Umwe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CMS WebGenesi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23440" y="491328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b-Datenba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93000" y="1289520"/>
              <a:ext cx="1287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rar- u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mweltat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87920" y="1175400"/>
              <a:ext cx="0" cy="483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3575160" y="554184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5400000">
              <a:off x="3254400" y="559440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ra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96840" y="3753000"/>
              <a:ext cx="910440" cy="50220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37960" y="2001960"/>
              <a:ext cx="489240" cy="562320"/>
            </a:xfrm>
            <a:custGeom>
              <a:avLst/>
              <a:gdLst>
                <a:gd name="textAreaLeft" fmla="*/ 23760 w 489240"/>
                <a:gd name="textAreaRight" fmla="*/ 465480 w 489240"/>
                <a:gd name="textAreaTop" fmla="*/ 23760 h 562320"/>
                <a:gd name="textAreaBottom" fmla="*/ 538560 h 562320"/>
              </a:gdLst>
              <a:ahLst/>
              <a:rect l="textAreaLeft" t="textAreaTop" r="textAreaRight" b="textAreaBottom"/>
              <a:pathLst>
                <a:path w="21600" h="24824">
                  <a:moveTo>
                    <a:pt x="3600" y="0"/>
                  </a:moveTo>
                  <a:arcTo wR="3600" hR="3600" stAng="16200000" swAng="-5400000"/>
                  <a:lnTo>
                    <a:pt x="0" y="21224"/>
                  </a:lnTo>
                  <a:arcTo wR="3600" hR="3600" stAng="10800000" swAng="-5400000"/>
                  <a:lnTo>
                    <a:pt x="18000" y="248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37800" y="2752200"/>
              <a:ext cx="419760" cy="564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87880" y="3943080"/>
              <a:ext cx="910080" cy="49824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78920" y="3002400"/>
              <a:ext cx="419400" cy="5623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75480" y="2125800"/>
              <a:ext cx="490680" cy="564120"/>
            </a:xfrm>
            <a:custGeom>
              <a:avLst/>
              <a:gdLst>
                <a:gd name="textAreaLeft" fmla="*/ 23760 w 490680"/>
                <a:gd name="textAreaRight" fmla="*/ 466920 w 490680"/>
                <a:gd name="textAreaTop" fmla="*/ 23760 h 564120"/>
                <a:gd name="textAreaBottom" fmla="*/ 540360 h 564120"/>
              </a:gdLst>
              <a:ahLst/>
              <a:rect l="textAreaLeft" t="textAreaTop" r="textAreaRight" b="textAreaBottom"/>
              <a:pathLst>
                <a:path w="21600" h="24830">
                  <a:moveTo>
                    <a:pt x="3600" y="0"/>
                  </a:moveTo>
                  <a:arcTo wR="3600" hR="3600" stAng="16200000" swAng="-5400000"/>
                  <a:lnTo>
                    <a:pt x="0" y="21230"/>
                  </a:lnTo>
                  <a:arcTo wR="3600" hR="3600" stAng="10800000" swAng="-5400000"/>
                  <a:lnTo>
                    <a:pt x="18000" y="248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6360" y="4193280"/>
              <a:ext cx="56232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66360" y="2940480"/>
              <a:ext cx="238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737800" y="2314080"/>
              <a:ext cx="119088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8900000">
              <a:off x="5537880" y="3504600"/>
              <a:ext cx="490680" cy="374040"/>
            </a:xfrm>
            <a:prstGeom prst="leftRightArrow">
              <a:avLst>
                <a:gd name="adj1" fmla="val 50000"/>
                <a:gd name="adj2" fmla="val 2611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3500000">
              <a:off x="5530320" y="2383200"/>
              <a:ext cx="438120" cy="422640"/>
            </a:xfrm>
            <a:prstGeom prst="leftRightArrow">
              <a:avLst>
                <a:gd name="adj1" fmla="val 50000"/>
                <a:gd name="adj2" fmla="val 2063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80240" y="1462680"/>
              <a:ext cx="162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rar- u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mwelt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19880" y="1227600"/>
              <a:ext cx="235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tur- und Umwelt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ormations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89760" y="5570280"/>
              <a:ext cx="2871360" cy="81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0800000">
              <a:off x="5259240" y="5632560"/>
              <a:ext cx="489240" cy="375840"/>
            </a:xfrm>
            <a:prstGeom prst="leftRightArrow">
              <a:avLst>
                <a:gd name="adj1" fmla="val 50000"/>
                <a:gd name="adj2" fmla="val 25914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57840" y="5639040"/>
              <a:ext cx="220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aktive Verbind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29080" y="6132600"/>
              <a:ext cx="41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36680" y="5961240"/>
              <a:ext cx="114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enflu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98360" y="449532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enbank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51920" y="2042280"/>
              <a:ext cx="107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0000" y="2737080"/>
              <a:ext cx="168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achdaten 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en Fach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formations-system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>
            <a:hlinkClick r:id="rId5"/>
          </p:cNvPr>
          <p:cNvSpPr/>
          <p:nvPr/>
        </p:nvSpPr>
        <p:spPr>
          <a:xfrm>
            <a:off x="8305920" y="57150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k Görtzen, LANU 1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D228-0836-49C1-B97B-DCA8045A8A5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7840" y="851040"/>
            <a:ext cx="8962920" cy="5702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2096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Univers"/>
              </a:rPr>
              <a:t>K3-Umwe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5080" y="3517920"/>
            <a:ext cx="8673840" cy="139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648320"/>
            <a:ext cx="1904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Chemis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ließgewässermonito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9720" y="5318280"/>
            <a:ext cx="113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wertungsrah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ließgewäs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8880" y="5927760"/>
            <a:ext cx="112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Gewässergüteka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4734000"/>
            <a:ext cx="16002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endatenb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it Daten z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opographi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orphometri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hysik, Chem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01080" y="1905120"/>
            <a:ext cx="14104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Hydrolog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berflächengewäs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(WISKI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einsch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Niederschlagsmen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8080" y="472428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900" spc="-1" strike="noStrike">
                <a:solidFill>
                  <a:srgbClr val="000000"/>
                </a:solidFill>
                <a:latin typeface="Arial"/>
              </a:rPr>
              <a:t>AlgF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900" spc="-1" strike="noStrike">
                <a:solidFill>
                  <a:srgbClr val="000000"/>
                </a:solidFill>
                <a:latin typeface="Arial"/>
              </a:rPr>
              <a:t>(AlgF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74120" y="5699160"/>
            <a:ext cx="152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Arial"/>
              </a:rPr>
              <a:t>Chemis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Arial"/>
              </a:rPr>
              <a:t>Küstengewässermonito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67640" y="5318280"/>
            <a:ext cx="152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Biologis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Küstengewässermonito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000" y="1828800"/>
            <a:ext cx="112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ndesmessnet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u GW-Stand 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W-Beschaffenhe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438280"/>
            <a:ext cx="1495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treiberdat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u GW-Stand 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W-Beschaffenhei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tnahmestatisti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960" y="1828800"/>
            <a:ext cx="2032200" cy="13716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760" y="1066680"/>
            <a:ext cx="2019240" cy="584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7640" y="1162080"/>
            <a:ext cx="1478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undwas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83560" y="1066680"/>
            <a:ext cx="2019240" cy="5828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22400" y="11430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dr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63840" y="1066680"/>
            <a:ext cx="1955880" cy="584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40480" y="1163520"/>
            <a:ext cx="114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was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4960" y="3809880"/>
            <a:ext cx="2019600" cy="582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3040" y="3924360"/>
            <a:ext cx="1504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eßgewäs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5257800"/>
            <a:ext cx="1904760" cy="5079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960" y="4572000"/>
            <a:ext cx="201960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4724280"/>
            <a:ext cx="1498680" cy="10670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4724280"/>
            <a:ext cx="1828800" cy="4572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654200"/>
            <a:ext cx="0" cy="173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83560" y="1828800"/>
            <a:ext cx="2031840" cy="13716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1440" y="3809880"/>
            <a:ext cx="2019240" cy="582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50240" y="1655640"/>
            <a:ext cx="0" cy="173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76440" y="3809880"/>
            <a:ext cx="2019240" cy="582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83480" y="39225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76440" y="4572000"/>
            <a:ext cx="201924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31200" y="3886200"/>
            <a:ext cx="168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üstengewäs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1440" y="4572000"/>
            <a:ext cx="2019240" cy="17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8600" y="1371600"/>
            <a:ext cx="152640" cy="0"/>
          </a:xfrm>
          <a:prstGeom prst="line">
            <a:avLst/>
          </a:prstGeom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666880" y="2819520"/>
            <a:ext cx="1498680" cy="380520"/>
            <a:chOff x="2666880" y="2819520"/>
            <a:chExt cx="1498680" cy="380520"/>
          </a:xfrm>
        </p:grpSpPr>
        <p:sp>
          <p:nvSpPr>
            <p:cNvPr id="181" name=""/>
            <p:cNvSpPr/>
            <p:nvPr/>
          </p:nvSpPr>
          <p:spPr>
            <a:xfrm>
              <a:off x="3006000" y="2873520"/>
              <a:ext cx="8679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asserbu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66880" y="2819520"/>
              <a:ext cx="1498680" cy="38052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52280" y="914400"/>
            <a:ext cx="4419720" cy="23623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96160" y="3809880"/>
            <a:ext cx="2019240" cy="582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9600" y="3886200"/>
            <a:ext cx="137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derschl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96160" y="4572000"/>
            <a:ext cx="201924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4724280"/>
            <a:ext cx="1498320" cy="91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4724280"/>
            <a:ext cx="1600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iederschlags-datenb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it Niederschlags-beschaffenhe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1905120"/>
            <a:ext cx="2447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GV-S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gitales Anlagenverzeichn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DA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673520" y="1066680"/>
            <a:ext cx="2032200" cy="2133360"/>
            <a:chOff x="4673520" y="1066680"/>
            <a:chExt cx="2032200" cy="2133360"/>
          </a:xfrm>
        </p:grpSpPr>
        <p:sp>
          <p:nvSpPr>
            <p:cNvPr id="191" name=""/>
            <p:cNvSpPr/>
            <p:nvPr/>
          </p:nvSpPr>
          <p:spPr>
            <a:xfrm>
              <a:off x="4673520" y="1066680"/>
              <a:ext cx="2019600" cy="49428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8200" y="1131120"/>
              <a:ext cx="1415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rpholog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73520" y="1713240"/>
              <a:ext cx="2032200" cy="148680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40560" y="1566360"/>
              <a:ext cx="0" cy="146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463840" y="1828800"/>
            <a:ext cx="1955880" cy="8380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1655640"/>
            <a:ext cx="0" cy="173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3048120"/>
            <a:ext cx="380880" cy="0"/>
          </a:xfrm>
          <a:prstGeom prst="line">
            <a:avLst/>
          </a:prstGeom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429000" y="2666880"/>
            <a:ext cx="0" cy="152640"/>
          </a:xfrm>
          <a:prstGeom prst="line">
            <a:avLst/>
          </a:prstGeom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41840" y="1981080"/>
            <a:ext cx="1329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mmdaten 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Überwachungsdaten z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bwassereinleit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4648320"/>
            <a:ext cx="1904760" cy="5079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914400"/>
            <a:ext cx="220968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3276720"/>
            <a:ext cx="220968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781680" y="914400"/>
            <a:ext cx="0" cy="23623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99"/>
                </a:solidFill>
                <a:latin typeface="Arial"/>
              </a:rPr>
              <a:t>Wasserwirtschaftliches FIS (WaF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357720"/>
            <a:ext cx="7020000" cy="3240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836640"/>
            <a:ext cx="2305080" cy="2663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C1E0-4B48-4C29-A745-21824BC907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228600" y="914400"/>
            <a:ext cx="8763120" cy="5605560"/>
            <a:chOff x="228600" y="914400"/>
            <a:chExt cx="8763120" cy="560556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228600" y="936720"/>
              <a:ext cx="593424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248520" y="914400"/>
              <a:ext cx="27432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470 Wasser- und</a:t>
              </a:r>
              <a:br>
                <a:rPr sz="2000"/>
              </a:b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Bodenverbände (WBV)</a:t>
              </a:r>
              <a:br>
                <a:rPr sz="2000"/>
              </a:b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in</a:t>
              </a:r>
              <a:br>
                <a:rPr sz="2000"/>
              </a:b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34 Bearbeitungsge-</a:t>
              </a:r>
              <a:br>
                <a:rPr sz="2000"/>
              </a:b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bietsverbänden (BG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67471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DAV - Beteiligte Verbände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k Görtzen, LANU 1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057F-8D0F-46BD-88FD-63E7BB01055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376200"/>
            <a:ext cx="72723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DAV - Ersterfassung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ser- und Bodenverbände erfassen Anlagen meist analog im Massstab 1:5.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gitale Ersterfassung ab November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 die Bearbeitungsgebietsverbände (BG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tels speziell entwickelter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z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Basis von ArcView und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lieferung der Geobasis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4-fache Auslieferu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 ist nunmehr abgeschlo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k Görtzen, LANU 1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6B20-3D0A-46EB-825E-607309D9C5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71215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DAV für BGV 10 – Obere Eider: Startbildschirm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47960" y="1119240"/>
            <a:ext cx="5095800" cy="52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k Görtzen, LANU 1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AF7CC-815E-434A-A3CD-B5B9891182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487" t="26856" r="22070" b="5127"/>
          <a:stretch/>
        </p:blipFill>
        <p:spPr>
          <a:xfrm>
            <a:off x="247680" y="1020600"/>
            <a:ext cx="7800840" cy="54817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7200" y="382680"/>
            <a:ext cx="67471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99"/>
                </a:solidFill>
                <a:latin typeface="Arial"/>
              </a:rPr>
              <a:t>DAV für BGV 3 – Bongsieler Kanal: Erfassung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1125360"/>
            <a:ext cx="3095640" cy="648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27280" y="1484280"/>
            <a:ext cx="79236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rcRect l="10157" t="9949" r="10157" b="23645"/>
          <a:stretch/>
        </p:blipFill>
        <p:spPr>
          <a:xfrm>
            <a:off x="1187280" y="907920"/>
            <a:ext cx="777240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k Görtzen, LANU 1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6F98C-C10B-467E-A90A-C76469A7E29F}" type="slidenum">
              <a:t>8</a:t>
            </a:fld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9400" y="812880"/>
            <a:ext cx="8932680" cy="5722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2360" y="1568520"/>
            <a:ext cx="8507520" cy="4946760"/>
          </a:xfrm>
          <a:custGeom>
            <a:avLst/>
            <a:gdLst/>
            <a:ahLst/>
            <a:rect l="l" t="t" r="r" b="b"/>
            <a:pathLst>
              <a:path w="5359" h="3116">
                <a:moveTo>
                  <a:pt x="0" y="0"/>
                </a:moveTo>
                <a:lnTo>
                  <a:pt x="0" y="3116"/>
                </a:lnTo>
                <a:lnTo>
                  <a:pt x="4503" y="3113"/>
                </a:lnTo>
                <a:lnTo>
                  <a:pt x="4503" y="1483"/>
                </a:lnTo>
                <a:lnTo>
                  <a:pt x="5347" y="1489"/>
                </a:lnTo>
                <a:lnTo>
                  <a:pt x="5359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1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4840" y="4683240"/>
            <a:ext cx="6527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9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TRIX-Arbeitsbere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42920" y="6531120"/>
            <a:ext cx="8999640" cy="326880"/>
            <a:chOff x="142920" y="6531120"/>
            <a:chExt cx="8999640" cy="326880"/>
          </a:xfrm>
        </p:grpSpPr>
        <p:sp>
          <p:nvSpPr>
            <p:cNvPr id="224" name=""/>
            <p:cNvSpPr/>
            <p:nvPr/>
          </p:nvSpPr>
          <p:spPr>
            <a:xfrm>
              <a:off x="7710480" y="6553080"/>
              <a:ext cx="1432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 Ansicht/Downlo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38560" y="6705720"/>
              <a:ext cx="5094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33840" y="6545160"/>
              <a:ext cx="154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 Lesen /Schreib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00480" y="6713640"/>
              <a:ext cx="419040" cy="0"/>
            </a:xfrm>
            <a:prstGeom prst="line">
              <a:avLst/>
            </a:prstGeom>
            <a:ln w="507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65520" y="6553080"/>
              <a:ext cx="776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 Le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42040" y="6713640"/>
              <a:ext cx="41904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94400" y="6553080"/>
              <a:ext cx="1173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 Schreib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64320" y="6603840"/>
              <a:ext cx="312840" cy="20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bcb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31080" y="6553080"/>
              <a:ext cx="1431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= Citrix-Arbeitsberei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2920" y="6691320"/>
              <a:ext cx="41904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7960" y="6531120"/>
              <a:ext cx="776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 Analo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73960" y="6603840"/>
              <a:ext cx="312840" cy="206640"/>
            </a:xfrm>
            <a:prstGeom prst="rect">
              <a:avLst/>
            </a:prstGeom>
            <a:solidFill>
              <a:srgbClr val="cc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07800" y="876240"/>
            <a:ext cx="7062840" cy="5585040"/>
            <a:chOff x="307800" y="876240"/>
            <a:chExt cx="7062840" cy="5585040"/>
          </a:xfrm>
        </p:grpSpPr>
        <p:sp>
          <p:nvSpPr>
            <p:cNvPr id="237" name=""/>
            <p:cNvSpPr/>
            <p:nvPr/>
          </p:nvSpPr>
          <p:spPr>
            <a:xfrm>
              <a:off x="4184640" y="1114560"/>
              <a:ext cx="10587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..450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07800" y="876240"/>
              <a:ext cx="7062840" cy="5585040"/>
              <a:chOff x="307800" y="876240"/>
              <a:chExt cx="7062840" cy="5585040"/>
            </a:xfrm>
          </p:grpSpPr>
          <p:cxnSp>
            <p:nvCxnSpPr>
              <p:cNvPr id="239" name=""/>
              <p:cNvCxnSpPr>
                <a:stCxn id="240" idx="1"/>
                <a:endCxn id="241" idx="1"/>
              </p:cNvCxnSpPr>
              <p:nvPr/>
            </p:nvCxnSpPr>
            <p:spPr>
              <a:xfrm flipH="1" flipV="1" rot="10800000">
                <a:off x="557280" y="1080720"/>
                <a:ext cx="989280" cy="5122080"/>
              </a:xfrm>
              <a:prstGeom prst="bentConnector3">
                <a:avLst>
                  <a:gd name="adj1" fmla="val -23116"/>
                </a:avLst>
              </a:prstGeom>
              <a:ln w="50760">
                <a:solidFill>
                  <a:srgbClr val="808080"/>
                </a:solidFill>
                <a:miter/>
                <a:tailEnd len="med" type="triangle" w="med"/>
              </a:ln>
            </p:spPr>
          </p:cxnSp>
          <p:sp>
            <p:nvSpPr>
              <p:cNvPr id="240" name=""/>
              <p:cNvSpPr/>
              <p:nvPr/>
            </p:nvSpPr>
            <p:spPr>
              <a:xfrm>
                <a:off x="558720" y="876240"/>
                <a:ext cx="1217520" cy="409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4"/>
                  </a:spcBef>
                  <a:spcAft>
                    <a:spcPts val="2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Wasser- un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224"/>
                  </a:spcBef>
                  <a:spcAft>
                    <a:spcPts val="2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Bodenverbänd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2" name=""/>
              <p:cNvCxnSpPr>
                <a:stCxn id="240" idx="3"/>
                <a:endCxn id="243" idx="1"/>
              </p:cNvCxnSpPr>
              <p:nvPr/>
            </p:nvCxnSpPr>
            <p:spPr>
              <a:xfrm>
                <a:off x="1776240" y="1081080"/>
                <a:ext cx="4377240" cy="10080"/>
              </a:xfrm>
              <a:prstGeom prst="straightConnector1">
                <a:avLst/>
              </a:prstGeom>
              <a:ln w="50760">
                <a:solidFill>
                  <a:srgbClr val="808080"/>
                </a:solidFill>
                <a:miter/>
              </a:ln>
            </p:spPr>
          </p:cxnSp>
          <p:sp>
            <p:nvSpPr>
              <p:cNvPr id="244" name=""/>
              <p:cNvSpPr/>
              <p:nvPr/>
            </p:nvSpPr>
            <p:spPr>
              <a:xfrm>
                <a:off x="2840040" y="5845320"/>
                <a:ext cx="66816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60000"/>
                  </a:lnSpc>
                  <a:spcBef>
                    <a:spcPts val="876"/>
                  </a:spcBef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6200000">
                <a:off x="-695160" y="3385800"/>
                <a:ext cx="224964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99ff"/>
                    </a:solidFill>
                    <a:latin typeface="Arial"/>
                  </a:rPr>
                  <a:t>Schriftlicher ANTRA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153120" y="885960"/>
                <a:ext cx="1217520" cy="40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4"/>
                  </a:spcBef>
                  <a:spcAft>
                    <a:spcPts val="2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Wasser- un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224"/>
                  </a:spcBef>
                  <a:spcAft>
                    <a:spcPts val="2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Bodenverbänd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1547640" y="5911920"/>
                <a:ext cx="1868760" cy="549360"/>
                <a:chOff x="1547640" y="5911920"/>
                <a:chExt cx="1868760" cy="549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547640" y="5911920"/>
                  <a:ext cx="135720" cy="1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547640" y="5943600"/>
                  <a:ext cx="1868760" cy="517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ntere Wasserbehörd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8" name=""/>
          <p:cNvGrpSpPr/>
          <p:nvPr/>
        </p:nvGrpSpPr>
        <p:grpSpPr>
          <a:xfrm>
            <a:off x="528480" y="1263600"/>
            <a:ext cx="6789960" cy="3632400"/>
            <a:chOff x="528480" y="1263600"/>
            <a:chExt cx="6789960" cy="3632400"/>
          </a:xfrm>
        </p:grpSpPr>
        <p:sp>
          <p:nvSpPr>
            <p:cNvPr id="249" name=""/>
            <p:cNvSpPr/>
            <p:nvPr/>
          </p:nvSpPr>
          <p:spPr>
            <a:xfrm>
              <a:off x="947880" y="1314360"/>
              <a:ext cx="7682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3399ff"/>
                  </a:solidFill>
                  <a:latin typeface="Arial"/>
                </a:rPr>
                <a:t>Änderungs-</a:t>
              </a:r>
              <a:br>
                <a:rPr sz="900"/>
              </a:br>
              <a:r>
                <a:rPr b="1" lang="de-DE" sz="900" spc="-1" strike="noStrike">
                  <a:solidFill>
                    <a:srgbClr val="3399ff"/>
                  </a:solidFill>
                  <a:latin typeface="Arial"/>
                </a:rPr>
                <a:t>mitteilu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28480" y="1542960"/>
              <a:ext cx="6789960" cy="3353040"/>
              <a:chOff x="528480" y="1542960"/>
              <a:chExt cx="6789960" cy="3353040"/>
            </a:xfrm>
          </p:grpSpPr>
          <p:sp>
            <p:nvSpPr>
              <p:cNvPr id="251" name=""/>
              <p:cNvSpPr/>
              <p:nvPr/>
            </p:nvSpPr>
            <p:spPr>
              <a:xfrm>
                <a:off x="3467160" y="1920960"/>
                <a:ext cx="105876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5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..34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528480" y="1542960"/>
                <a:ext cx="6789960" cy="3353040"/>
                <a:chOff x="528480" y="1542960"/>
                <a:chExt cx="6789960" cy="335304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1661760" y="2617920"/>
                  <a:ext cx="5656680" cy="2278080"/>
                  <a:chOff x="1661760" y="2617920"/>
                  <a:chExt cx="5656680" cy="227808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1677960" y="2619360"/>
                    <a:ext cx="5630760" cy="2276640"/>
                  </a:xfrm>
                  <a:prstGeom prst="flowChartMagneticDisk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99"/>
                      </a:gs>
                    </a:gsLst>
                    <a:lin ang="5400000"/>
                  </a:gradFill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10000"/>
                      </a:lnSpc>
                      <a:spcBef>
                        <a:spcPts val="451"/>
                      </a:spcBef>
                      <a:spcAft>
                        <a:spcPts val="45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>
                    <a:off x="1661760" y="3981600"/>
                    <a:ext cx="564660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613320" y="4114800"/>
                    <a:ext cx="1355400" cy="487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spcBef>
                        <a:spcPts val="1250"/>
                      </a:spcBef>
                      <a:spcAft>
                        <a:spcPts val="4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mtliche</a:t>
                    </a:r>
                    <a:br>
                      <a:rPr sz="2000"/>
                    </a:b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Date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3367080" y="3516480"/>
                    <a:ext cx="1973160" cy="388440"/>
                    <a:chOff x="3367080" y="3516480"/>
                    <a:chExt cx="1973160" cy="3884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3376440" y="3516480"/>
                      <a:ext cx="152640" cy="128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5187960" y="3525840"/>
                      <a:ext cx="152280" cy="128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3367080" y="3517920"/>
                      <a:ext cx="1967040" cy="387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250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eitsd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1" name=""/>
                  <p:cNvSpPr/>
                  <p:nvPr/>
                </p:nvSpPr>
                <p:spPr>
                  <a:xfrm>
                    <a:off x="1687680" y="2617920"/>
                    <a:ext cx="5630760" cy="725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4680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451"/>
                      </a:spcBef>
                      <a:spcAft>
                        <a:spcPts val="45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ITRIX-Datenserver SH für</a:t>
                    </a:r>
                    <a:br>
                      <a:rPr sz="1800"/>
                    </a:b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DAV-Daten + Geobasisdaten + Fachschal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528480" y="1542960"/>
                  <a:ext cx="2857680" cy="1158840"/>
                  <a:chOff x="528480" y="1542960"/>
                  <a:chExt cx="2857680" cy="115884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974880" y="2217600"/>
                    <a:ext cx="152280" cy="1288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28480" y="1600200"/>
                    <a:ext cx="2857680" cy="1101600"/>
                  </a:xfrm>
                  <a:prstGeom prst="ellipse">
                    <a:avLst/>
                  </a:prstGeom>
                  <a:solidFill>
                    <a:srgbClr val="ffff99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50000"/>
                      </a:lnSpc>
                      <a:spcBef>
                        <a:spcPts val="451"/>
                      </a:spcBef>
                      <a:spcAft>
                        <a:spcPts val="45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63560" y="1940040"/>
                    <a:ext cx="1216080" cy="40932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24"/>
                      </a:spcBef>
                      <a:spcAft>
                        <a:spcPts val="224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900" spc="-1" strike="noStrike">
                        <a:solidFill>
                          <a:srgbClr val="000000"/>
                        </a:solidFill>
                        <a:latin typeface="Arial"/>
                      </a:rPr>
                      <a:t>Bearbeitungs-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spcBef>
                        <a:spcPts val="224"/>
                      </a:spcBef>
                      <a:spcAft>
                        <a:spcPts val="224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bietsverban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66" name=""/>
                  <p:cNvCxnSpPr>
                    <a:stCxn id="265" idx="2"/>
                  </p:cNvCxnSpPr>
                  <p:nvPr/>
                </p:nvCxnSpPr>
                <p:spPr>
                  <a:xfrm flipH="1" rot="16200000">
                    <a:off x="1979280" y="1740960"/>
                    <a:ext cx="2520" cy="1218240"/>
                  </a:xfrm>
                  <a:prstGeom prst="bentConnector3">
                    <a:avLst>
                      <a:gd name="adj1" fmla="val 14400000"/>
                    </a:avLst>
                  </a:prstGeom>
                  <a:ln w="6480">
                    <a:solidFill>
                      <a:srgbClr val="000000"/>
                    </a:solidFill>
                    <a:prstDash val="dash"/>
                    <a:miter/>
                    <a:tailEnd len="med" type="triangle" w="med"/>
                  </a:ln>
                </p:spPr>
              </p:cxnSp>
              <p:sp>
                <p:nvSpPr>
                  <p:cNvPr id="267" name=""/>
                  <p:cNvSpPr/>
                  <p:nvPr/>
                </p:nvSpPr>
                <p:spPr>
                  <a:xfrm>
                    <a:off x="1617840" y="2355840"/>
                    <a:ext cx="793440" cy="19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50000"/>
                      </a:lnSpc>
                      <a:spcBef>
                        <a:spcPts val="561"/>
                      </a:spcBef>
                      <a:spcAft>
                        <a:spcPts val="224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Beauftragung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700280" y="1542960"/>
                    <a:ext cx="79524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50000"/>
                      </a:lnSpc>
                      <a:spcBef>
                        <a:spcPts val="751"/>
                      </a:spcBef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AV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75040" y="1851120"/>
                    <a:ext cx="28080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50000"/>
                      </a:lnSpc>
                      <a:spcBef>
                        <a:spcPts val="1250"/>
                      </a:spcBef>
                      <a:spcAft>
                        <a:spcPts val="4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981080" y="1940040"/>
                    <a:ext cx="1216080" cy="409320"/>
                  </a:xfrm>
                  <a:prstGeom prst="rect">
                    <a:avLst/>
                  </a:prstGeom>
                  <a:solidFill>
                    <a:srgbClr val="ffcc99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90000"/>
                      </a:lnSpc>
                      <a:spcBef>
                        <a:spcPts val="224"/>
                      </a:spcBef>
                      <a:spcAft>
                        <a:spcPts val="224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Datenpfleg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spcBef>
                        <a:spcPts val="224"/>
                      </a:spcBef>
                      <a:spcAft>
                        <a:spcPts val="224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271" name=""/>
                <p:cNvCxnSpPr>
                  <a:stCxn id="263" idx="2"/>
                  <a:endCxn id="258" idx="1"/>
                </p:cNvCxnSpPr>
                <p:nvPr/>
              </p:nvCxnSpPr>
              <p:spPr>
                <a:xfrm flipH="1" rot="16200000">
                  <a:off x="1596240" y="1800720"/>
                  <a:ext cx="1235520" cy="2326320"/>
                </a:xfrm>
                <a:prstGeom prst="bentConnector2">
                  <a:avLst/>
                </a:prstGeom>
                <a:ln w="507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sp>
              <p:nvSpPr>
                <p:cNvPr id="272" name=""/>
                <p:cNvSpPr/>
                <p:nvPr/>
              </p:nvSpPr>
              <p:spPr>
                <a:xfrm>
                  <a:off x="863640" y="2822400"/>
                  <a:ext cx="5335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spcAft>
                      <a:spcPts val="24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6699ff"/>
                      </a:solidFill>
                      <a:latin typeface="Arial"/>
                    </a:rPr>
                    <a:t>Pfle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3" name=""/>
            <p:cNvSpPr/>
            <p:nvPr/>
          </p:nvSpPr>
          <p:spPr>
            <a:xfrm>
              <a:off x="711360" y="1263600"/>
              <a:ext cx="423720" cy="6732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789120" y="3711600"/>
            <a:ext cx="2577960" cy="2284920"/>
            <a:chOff x="789120" y="3711600"/>
            <a:chExt cx="2577960" cy="2284920"/>
          </a:xfrm>
        </p:grpSpPr>
        <p:cxnSp>
          <p:nvCxnSpPr>
            <p:cNvPr id="275" name=""/>
            <p:cNvCxnSpPr/>
            <p:nvPr/>
          </p:nvCxnSpPr>
          <p:spPr>
            <a:xfrm flipV="1" rot="10800000">
              <a:off x="1546920" y="3711240"/>
              <a:ext cx="1820160" cy="2285280"/>
            </a:xfrm>
            <a:prstGeom prst="bentConnector3">
              <a:avLst>
                <a:gd name="adj1" fmla="val 127121"/>
              </a:avLst>
            </a:prstGeom>
            <a:ln w="50760">
              <a:solidFill>
                <a:srgbClr val="99cc00"/>
              </a:solidFill>
              <a:miter/>
              <a:tailEnd len="med" type="triangle" w="med"/>
            </a:ln>
          </p:spPr>
        </p:cxnSp>
        <p:sp>
          <p:nvSpPr>
            <p:cNvPr id="276" name=""/>
            <p:cNvSpPr/>
            <p:nvPr/>
          </p:nvSpPr>
          <p:spPr>
            <a:xfrm>
              <a:off x="789120" y="4641840"/>
              <a:ext cx="1046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ff"/>
                  </a:solidFill>
                  <a:latin typeface="Arial"/>
                </a:rPr>
                <a:t>Wasserrechtliche</a:t>
              </a:r>
              <a:br>
                <a:rPr sz="1000"/>
              </a:br>
              <a:r>
                <a:rPr b="1" lang="en-US" sz="1000" spc="-1" strike="noStrike">
                  <a:solidFill>
                    <a:srgbClr val="6699ff"/>
                  </a:solidFill>
                  <a:latin typeface="Arial"/>
                </a:rPr>
                <a:t>Prüf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044800" y="4442400"/>
            <a:ext cx="1568520" cy="1500480"/>
            <a:chOff x="2044800" y="4442400"/>
            <a:chExt cx="1568520" cy="1500480"/>
          </a:xfrm>
        </p:grpSpPr>
        <p:cxnSp>
          <p:nvCxnSpPr>
            <p:cNvPr id="278" name=""/>
            <p:cNvCxnSpPr/>
            <p:nvPr/>
          </p:nvCxnSpPr>
          <p:spPr>
            <a:xfrm flipV="1" rot="10800000">
              <a:off x="2707560" y="4442400"/>
              <a:ext cx="905760" cy="1500840"/>
            </a:xfrm>
            <a:prstGeom prst="bentConnector2">
              <a:avLst/>
            </a:prstGeom>
            <a:ln w="50760">
              <a:solidFill>
                <a:srgbClr val="ff9900"/>
              </a:solidFill>
              <a:miter/>
              <a:headEnd len="med" type="triangle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2044800" y="5226120"/>
              <a:ext cx="1091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ff"/>
                  </a:solidFill>
                  <a:latin typeface="Arial"/>
                </a:rPr>
                <a:t>Wasserrechtliche</a:t>
              </a:r>
              <a:br>
                <a:rPr sz="1000"/>
              </a:br>
              <a:r>
                <a:rPr b="1" lang="en-US" sz="1000" spc="-1" strike="noStrike">
                  <a:solidFill>
                    <a:srgbClr val="6699ff"/>
                  </a:solidFill>
                  <a:latin typeface="Arial"/>
                </a:rPr>
                <a:t>Genehmigung</a:t>
              </a:r>
              <a:br>
                <a:rPr sz="1000"/>
              </a:br>
              <a:r>
                <a:rPr b="1" lang="en-US" sz="1000" spc="-1" strike="noStrike">
                  <a:solidFill>
                    <a:srgbClr val="6699ff"/>
                  </a:solidFill>
                  <a:latin typeface="Arial"/>
                </a:rPr>
                <a:t>(Digitale Signatu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968720" y="4443120"/>
            <a:ext cx="2391120" cy="1500480"/>
            <a:chOff x="4968720" y="4443120"/>
            <a:chExt cx="2391120" cy="1500480"/>
          </a:xfrm>
        </p:grpSpPr>
        <p:cxnSp>
          <p:nvCxnSpPr>
            <p:cNvPr id="281" name=""/>
            <p:cNvCxnSpPr>
              <a:endCxn id="282" idx="0"/>
            </p:cNvCxnSpPr>
            <p:nvPr/>
          </p:nvCxnSpPr>
          <p:spPr>
            <a:xfrm>
              <a:off x="4968720" y="4443120"/>
              <a:ext cx="1842480" cy="1500840"/>
            </a:xfrm>
            <a:prstGeom prst="bentConnector2">
              <a:avLst/>
            </a:prstGeom>
            <a:ln w="50760">
              <a:solidFill>
                <a:srgbClr val="ff9900"/>
              </a:solidFill>
              <a:miter/>
              <a:headEnd len="med" type="triangle" w="med"/>
            </a:ln>
          </p:spPr>
        </p:cxnSp>
        <p:sp>
          <p:nvSpPr>
            <p:cNvPr id="283" name=""/>
            <p:cNvSpPr/>
            <p:nvPr/>
          </p:nvSpPr>
          <p:spPr>
            <a:xfrm>
              <a:off x="6210000" y="5491080"/>
              <a:ext cx="1149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ff"/>
                  </a:solidFill>
                  <a:latin typeface="Arial"/>
                </a:rPr>
                <a:t>Zusammenführ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334120" y="3711240"/>
            <a:ext cx="2349000" cy="2750040"/>
            <a:chOff x="5334120" y="3711240"/>
            <a:chExt cx="2349000" cy="2750040"/>
          </a:xfrm>
        </p:grpSpPr>
        <p:sp>
          <p:nvSpPr>
            <p:cNvPr id="282" name=""/>
            <p:cNvSpPr/>
            <p:nvPr/>
          </p:nvSpPr>
          <p:spPr>
            <a:xfrm>
              <a:off x="6440400" y="5943600"/>
              <a:ext cx="7398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N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/>
            <p:nvPr/>
          </p:nvCxnSpPr>
          <p:spPr>
            <a:xfrm>
              <a:off x="5334120" y="3711240"/>
              <a:ext cx="1846800" cy="2491560"/>
            </a:xfrm>
            <a:prstGeom prst="bentConnector3">
              <a:avLst>
                <a:gd name="adj1" fmla="val 117449"/>
              </a:avLst>
            </a:prstGeom>
            <a:ln w="50760">
              <a:solidFill>
                <a:srgbClr val="99cc00"/>
              </a:solidFill>
              <a:miter/>
              <a:tailEnd len="med" type="triangle" w="med"/>
            </a:ln>
          </p:spPr>
        </p:cxnSp>
        <p:sp>
          <p:nvSpPr>
            <p:cNvPr id="286" name=""/>
            <p:cNvSpPr/>
            <p:nvPr/>
          </p:nvSpPr>
          <p:spPr>
            <a:xfrm>
              <a:off x="7196400" y="4680000"/>
              <a:ext cx="486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ff"/>
                  </a:solidFill>
                  <a:latin typeface="Arial"/>
                </a:rPr>
                <a:t>GIS-</a:t>
              </a:r>
              <a:br>
                <a:rPr sz="1000"/>
              </a:br>
              <a:r>
                <a:rPr b="1" lang="en-US" sz="1000" spc="-1" strike="noStrike">
                  <a:solidFill>
                    <a:srgbClr val="6699ff"/>
                  </a:solidFill>
                  <a:latin typeface="Arial"/>
                </a:rPr>
                <a:t>Prüf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937040" y="3911760"/>
            <a:ext cx="4083120" cy="2579040"/>
            <a:chOff x="4937040" y="3911760"/>
            <a:chExt cx="4083120" cy="2579040"/>
          </a:xfrm>
        </p:grpSpPr>
        <p:grpSp>
          <p:nvGrpSpPr>
            <p:cNvPr id="288" name=""/>
            <p:cNvGrpSpPr/>
            <p:nvPr/>
          </p:nvGrpSpPr>
          <p:grpSpPr>
            <a:xfrm>
              <a:off x="4937040" y="3970080"/>
              <a:ext cx="4083120" cy="2520720"/>
              <a:chOff x="4937040" y="3970080"/>
              <a:chExt cx="4083120" cy="2520720"/>
            </a:xfrm>
          </p:grpSpPr>
          <p:sp>
            <p:nvSpPr>
              <p:cNvPr id="289" name=""/>
              <p:cNvSpPr/>
              <p:nvPr/>
            </p:nvSpPr>
            <p:spPr>
              <a:xfrm>
                <a:off x="7726320" y="3970080"/>
                <a:ext cx="1293840" cy="252072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10520" y="4128480"/>
                <a:ext cx="709560" cy="193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50000"/>
                  </a:lnSpc>
                  <a:spcBef>
                    <a:spcPts val="349"/>
                  </a:spcBef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LUR,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WBV,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937040" y="4239720"/>
                <a:ext cx="3276720" cy="0"/>
              </a:xfrm>
              <a:prstGeom prst="line">
                <a:avLst/>
              </a:prstGeom>
              <a:ln w="76320">
                <a:solidFill>
                  <a:srgbClr val="99cc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29200" y="3911760"/>
              <a:ext cx="1854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Schnittstelle Agrar- und Umweltatl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8920" y="376200"/>
            <a:ext cx="72723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DAV – Datenpflege – zukünftig zentral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k Görtzen, LANU 1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005F1-0ECD-4FC2-A7FC-C2F7E44E84DF}" type="slidenum">
              <a:t>9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14:03:24Z</dcterms:created>
  <dc:creator>mschmidt</dc:creator>
  <dc:description/>
  <dc:language>en-US</dc:language>
  <cp:lastModifiedBy>LeihPc8220</cp:lastModifiedBy>
  <cp:lastPrinted>1999-02-05T08:47:49Z</cp:lastPrinted>
  <dcterms:modified xsi:type="dcterms:W3CDTF">2007-05-21T07:49:35Z</dcterms:modified>
  <cp:revision>357</cp:revision>
  <dc:subject/>
  <dc:title>Kein Folientitel</dc:title>
</cp:coreProperties>
</file>