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9BC3-2986-4948-A474-1A074F23B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690360"/>
            <a:ext cx="77724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6EEE-8BD9-4232-A7A2-5EB4941A9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69036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69036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9F72-61D9-4872-82CB-E3B7A5ADE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06020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06020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69036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69036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69036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EA06-B645-401C-A180-33AC2426B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5AD8-894E-4DD4-8C5C-3BDAA1237C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8045-9791-49CB-BF42-CBBCEC8449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1138-E5B1-4375-A9A2-DD248FF9AB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37926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0200"/>
            <a:ext cx="37926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4028-1A2B-454C-A2E2-C074DA1DD9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6971-3832-4D35-A053-90600B46AA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31640" y="259920"/>
            <a:ext cx="707076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5E87-031B-445F-8561-21D2EB7BE7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0200"/>
            <a:ext cx="37926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9036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4CDA-7062-4542-935F-B861254867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AC33-F915-469E-9DEB-E785326A1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37926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69036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B49C-738A-4C0B-8427-486B7F8E92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690360"/>
            <a:ext cx="77724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377D-5168-4EA0-B931-EB62545337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690360"/>
            <a:ext cx="77724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A17A-199E-4377-A698-677F934118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69036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69036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B37A-667C-46A8-AE4B-0FAD43792E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020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020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69036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69036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690360"/>
            <a:ext cx="25023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577A-089E-4AF7-A5DB-EC4EB400E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DA18-7355-4716-B8D1-26E124B4F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37926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0200"/>
            <a:ext cx="37926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C40A-044E-46BC-A5F8-10041863D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3A31-BC1D-414A-A8EF-E70DF24A9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31640" y="259920"/>
            <a:ext cx="707076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D9AE-C8BF-47D5-88F9-E8076E9C9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0200"/>
            <a:ext cx="37926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9036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3559-1ADA-48B3-AFA4-B48127500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37926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69036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9369-FC65-4616-AB82-74921599D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1640" y="249120"/>
            <a:ext cx="7070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060200"/>
            <a:ext cx="37926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90360"/>
            <a:ext cx="777240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66A3-32EB-45B8-A7E4-8EFA1AA19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b1aa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385b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53280" y="6248520"/>
            <a:ext cx="457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C25B-8F06-465F-89E2-145B915782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6453360"/>
            <a:ext cx="9144000" cy="233280"/>
            <a:chOff x="0" y="6453360"/>
            <a:chExt cx="9144000" cy="233280"/>
          </a:xfrm>
        </p:grpSpPr>
        <p:sp>
          <p:nvSpPr>
            <p:cNvPr id="4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12600">
              <a:solidFill>
                <a:srgbClr val="438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240" y="6575400"/>
              <a:ext cx="9083520" cy="3240"/>
            </a:xfrm>
            <a:prstGeom prst="line">
              <a:avLst/>
            </a:prstGeom>
            <a:ln w="114480">
              <a:solidFill>
                <a:srgbClr val="438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86640"/>
              <a:ext cx="9144000" cy="0"/>
            </a:xfrm>
            <a:prstGeom prst="line">
              <a:avLst/>
            </a:prstGeom>
            <a:ln w="12600">
              <a:solidFill>
                <a:srgbClr val="438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79280" y="290520"/>
            <a:ext cx="1152720" cy="48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462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NOKIS@AK Umweltdatenbanken 21.+22. Mai 2007 Ham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172360" y="189000"/>
            <a:ext cx="719280" cy="6127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7377120" y="260280"/>
            <a:ext cx="939960" cy="3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b1a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A540-13C8-44BE-BD96-24B6D097F2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6453360"/>
            <a:ext cx="9144000" cy="233280"/>
            <a:chOff x="0" y="6453360"/>
            <a:chExt cx="9144000" cy="233280"/>
          </a:xfrm>
        </p:grpSpPr>
        <p:sp>
          <p:nvSpPr>
            <p:cNvPr id="50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12600">
              <a:solidFill>
                <a:srgbClr val="438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240" y="6575400"/>
              <a:ext cx="9083520" cy="3240"/>
            </a:xfrm>
            <a:prstGeom prst="line">
              <a:avLst/>
            </a:prstGeom>
            <a:ln w="114480">
              <a:solidFill>
                <a:srgbClr val="438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686640"/>
              <a:ext cx="9144000" cy="0"/>
            </a:xfrm>
            <a:prstGeom prst="line">
              <a:avLst/>
            </a:prstGeom>
            <a:ln w="12600">
              <a:solidFill>
                <a:srgbClr val="438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290520"/>
            <a:ext cx="1152720" cy="484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62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NOKIS@AK Umweltdatenbanken 21.+22. Mai 2007 Ham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72360" y="189000"/>
            <a:ext cx="719280" cy="61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7377120" y="246240"/>
            <a:ext cx="866880" cy="303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4385b5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5b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4385b5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5b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4385b5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5b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5b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5b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5b5"/>
                </a:solidFill>
                <a:latin typeface="Verdana"/>
              </a:rPr>
              <a:t>NOKIS</a:t>
            </a:r>
            <a:br>
              <a:rPr sz="3200"/>
            </a:br>
            <a:r>
              <a:rPr b="1" lang="en-US" sz="2400" spc="-1" strike="noStrike">
                <a:solidFill>
                  <a:srgbClr val="4385b5"/>
                </a:solidFill>
                <a:latin typeface="Verdana"/>
              </a:rPr>
              <a:t>Stand des Projekts</a:t>
            </a: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bc5ab"/>
                </a:solidFill>
                <a:latin typeface="Verdana"/>
              </a:rPr>
              <a:t>Carsten Heidmann (BAW)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bc5ab"/>
                </a:solidFill>
                <a:latin typeface="Verdana"/>
              </a:rPr>
              <a:t>Wassili Kazakos (disy)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b1aa"/>
                </a:solidFill>
                <a:latin typeface="Verdana"/>
              </a:rPr>
              <a:t>Technik</a:t>
            </a: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Technische Plattform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Java, XML, XSLT, Apache Tomcat, Spring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Oracle und PostgreSQL als freies Datenbanksystem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Andere DBMS möglich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Abstraktion über HyperJAXB (Hibernate und JAXB)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Beliebiger WMS-fähiger Mapserver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UMN, geoserver, disy GISterm, etc.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View-Komponente: JSF, Community Map Builder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Keine speziellen technischen Anforderungen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Server: Standard-PC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Client: Netzzugang, Browser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b1aa"/>
                </a:solidFill>
                <a:latin typeface="Verdana"/>
              </a:rPr>
              <a:t>Gazetteer</a:t>
            </a:r>
            <a:endParaRPr b="1" lang="en-US" sz="20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Erfassungsstand:</a:t>
            </a:r>
            <a:br>
              <a:rPr sz="2400"/>
            </a:b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ATKIS im Küstenbereich: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komplett</a:t>
            </a:r>
            <a:br>
              <a:rPr sz="2400"/>
            </a:b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Referenzraum Rügen: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komplett</a:t>
            </a:r>
            <a:br>
              <a:rPr sz="2400"/>
            </a:b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Referenzraum Nordfriesland: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komplett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Technik:</a:t>
            </a:r>
            <a:br>
              <a:rPr sz="2400"/>
            </a:b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nicht mehr ADL-Gazetteer</a:t>
            </a:r>
            <a:br>
              <a:rPr sz="2400"/>
            </a:b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stattdessen: WFS-G mit deegree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Kooperation:</a:t>
            </a:r>
            <a:br>
              <a:rPr sz="2400"/>
            </a:br>
            <a:r>
              <a:rPr b="0" lang="en-US" sz="2400" spc="-1" strike="noStrike">
                <a:solidFill>
                  <a:srgbClr val="4385b5"/>
                </a:solidFill>
                <a:latin typeface="Verdana"/>
              </a:rPr>
              <a:t>mit dem BKG für den BKG-Gazetteer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b1aa"/>
                </a:solidFill>
                <a:latin typeface="Verdana"/>
              </a:rPr>
              <a:t>Implementierung von NOKIS in Produktionsumgebung</a:t>
            </a:r>
            <a:endParaRPr b="1" lang="en-US" sz="20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NOKIS2 seit April 2007 im BSH implementiert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Teil der GDI.BSH in einer heterogener Umgebung 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Anbindung des BSH weiterhin über NOKIS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b1aa"/>
                </a:solidFill>
                <a:latin typeface="Verdana"/>
              </a:rPr>
              <a:t>Einbindung in die GDI.DE</a:t>
            </a:r>
            <a:endParaRPr b="1" lang="en-US" sz="20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Mitarbeit im AK Metadaten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Initiierung der Arbeitsgruppe zur Übersetzung der ISO 19115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Anbindung an Geoportal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5b5"/>
                </a:solidFill>
                <a:latin typeface="Verdana"/>
              </a:rPr>
              <a:t>Alt: GIStec-Schnittstelle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5b5"/>
                </a:solidFill>
                <a:latin typeface="Verdana"/>
              </a:rPr>
              <a:t>Neu: eigene CSW-Schnittstelle mit DE-Profil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b1aa"/>
                </a:solidFill>
                <a:latin typeface="Verdana"/>
              </a:rPr>
              <a:t>Zusammenarbeit mit PortalU</a:t>
            </a:r>
            <a:endParaRPr b="1" lang="en-US" sz="20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UDK-Export (semantisches XML) bereits in NOKIS1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Anbindung über CSW/DE-Profil geplant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Konfiguration eines DSC oder alternativ Implementierung der DSC-Schnittstelle im Anschluss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b1aa"/>
                </a:solidFill>
                <a:latin typeface="Verdana"/>
              </a:rPr>
              <a:t>Ausblick</a:t>
            </a:r>
            <a:endParaRPr b="1" lang="en-US" sz="20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Ausbau der Infrastruktur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National und Internationale Zusammenarbeit ausbauen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UDK, IMAGI, KFKI, etc. 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FLOODsite, ORCHESTRA, etc.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Weiterhin enge Einbeziehung der Nutzer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verstärkte Präsentation auf der NOKIS-Website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www.nokis.org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2565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385b5"/>
                </a:solidFill>
                <a:latin typeface="Verdana"/>
              </a:rPr>
              <a:t>Carsten Heidmann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385b5"/>
                </a:solidFill>
                <a:latin typeface="Verdana"/>
              </a:rPr>
              <a:t>carsten.heidmann@baw.de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385b5"/>
                </a:solidFill>
                <a:latin typeface="Verdana"/>
              </a:rPr>
              <a:t>Wassili Kazakos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385b5"/>
                </a:solidFill>
                <a:latin typeface="Verdana"/>
              </a:rPr>
              <a:t>kazakos@disy.net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b1aa"/>
                </a:solidFill>
                <a:latin typeface="Verdana"/>
              </a:rPr>
              <a:t>Überblick</a:t>
            </a:r>
            <a:endParaRPr b="1" lang="en-US" sz="20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1700280"/>
            <a:ext cx="69105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Das Projekt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Gazetteer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Einbettung in GDI-DE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Zusammenarbeit mit PortalU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Ausblick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5400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b1aa"/>
                </a:solidFill>
                <a:latin typeface="Verdana"/>
              </a:rPr>
              <a:t>Projektinformation - NOKIS</a:t>
            </a: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0160" y="1103400"/>
            <a:ext cx="3651120" cy="3477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51280" y="981000"/>
            <a:ext cx="50943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Aft>
                <a:spcPts val="1049"/>
              </a:spcAft>
              <a:buClr>
                <a:srgbClr val="438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5b5"/>
                </a:solidFill>
                <a:latin typeface="Arial"/>
              </a:rPr>
              <a:t>Laufzeit 2001 –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049"/>
              </a:spcAft>
              <a:buClr>
                <a:srgbClr val="438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5b5"/>
                </a:solidFill>
                <a:latin typeface="Arial"/>
              </a:rPr>
              <a:t>6 Partner von Landes- und Bundesbehö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049"/>
              </a:spcAft>
              <a:buClr>
                <a:srgbClr val="438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5b5"/>
                </a:solidFill>
                <a:latin typeface="Arial"/>
              </a:rPr>
              <a:t>(Meta-) Daten zu Schifffahrt, Umweltmonitoring und numerischer Modell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049"/>
              </a:spcAft>
              <a:buClr>
                <a:srgbClr val="438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5b5"/>
                </a:solidFill>
                <a:latin typeface="Arial"/>
              </a:rPr>
              <a:t>GIS, Zeitreihen, Projekt-informationen, Vermessungs- und Fernerkundungsd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640" y="47912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85b5"/>
                </a:solidFill>
                <a:latin typeface="Verdana"/>
              </a:rPr>
              <a:t>nokis.hosted-by-kfki.baw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9600" y="572940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5b5"/>
                </a:solidFill>
                <a:latin typeface="Arial"/>
              </a:rPr>
              <a:t>Ziel:</a:t>
            </a:r>
            <a:r>
              <a:rPr b="0" lang="en-US" sz="2800" spc="-1" strike="noStrike">
                <a:solidFill>
                  <a:srgbClr val="4385b5"/>
                </a:solidFill>
                <a:latin typeface="Arial"/>
              </a:rPr>
              <a:t> Implementierung einer Metadateninfra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173240"/>
            <a:ext cx="3672000" cy="3479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5080" y="259920"/>
            <a:ext cx="60465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b1aa"/>
                </a:solidFill>
                <a:latin typeface="Verdana"/>
              </a:rPr>
              <a:t>Projektinformation – NOKIS++</a:t>
            </a: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981000"/>
            <a:ext cx="511164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Aft>
                <a:spcPts val="1049"/>
              </a:spcAft>
              <a:buClr>
                <a:srgbClr val="438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5b5"/>
                </a:solidFill>
                <a:latin typeface="Arial"/>
              </a:rPr>
              <a:t>Laufzeit 2004 –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049"/>
              </a:spcAft>
              <a:buClr>
                <a:srgbClr val="438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5b5"/>
                </a:solidFill>
                <a:latin typeface="Arial"/>
              </a:rPr>
              <a:t>&gt; 10 Partner von Landes- und Bundesbehörden sowie Forschungseinrich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049"/>
              </a:spcAft>
              <a:buClr>
                <a:srgbClr val="438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5b5"/>
                </a:solidFill>
                <a:latin typeface="Arial"/>
              </a:rPr>
              <a:t>Fokus Interoperabilität durch (Web-)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049"/>
              </a:spcAft>
              <a:buClr>
                <a:srgbClr val="438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5b5"/>
                </a:solidFill>
                <a:latin typeface="Arial"/>
              </a:rPr>
              <a:t>Kombinieren verschiedener  (Meta-) Datenqu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049"/>
              </a:spcAft>
              <a:buClr>
                <a:srgbClr val="438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5b5"/>
                </a:solidFill>
                <a:latin typeface="Arial"/>
              </a:rPr>
              <a:t>Framework für WRRL und Vermessungspla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69400" y="47912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85b5"/>
                </a:solidFill>
                <a:latin typeface="Verdana"/>
              </a:rPr>
              <a:t>www.noki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b1aa"/>
                </a:solidFill>
                <a:latin typeface="Verdana"/>
              </a:rPr>
              <a:t>Basisfunktionalität</a:t>
            </a:r>
            <a:endParaRPr b="1" lang="en-US" sz="24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HTML-basierte Benutzeroberfläche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Umfangreiche Suchfunktionalität 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Einfache und Expertensuche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Vollständiger Editor 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Vorlagenverwaltung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Schnellübersicht, Zwischenspeicherung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Freigaben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Verwaltung von Daten und Nutzerberechtigungen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Datenbank-gestützt und Datenbank-unabhängig 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Kontextsensitives Hilfesystem 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Mehrsprachig 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5b5"/>
                </a:solidFill>
                <a:latin typeface="Verdana"/>
              </a:rPr>
              <a:t>Deutsch, Englisch, weitere Sprachen einfach einzubinden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13480" y="765000"/>
            <a:ext cx="244152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b1aa"/>
                </a:solidFill>
                <a:latin typeface="Verdana"/>
              </a:rPr>
              <a:t>Interaktive Benutzeroberfläche (I)</a:t>
            </a:r>
            <a:endParaRPr b="1" lang="en-US" sz="2000" spc="-1" strike="noStrike">
              <a:solidFill>
                <a:srgbClr val="b0b1aa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84360" y="2087640"/>
            <a:ext cx="6383520" cy="4103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1052640"/>
            <a:ext cx="1746360" cy="623880"/>
          </a:xfrm>
          <a:prstGeom prst="wedgeRoundRectCallout">
            <a:avLst>
              <a:gd name="adj1" fmla="val -80365"/>
              <a:gd name="adj2" fmla="val 209032"/>
              <a:gd name="adj3" fmla="val 16667"/>
            </a:avLst>
          </a:prstGeom>
          <a:solidFill>
            <a:srgbClr val="e9e6db"/>
          </a:solidFill>
          <a:ln w="9360">
            <a:solidFill>
              <a:srgbClr val="438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385b5"/>
                </a:solidFill>
                <a:latin typeface="Arial"/>
              </a:rPr>
              <a:t>Windows-ähnliches Men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916280"/>
            <a:ext cx="2021040" cy="720720"/>
          </a:xfrm>
          <a:prstGeom prst="wedgeRoundRectCallout">
            <a:avLst>
              <a:gd name="adj1" fmla="val 77101"/>
              <a:gd name="adj2" fmla="val 57046"/>
              <a:gd name="adj3" fmla="val 16667"/>
            </a:avLst>
          </a:prstGeom>
          <a:solidFill>
            <a:srgbClr val="e9e6db"/>
          </a:solidFill>
          <a:ln w="9360">
            <a:solidFill>
              <a:srgbClr val="438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385b5"/>
                </a:solidFill>
                <a:latin typeface="Arial"/>
              </a:rPr>
              <a:t>Parallele Bearbeitung mehrerer MD-Sä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1052640"/>
            <a:ext cx="2468520" cy="830160"/>
          </a:xfrm>
          <a:prstGeom prst="wedgeRoundRectCallout">
            <a:avLst>
              <a:gd name="adj1" fmla="val -6203"/>
              <a:gd name="adj2" fmla="val 141393"/>
              <a:gd name="adj3" fmla="val 16667"/>
            </a:avLst>
          </a:prstGeom>
          <a:solidFill>
            <a:srgbClr val="e9e6db"/>
          </a:solidFill>
          <a:ln w="9360">
            <a:solidFill>
              <a:srgbClr val="438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385b5"/>
                </a:solidFill>
                <a:latin typeface="Arial"/>
              </a:rPr>
              <a:t>Separate Administration von MD-Profilen (ISO 19115, Adress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981000"/>
            <a:ext cx="1797120" cy="960480"/>
          </a:xfrm>
          <a:prstGeom prst="wedgeRoundRectCallout">
            <a:avLst>
              <a:gd name="adj1" fmla="val -7069"/>
              <a:gd name="adj2" fmla="val 110990"/>
              <a:gd name="adj3" fmla="val 16667"/>
            </a:avLst>
          </a:prstGeom>
          <a:solidFill>
            <a:srgbClr val="e9e6db"/>
          </a:solidFill>
          <a:ln w="9360">
            <a:solidFill>
              <a:srgbClr val="438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385b5"/>
                </a:solidFill>
                <a:latin typeface="Arial"/>
              </a:rPr>
              <a:t>Volltext-Suche. Vorwärts- und Rückwärts-Butt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284640"/>
            <a:ext cx="2049480" cy="777600"/>
          </a:xfrm>
          <a:prstGeom prst="wedgeRoundRectCallout">
            <a:avLst>
              <a:gd name="adj1" fmla="val 61384"/>
              <a:gd name="adj2" fmla="val -60611"/>
              <a:gd name="adj3" fmla="val 16667"/>
            </a:avLst>
          </a:prstGeom>
          <a:solidFill>
            <a:srgbClr val="e9e6db"/>
          </a:solidFill>
          <a:ln w="9360">
            <a:solidFill>
              <a:srgbClr val="438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385b5"/>
                </a:solidFill>
                <a:latin typeface="Arial"/>
              </a:rPr>
              <a:t>Übersichtliche Darstellung der MD-Strukt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56360" y="5300640"/>
            <a:ext cx="2286000" cy="941400"/>
          </a:xfrm>
          <a:prstGeom prst="wedgeRoundRectCallout">
            <a:avLst>
              <a:gd name="adj1" fmla="val -36041"/>
              <a:gd name="adj2" fmla="val -148481"/>
              <a:gd name="adj3" fmla="val 16667"/>
            </a:avLst>
          </a:prstGeom>
          <a:solidFill>
            <a:srgbClr val="e9e6db"/>
          </a:solidFill>
          <a:ln w="9360">
            <a:solidFill>
              <a:srgbClr val="438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385b5"/>
                </a:solidFill>
                <a:latin typeface="Arial"/>
              </a:rPr>
              <a:t>Kalender, Reiter und andere Oberflächen- ele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000" y="4653000"/>
            <a:ext cx="2279520" cy="565200"/>
          </a:xfrm>
          <a:prstGeom prst="wedgeRoundRectCallout">
            <a:avLst>
              <a:gd name="adj1" fmla="val 66296"/>
              <a:gd name="adj2" fmla="val -75842"/>
              <a:gd name="adj3" fmla="val 16667"/>
            </a:avLst>
          </a:prstGeom>
          <a:solidFill>
            <a:srgbClr val="e9e6db"/>
          </a:solidFill>
          <a:ln w="9360">
            <a:solidFill>
              <a:srgbClr val="438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385b5"/>
                </a:solidFill>
                <a:latin typeface="Arial"/>
              </a:rPr>
              <a:t>Validierung während der Eing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b1aa"/>
                </a:solidFill>
                <a:latin typeface="Verdana"/>
              </a:rPr>
              <a:t>Suche</a:t>
            </a:r>
            <a:endParaRPr b="1" lang="en-US" sz="2000" spc="-1" strike="noStrike">
              <a:solidFill>
                <a:srgbClr val="b0b1a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7129440" cy="24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76579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b1aa"/>
                </a:solidFill>
                <a:latin typeface="Verdana"/>
              </a:rPr>
              <a:t>Weitere Funktionen</a:t>
            </a:r>
            <a:endParaRPr b="1" lang="en-US" sz="20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CS-W-Schnittstelle für Anbindung an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Geoportal.Bund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PortalU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andere NOKIS-Knoten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Anzeige der Layer in Map Viewer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Über WMS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385b5"/>
                </a:solidFill>
                <a:latin typeface="Verdana"/>
              </a:rPr>
              <a:t>Wenn MD-Dienst angegeben wurde</a:t>
            </a:r>
            <a:endParaRPr b="0" lang="en-US" sz="20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Koordinatenauswahl und –transformation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385b5"/>
                </a:solidFill>
                <a:latin typeface="Verdana"/>
              </a:rPr>
              <a:t>Benutzerverwaltung</a:t>
            </a:r>
            <a:endParaRPr b="0" lang="en-US" sz="24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070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b1aa"/>
                </a:solidFill>
                <a:latin typeface="Verdana"/>
              </a:rPr>
              <a:t>Weiterentwicklung</a:t>
            </a:r>
            <a:endParaRPr b="1" lang="en-US" sz="2000" spc="-1" strike="noStrike">
              <a:solidFill>
                <a:srgbClr val="b0b1a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6020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385b5"/>
                </a:solidFill>
                <a:latin typeface="Verdana"/>
              </a:rPr>
              <a:t>Weitere Verbesserung der Oberfläche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385b5"/>
                </a:solidFill>
                <a:latin typeface="Verdana"/>
              </a:rPr>
              <a:t>Weitere Features gewünscht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385b5"/>
                </a:solidFill>
                <a:latin typeface="Verdana"/>
              </a:rPr>
              <a:t>Massenänderung von MD-Sätzen</a:t>
            </a:r>
            <a:endParaRPr b="0" lang="en-US" sz="1600" spc="-1" strike="noStrike">
              <a:solidFill>
                <a:srgbClr val="4385b5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385b5"/>
                </a:solidFill>
                <a:latin typeface="Verdana"/>
              </a:rPr>
              <a:t>Weitere Profile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385b5"/>
                </a:solidFill>
                <a:latin typeface="Verdana"/>
              </a:rPr>
              <a:t>Projekte, Zeitreihen, Publikationen</a:t>
            </a:r>
            <a:endParaRPr b="0" lang="en-US" sz="1600" spc="-1" strike="noStrike">
              <a:solidFill>
                <a:srgbClr val="4385b5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385b5"/>
                </a:solidFill>
                <a:latin typeface="Verdana"/>
              </a:rPr>
              <a:t>Weitere Entwicklungen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385b5"/>
                </a:solidFill>
                <a:latin typeface="Verdana"/>
              </a:rPr>
              <a:t>Anpassung an OGC ISO Application Profile, sobald verfügbar (aktuell zur Abstimmung freigegeben)</a:t>
            </a:r>
            <a:endParaRPr b="0" lang="en-US" sz="1600" spc="-1" strike="noStrike">
              <a:solidFill>
                <a:srgbClr val="4385b5"/>
              </a:solidFill>
              <a:latin typeface="Verdana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85b5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4385b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385b5"/>
                </a:solidFill>
                <a:latin typeface="Verdana"/>
              </a:rPr>
              <a:t>Integration in vorhandene und neue Infrastrukturen</a:t>
            </a:r>
            <a:endParaRPr b="0" lang="en-US" sz="1800" spc="-1" strike="noStrike">
              <a:solidFill>
                <a:srgbClr val="4385b5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385b5"/>
                </a:solidFill>
                <a:latin typeface="Verdana"/>
              </a:rPr>
              <a:t>Suche und Erfassung während Arbeitsprozesses</a:t>
            </a:r>
            <a:endParaRPr b="0" lang="en-US" sz="1600" spc="-1" strike="noStrike">
              <a:solidFill>
                <a:srgbClr val="4385b5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385b5"/>
                </a:solidFill>
                <a:latin typeface="Verdana"/>
              </a:rPr>
              <a:t>Security Web Service für Zugriff durch Drittanwendungen</a:t>
            </a:r>
            <a:endParaRPr b="0" lang="en-US" sz="1600" spc="-1" strike="noStrike">
              <a:solidFill>
                <a:srgbClr val="4385b5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4385b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385b5"/>
                </a:solidFill>
                <a:latin typeface="Verdana"/>
              </a:rPr>
              <a:t>Übernahme von MD aus Geodatenbanken</a:t>
            </a:r>
            <a:endParaRPr b="0" lang="en-US" sz="1600" spc="-1" strike="noStrike">
              <a:solidFill>
                <a:srgbClr val="4385b5"/>
              </a:solidFill>
              <a:latin typeface="Verdana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85b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2:35:54Z</dcterms:created>
  <dc:creator>Carsten Heidmann</dc:creator>
  <dc:description/>
  <dc:language>en-US</dc:language>
  <cp:lastModifiedBy>LeihPc8220</cp:lastModifiedBy>
  <dcterms:modified xsi:type="dcterms:W3CDTF">2007-05-22T07:12:52Z</dcterms:modified>
  <cp:revision>49</cp:revision>
  <dc:subject> Metadaten zur Projektverwaltung </dc:subject>
  <dc:title> Metadaten zur Projektverwaltung </dc:title>
</cp:coreProperties>
</file>