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364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244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404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552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404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552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2612-02A5-4601-BCC5-4DDBF110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12536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86D3-1E7A-4409-9D22-C79EBAF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428-EC94-4296-80B4-E616928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3FAA-CB52-43CD-A835-D711664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B158-3D43-4571-B47B-CFFE8124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199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C8CB-4C1A-46F6-A29E-707EE8E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2EFD-AEB0-4236-9339-5AF65995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12536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44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DC9F-65E9-4542-B80D-98D534E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6AFC-2B10-43F3-9FA1-F6AF604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364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FE52-84D5-4954-A152-BB40A1C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5244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AB4F-57BD-47BC-BEC2-E7026C1D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404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5520" y="112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404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5520" y="3645360"/>
            <a:ext cx="26200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D24F-C4B2-4B1D-B346-0061B30C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199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440" y="364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440" y="1125360"/>
            <a:ext cx="3970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3645360"/>
            <a:ext cx="8137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31160" y="0"/>
            <a:ext cx="1212840" cy="121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07160" y="6138720"/>
            <a:ext cx="1428840" cy="6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2560" y="112536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ts val="2500"/>
              </a:lnSpc>
              <a:spcAft>
                <a:spcPts val="249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674640" indent="-190440">
              <a:lnSpc>
                <a:spcPts val="2500"/>
              </a:lnSpc>
              <a:spcAft>
                <a:spcPts val="24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182520">
              <a:lnSpc>
                <a:spcPts val="2500"/>
              </a:lnSpc>
              <a:spcAft>
                <a:spcPts val="2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3" marL="1523880" indent="-144360">
              <a:lnSpc>
                <a:spcPts val="2500"/>
              </a:lnSpc>
              <a:spcAft>
                <a:spcPts val="249"/>
              </a:spcAft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ts val="2500"/>
              </a:lnSpc>
              <a:spcAft>
                <a:spcPts val="249"/>
              </a:spcAft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ts val="2500"/>
              </a:lnSpc>
              <a:spcAft>
                <a:spcPts val="249"/>
              </a:spcAft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ts val="2500"/>
              </a:lnSpc>
              <a:spcAft>
                <a:spcPts val="249"/>
              </a:spcAft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>
            <a:alphaModFix amt="20000"/>
          </a:blip>
          <a:stretch/>
        </p:blipFill>
        <p:spPr>
          <a:xfrm>
            <a:off x="34920" y="6172200"/>
            <a:ext cx="1247760" cy="641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4360" y="907920"/>
            <a:ext cx="7272360" cy="73080"/>
          </a:xfrm>
          <a:prstGeom prst="rect">
            <a:avLst/>
          </a:prstGeom>
          <a:solidFill>
            <a:srgbClr val="007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4303800" y="6111720"/>
            <a:ext cx="1393560" cy="692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524720" y="609300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2007-05-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Slide </a:t>
            </a:r>
            <a:fld id="{865067C5-66FA-4708-9FC6-ED9CEBAF7CA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76360" y="6165720"/>
            <a:ext cx="27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– Aktueller Stand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und Entwicklunge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5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1"/>
          </p:nvPr>
        </p:nvSpPr>
        <p:spPr>
          <a:xfrm>
            <a:off x="691920" y="6281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09EB-73EE-42E6-92BB-A049AC3BF86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97776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047760" y="6283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lnSpc>
                <a:spcPts val="25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914400" indent="46080" algn="ctr">
              <a:lnSpc>
                <a:spcPts val="2500"/>
              </a:lnSpc>
              <a:spcAft>
                <a:spcPts val="201"/>
              </a:spcAft>
              <a:buClr>
                <a:srgbClr val="6684a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3" marL="1371600" indent="7920" algn="ctr">
              <a:lnSpc>
                <a:spcPts val="2500"/>
              </a:lnSpc>
              <a:spcAft>
                <a:spcPts val="176"/>
              </a:spcAft>
              <a:buClr>
                <a:srgbClr val="6684a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9.png"/><Relationship Id="rId15" Type="http://schemas.openxmlformats.org/officeDocument/2006/relationships/image" Target="../media/image21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9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9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8480" y="1898640"/>
            <a:ext cx="7772400" cy="112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RCHESTRA – Aktueller Stand und Entwicklungen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22360" y="3114360"/>
            <a:ext cx="83246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</a:rPr>
              <a:t>Ulrich Büg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</a:rPr>
              <a:t>Fraunhofer IITB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© ORCHESTRA Consortium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990720"/>
            <a:ext cx="4572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21/05/20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97360" y="2214720"/>
            <a:ext cx="5130720" cy="3463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48656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ORCHESTRA Result (3): Implementation (Specs)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27520" y="2751120"/>
            <a:ext cx="29520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2320" y="2751120"/>
            <a:ext cx="29556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904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1280" y="5438880"/>
            <a:ext cx="3195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ervice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60" y="2820960"/>
            <a:ext cx="2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0828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437364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crete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2200" y="3246480"/>
            <a:ext cx="3214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640" y="3833640"/>
            <a:ext cx="279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ncrete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Cloud"/>
          <p:cNvSpPr/>
          <p:nvPr/>
        </p:nvSpPr>
        <p:spPr>
          <a:xfrm>
            <a:off x="1031760" y="1122480"/>
            <a:ext cx="1643040" cy="46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94960" y="1674720"/>
            <a:ext cx="1057320" cy="1047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1312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55880" y="1674720"/>
            <a:ext cx="0" cy="1028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55880" y="1674720"/>
            <a:ext cx="1066680" cy="98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3840" y="1812960"/>
            <a:ext cx="88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14480" y="2214720"/>
            <a:ext cx="19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bstract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6640" y="4915080"/>
            <a:ext cx="2835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664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8772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664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8772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70360" y="2305080"/>
            <a:ext cx="51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ORCHESTRA Implementation Supp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83080" y="347508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Development Tools (UML</a:t>
            </a:r>
            <a:r>
              <a:rPr b="0" lang="en-GB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platform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83080" y="401472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 Development Framework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37000" y="2754360"/>
            <a:ext cx="4049640" cy="58068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pecification of Web Service Platform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WSDL, SOAP, GML Profil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69" idx="3"/>
            <a:endCxn id="387" idx="1"/>
          </p:cNvCxnSpPr>
          <p:nvPr/>
        </p:nvCxnSpPr>
        <p:spPr>
          <a:xfrm flipV="1">
            <a:off x="3537000" y="3048840"/>
            <a:ext cx="900720" cy="15138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69" idx="3"/>
            <a:endCxn id="385" idx="1"/>
          </p:cNvCxnSpPr>
          <p:nvPr/>
        </p:nvCxnSpPr>
        <p:spPr>
          <a:xfrm flipV="1">
            <a:off x="3537000" y="3647880"/>
            <a:ext cx="946800" cy="9151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69" idx="3"/>
            <a:endCxn id="386" idx="1"/>
          </p:cNvCxnSpPr>
          <p:nvPr/>
        </p:nvCxnSpPr>
        <p:spPr>
          <a:xfrm flipV="1">
            <a:off x="3537000" y="4187160"/>
            <a:ext cx="946800" cy="3754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4481640" y="5138640"/>
            <a:ext cx="400500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 Implementation Compon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69" idx="3"/>
            <a:endCxn id="391" idx="1"/>
          </p:cNvCxnSpPr>
          <p:nvPr/>
        </p:nvCxnSpPr>
        <p:spPr>
          <a:xfrm>
            <a:off x="3537000" y="4562280"/>
            <a:ext cx="945360" cy="7498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4481640" y="4554360"/>
            <a:ext cx="400500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/Interface Impl. Spec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69" idx="3"/>
            <a:endCxn id="393" idx="1"/>
          </p:cNvCxnSpPr>
          <p:nvPr/>
        </p:nvCxnSpPr>
        <p:spPr>
          <a:xfrm>
            <a:off x="3537000" y="4562640"/>
            <a:ext cx="945360" cy="1656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97360" y="4778280"/>
            <a:ext cx="5130720" cy="1216080"/>
          </a:xfrm>
          <a:prstGeom prst="rect">
            <a:avLst/>
          </a:prstGeom>
          <a:solidFill>
            <a:srgbClr val="8ed2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97360" y="1089000"/>
            <a:ext cx="5130720" cy="32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48656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ORCHESTRA Result (4): Service Network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2751120"/>
            <a:ext cx="29520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2320" y="2751120"/>
            <a:ext cx="29556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904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280" y="5438880"/>
            <a:ext cx="3195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ervice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8160" y="2820960"/>
            <a:ext cx="2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0828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000" y="437364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crete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2200" y="3246480"/>
            <a:ext cx="3214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6640" y="3833640"/>
            <a:ext cx="279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ncrete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Cloud"/>
          <p:cNvSpPr/>
          <p:nvPr/>
        </p:nvSpPr>
        <p:spPr>
          <a:xfrm>
            <a:off x="1031760" y="1122480"/>
            <a:ext cx="1643040" cy="46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94960" y="1674720"/>
            <a:ext cx="1057320" cy="1047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1312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55880" y="1674720"/>
            <a:ext cx="0" cy="1028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55880" y="1674720"/>
            <a:ext cx="1066680" cy="98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63840" y="1812960"/>
            <a:ext cx="88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14480" y="2214720"/>
            <a:ext cx="19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bstract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6640" y="4915080"/>
            <a:ext cx="2835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664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8772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664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8772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70360" y="1179360"/>
            <a:ext cx="51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ORCHESTRA Implementation Archite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83080" y="234936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ntegration of Application Compon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83080" y="2889360"/>
            <a:ext cx="4005360" cy="58068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 Network Management (Configuration and Monitoring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83080" y="1808280"/>
            <a:ext cx="40035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ntegration of Service Compon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1" idx="3"/>
            <a:endCxn id="422" idx="1"/>
          </p:cNvCxnSpPr>
          <p:nvPr/>
        </p:nvCxnSpPr>
        <p:spPr>
          <a:xfrm flipV="1">
            <a:off x="3537000" y="1980360"/>
            <a:ext cx="946800" cy="3647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01" idx="3"/>
            <a:endCxn id="420" idx="1"/>
          </p:cNvCxnSpPr>
          <p:nvPr/>
        </p:nvCxnSpPr>
        <p:spPr>
          <a:xfrm flipV="1">
            <a:off x="3537000" y="2521800"/>
            <a:ext cx="946800" cy="31057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1" idx="3"/>
            <a:endCxn id="421" idx="1"/>
          </p:cNvCxnSpPr>
          <p:nvPr/>
        </p:nvCxnSpPr>
        <p:spPr>
          <a:xfrm flipV="1">
            <a:off x="3537000" y="3184200"/>
            <a:ext cx="946800" cy="2443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4481640" y="3578400"/>
            <a:ext cx="4005000" cy="58068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Policy Configuration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e.g. discovery, access contro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01" idx="3"/>
            <a:endCxn id="426" idx="1"/>
          </p:cNvCxnSpPr>
          <p:nvPr/>
        </p:nvCxnSpPr>
        <p:spPr>
          <a:xfrm flipV="1">
            <a:off x="3537000" y="3873240"/>
            <a:ext cx="945360" cy="175464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076640" y="482436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ORCHESTRA Pilot Appl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16280" y="5184720"/>
            <a:ext cx="144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Forest Fi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Floo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21640" y="5184720"/>
            <a:ext cx="157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ari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Geo-hazar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396" idx="2"/>
            <a:endCxn id="395" idx="0"/>
          </p:cNvCxnSpPr>
          <p:nvPr/>
        </p:nvCxnSpPr>
        <p:spPr>
          <a:xfrm>
            <a:off x="6462360" y="4373640"/>
            <a:ext cx="1080" cy="4053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11280" y="1019160"/>
            <a:ext cx="7705800" cy="493092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684360" y="1844640"/>
            <a:ext cx="6624360" cy="3675600"/>
            <a:chOff x="684360" y="1844640"/>
            <a:chExt cx="6624360" cy="3675600"/>
          </a:xfrm>
        </p:grpSpPr>
        <p:grpSp>
          <p:nvGrpSpPr>
            <p:cNvPr id="434" name=""/>
            <p:cNvGrpSpPr/>
            <p:nvPr/>
          </p:nvGrpSpPr>
          <p:grpSpPr>
            <a:xfrm>
              <a:off x="4301280" y="1844640"/>
              <a:ext cx="2266560" cy="1308240"/>
              <a:chOff x="4301280" y="1844640"/>
              <a:chExt cx="2266560" cy="1308240"/>
            </a:xfrm>
          </p:grpSpPr>
          <p:sp>
            <p:nvSpPr>
              <p:cNvPr id="435" name=""/>
              <p:cNvSpPr/>
              <p:nvPr/>
            </p:nvSpPr>
            <p:spPr>
              <a:xfrm rot="774600">
                <a:off x="4398840" y="2096640"/>
                <a:ext cx="863640" cy="971640"/>
              </a:xfrm>
              <a:prstGeom prst="rect">
                <a:avLst/>
              </a:prstGeom>
              <a:noFill/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82520" y="1844640"/>
                <a:ext cx="9853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cc00"/>
                    </a:solidFill>
                    <a:latin typeface="Arial"/>
                  </a:rPr>
                  <a:t>Middle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684360" y="2133720"/>
              <a:ext cx="6624360" cy="3386520"/>
              <a:chOff x="684360" y="2133720"/>
              <a:chExt cx="6624360" cy="33865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478880" y="2133720"/>
                <a:ext cx="1706760" cy="2190960"/>
                <a:chOff x="1478880" y="2133720"/>
                <a:chExt cx="1706760" cy="2190960"/>
              </a:xfrm>
            </p:grpSpPr>
            <p:sp>
              <p:nvSpPr>
                <p:cNvPr id="439" name=""/>
                <p:cNvSpPr/>
                <p:nvPr/>
              </p:nvSpPr>
              <p:spPr>
                <a:xfrm rot="2721600">
                  <a:off x="1756080" y="2841480"/>
                  <a:ext cx="1152360" cy="1260720"/>
                </a:xfrm>
                <a:prstGeom prst="rect">
                  <a:avLst/>
                </a:pr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50880" y="2133720"/>
                  <a:ext cx="74628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ts val="2500"/>
                    </a:lnSpc>
                    <a:spcAft>
                      <a:spcPts val="2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Arial"/>
                    </a:rPr>
                    <a:t>High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326120" y="3330360"/>
                <a:ext cx="1441440" cy="870480"/>
                <a:chOff x="4326120" y="3330360"/>
                <a:chExt cx="1441440" cy="870480"/>
              </a:xfrm>
            </p:grpSpPr>
            <p:sp>
              <p:nvSpPr>
                <p:cNvPr id="442" name=""/>
                <p:cNvSpPr/>
                <p:nvPr/>
              </p:nvSpPr>
              <p:spPr>
                <a:xfrm rot="19284600">
                  <a:off x="4322880" y="3571560"/>
                  <a:ext cx="877680" cy="297000"/>
                </a:xfrm>
                <a:prstGeom prst="rect">
                  <a:avLst/>
                </a:prstGeom>
                <a:noFill/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77800" y="3789360"/>
                  <a:ext cx="68976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ts val="2500"/>
                    </a:lnSpc>
                    <a:spcAft>
                      <a:spcPts val="2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ff00"/>
                      </a:solidFill>
                      <a:latin typeface="Arial"/>
                    </a:rPr>
                    <a:t>Low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684360" y="5121360"/>
                <a:ext cx="6624360" cy="398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Frutiger 55 Roman"/>
                  </a:rPr>
                  <a:t>Prediction through dynamic models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 flipV="1">
            <a:off x="1405080" y="2311560"/>
            <a:ext cx="2808000" cy="1584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13080" y="2311560"/>
            <a:ext cx="1368720" cy="64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140360" y="2959200"/>
            <a:ext cx="1441440" cy="1296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84360" y="4132440"/>
            <a:ext cx="12600" cy="50760"/>
          </a:xfrm>
          <a:custGeom>
            <a:avLst/>
            <a:gdLst/>
            <a:ahLst/>
            <a:rect l="l" t="t" r="r" b="b"/>
            <a:pathLst>
              <a:path w="8" h="32">
                <a:moveTo>
                  <a:pt x="0" y="32"/>
                </a:moveTo>
                <a:cubicBezTo>
                  <a:pt x="3" y="21"/>
                  <a:pt x="8" y="0"/>
                  <a:pt x="8" y="0"/>
                </a:cubicBezTo>
                <a:cubicBezTo>
                  <a:pt x="8" y="0"/>
                  <a:pt x="3" y="21"/>
                  <a:pt x="0" y="32"/>
                </a:cubicBezTo>
                <a:close/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838600" y="2889360"/>
            <a:ext cx="1733400" cy="1076040"/>
            <a:chOff x="2838600" y="2889360"/>
            <a:chExt cx="1733400" cy="1076040"/>
          </a:xfrm>
        </p:grpSpPr>
        <p:sp>
          <p:nvSpPr>
            <p:cNvPr id="450" name=""/>
            <p:cNvSpPr/>
            <p:nvPr/>
          </p:nvSpPr>
          <p:spPr>
            <a:xfrm>
              <a:off x="2838600" y="3003480"/>
              <a:ext cx="409320" cy="785880"/>
            </a:xfrm>
            <a:custGeom>
              <a:avLst/>
              <a:gdLst/>
              <a:ahLst/>
              <a:rect l="l" t="t" r="r" b="b"/>
              <a:pathLst>
                <a:path w="258" h="495">
                  <a:moveTo>
                    <a:pt x="258" y="250"/>
                  </a:moveTo>
                  <a:lnTo>
                    <a:pt x="0" y="0"/>
                  </a:lnTo>
                  <a:lnTo>
                    <a:pt x="5" y="495"/>
                  </a:lnTo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262400" y="2889360"/>
              <a:ext cx="309600" cy="1076040"/>
              <a:chOff x="4262400" y="2889360"/>
              <a:chExt cx="309600" cy="1076040"/>
            </a:xfrm>
          </p:grpSpPr>
          <p:sp>
            <p:nvSpPr>
              <p:cNvPr id="452" name=""/>
              <p:cNvSpPr/>
              <p:nvPr/>
            </p:nvSpPr>
            <p:spPr>
              <a:xfrm>
                <a:off x="4276800" y="3594240"/>
                <a:ext cx="295200" cy="371160"/>
              </a:xfrm>
              <a:custGeom>
                <a:avLst/>
                <a:gdLst/>
                <a:ahLst/>
                <a:rect l="l" t="t" r="r" b="b"/>
                <a:pathLst>
                  <a:path w="186" h="234">
                    <a:moveTo>
                      <a:pt x="183" y="0"/>
                    </a:moveTo>
                    <a:lnTo>
                      <a:pt x="0" y="154"/>
                    </a:lnTo>
                    <a:lnTo>
                      <a:pt x="57" y="234"/>
                    </a:lnTo>
                    <a:lnTo>
                      <a:pt x="57" y="232"/>
                    </a:lnTo>
                    <a:lnTo>
                      <a:pt x="186" y="232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62400" y="2889360"/>
                <a:ext cx="309600" cy="135000"/>
              </a:xfrm>
              <a:custGeom>
                <a:avLst/>
                <a:gdLst/>
                <a:ahLst/>
                <a:rect l="l" t="t" r="r" b="b"/>
                <a:pathLst>
                  <a:path w="195" h="85">
                    <a:moveTo>
                      <a:pt x="0" y="37"/>
                    </a:moveTo>
                    <a:lnTo>
                      <a:pt x="195" y="85"/>
                    </a:lnTo>
                    <a:lnTo>
                      <a:pt x="195" y="1"/>
                    </a:lnTo>
                    <a:lnTo>
                      <a:pt x="9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684360" y="260280"/>
            <a:ext cx="828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Arial"/>
              </a:rPr>
              <a:t>ORCHESTRA Pilot: German Bight „Antifoulants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951280" y="6039000"/>
            <a:ext cx="1189080" cy="649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6237360" y="6039000"/>
            <a:ext cx="936720" cy="649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26920" y="126828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Pollution along shipping rou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51640" y="2276640"/>
            <a:ext cx="25923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Queries</a:t>
            </a:r>
            <a:r>
              <a:rPr b="1" lang="de-DE" sz="2000" spc="-1" strike="noStrike">
                <a:solidFill>
                  <a:srgbClr val="000000"/>
                </a:solidFill>
                <a:latin typeface="Frutiger 55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oxicity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Limit exceed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Impact on spec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84360" y="2887560"/>
            <a:ext cx="6624360" cy="2991240"/>
            <a:chOff x="684360" y="2887560"/>
            <a:chExt cx="6624360" cy="2991240"/>
          </a:xfrm>
        </p:grpSpPr>
        <p:grpSp>
          <p:nvGrpSpPr>
            <p:cNvPr id="460" name=""/>
            <p:cNvGrpSpPr/>
            <p:nvPr/>
          </p:nvGrpSpPr>
          <p:grpSpPr>
            <a:xfrm>
              <a:off x="2844720" y="2887560"/>
              <a:ext cx="3402360" cy="2016360"/>
              <a:chOff x="2844720" y="2887560"/>
              <a:chExt cx="3402360" cy="2016360"/>
            </a:xfrm>
          </p:grpSpPr>
          <p:sp>
            <p:nvSpPr>
              <p:cNvPr id="461" name=""/>
              <p:cNvSpPr/>
              <p:nvPr/>
            </p:nvSpPr>
            <p:spPr>
              <a:xfrm>
                <a:off x="2844720" y="2887560"/>
                <a:ext cx="1728720" cy="1079640"/>
              </a:xfrm>
              <a:prstGeom prst="rect">
                <a:avLst/>
              </a:prstGeom>
              <a:solidFill>
                <a:srgbClr val="ff00ff">
                  <a:alpha val="29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32000" y="4471920"/>
                <a:ext cx="865440" cy="432000"/>
              </a:xfrm>
              <a:prstGeom prst="rect">
                <a:avLst/>
              </a:prstGeom>
              <a:solidFill>
                <a:srgbClr val="ff00ff">
                  <a:alpha val="29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999200">
                <a:off x="5436720" y="4327200"/>
                <a:ext cx="770040" cy="360360"/>
              </a:xfrm>
              <a:prstGeom prst="rect">
                <a:avLst/>
              </a:prstGeom>
              <a:solidFill>
                <a:srgbClr val="ff00ff">
                  <a:alpha val="29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4360" y="5479920"/>
              <a:ext cx="662436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de-DE" sz="2000" spc="-1" strike="noStrike">
                  <a:solidFill>
                    <a:srgbClr val="000000"/>
                  </a:solidFill>
                  <a:latin typeface="Frutiger 55 Roman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Frutiger 55 Roman"/>
                </a:rPr>
                <a:t>Intersection with protection areas </a:t>
              </a:r>
              <a:r>
                <a:rPr b="0" lang="de-DE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de-DE" sz="2000" spc="-1" strike="noStrike">
                  <a:solidFill>
                    <a:srgbClr val="000000"/>
                  </a:solidFill>
                  <a:latin typeface="Frutiger 55 Roman"/>
                </a:rPr>
                <a:t> Risk map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511280" y="6084720"/>
            <a:ext cx="1438200" cy="5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German Bight Pilot / Servic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01640" y="1268280"/>
            <a:ext cx="7831080" cy="4591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43080" y="522936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CHESTRA Service Netwo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21280" y="3789360"/>
            <a:ext cx="225108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talogue Serv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1763640"/>
            <a:ext cx="3691080" cy="49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ulation Management Serv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3203640"/>
            <a:ext cx="387036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DS-Bathymet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92360" y="2573280"/>
            <a:ext cx="3870360" cy="49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ulation Data Service-Curr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92360" y="4373640"/>
            <a:ext cx="387036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DS-Wi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3789360"/>
            <a:ext cx="387036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DS-Shipping Rou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280" y="1449360"/>
            <a:ext cx="60948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2360" y="1719360"/>
            <a:ext cx="60948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1280" y="2033640"/>
            <a:ext cx="60948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5920" y="2303640"/>
            <a:ext cx="60948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85920" y="1943280"/>
            <a:ext cx="406440" cy="9000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2000" y="2214720"/>
            <a:ext cx="630360" cy="13046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6640" y="2573280"/>
            <a:ext cx="855720" cy="14860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60" y="2843280"/>
            <a:ext cx="1170000" cy="18000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77000" y="5003640"/>
            <a:ext cx="1351080" cy="900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Me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362720" y="4282920"/>
            <a:ext cx="944640" cy="7207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21280" y="2573280"/>
            <a:ext cx="1936800" cy="49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lot Appl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97720" y="1133640"/>
            <a:ext cx="1620720" cy="12157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>
            <a:off x="6102360" y="1943280"/>
            <a:ext cx="4953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997360" y="6039000"/>
            <a:ext cx="1188720" cy="649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237360" y="6039000"/>
            <a:ext cx="936720" cy="6490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1557360" y="6084720"/>
            <a:ext cx="1438200" cy="5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Integration in Earth Observation Portal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1280" y="1223640"/>
            <a:ext cx="8137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999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Application of the basic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999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SOA pattern </a:t>
            </a: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publish – find – bind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999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Risk Management Service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00"/>
                </a:solidFill>
                <a:uFillTx/>
                <a:latin typeface="Arial"/>
              </a:rPr>
              <a:t>Components: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249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Service Support Environment (SSE)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= Service Consumer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249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ORCHESTRA Catalogu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= Registry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249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BMT Pilot Application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= Service Provider</a:t>
            </a:r>
            <a:br>
              <a:rPr sz="2000"/>
            </a:b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= Service Consumer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249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BMT Simulation Services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= Service Provider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0">
              <a:lnSpc>
                <a:spcPts val="25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SSE/ORCHESTRA Service Network: Publish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06640" y="1314360"/>
            <a:ext cx="3979800" cy="139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78440" y="2060640"/>
            <a:ext cx="863280" cy="51444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1674720"/>
            <a:ext cx="2673360" cy="9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67000" y="2197080"/>
            <a:ext cx="1322280" cy="276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Service Cli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87360" y="1314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21280" y="207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BPEL engi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85920" y="1476360"/>
            <a:ext cx="275580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02000" y="1585800"/>
            <a:ext cx="20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RCHESTRA Cli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42000" y="5454720"/>
            <a:ext cx="503280" cy="576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06640" y="4554360"/>
            <a:ext cx="231300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Management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2" idx="2"/>
            <a:endCxn id="505" idx="3"/>
          </p:cNvCxnSpPr>
          <p:nvPr/>
        </p:nvCxnSpPr>
        <p:spPr>
          <a:xfrm flipH="1" flipV="1">
            <a:off x="4941000" y="5732280"/>
            <a:ext cx="801000" cy="11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2906640" y="5408640"/>
            <a:ext cx="19447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51280" y="3338640"/>
            <a:ext cx="158436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Catalogue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12000" y="3249720"/>
            <a:ext cx="1123920" cy="8096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09" name=""/>
          <p:cNvCxnSpPr>
            <a:stCxn id="507" idx="3"/>
            <a:endCxn id="508" idx="2"/>
          </p:cNvCxnSpPr>
          <p:nvPr/>
        </p:nvCxnSpPr>
        <p:spPr>
          <a:xfrm flipV="1">
            <a:off x="6335280" y="3653640"/>
            <a:ext cx="577080" cy="104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sp>
        <p:nvSpPr>
          <p:cNvPr id="510" name=""/>
          <p:cNvSpPr/>
          <p:nvPr/>
        </p:nvSpPr>
        <p:spPr>
          <a:xfrm>
            <a:off x="6327720" y="5364000"/>
            <a:ext cx="26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imulation data stores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.g. bathymetrie, wind,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51640" y="42847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eta-information sto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97360" y="5499000"/>
            <a:ext cx="194436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47000" y="3608280"/>
            <a:ext cx="180720" cy="1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2360" y="3743280"/>
            <a:ext cx="225360" cy="135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7000" y="3384720"/>
            <a:ext cx="2305080" cy="577800"/>
          </a:xfrm>
          <a:prstGeom prst="rect">
            <a:avLst/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BMT Pilot Ap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32720" y="3608280"/>
            <a:ext cx="314280" cy="270000"/>
          </a:xfrm>
          <a:prstGeom prst="triangle">
            <a:avLst>
              <a:gd name="adj" fmla="val 50000"/>
            </a:avLst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63680" y="3499920"/>
            <a:ext cx="2616480" cy="1908720"/>
            <a:chOff x="2263680" y="3499920"/>
            <a:chExt cx="2616480" cy="1908720"/>
          </a:xfrm>
        </p:grpSpPr>
        <p:cxnSp>
          <p:nvCxnSpPr>
            <p:cNvPr id="517" name=""/>
            <p:cNvCxnSpPr>
              <a:stCxn id="503" idx="0"/>
              <a:endCxn id="507" idx="1"/>
            </p:cNvCxnSpPr>
            <p:nvPr/>
          </p:nvCxnSpPr>
          <p:spPr>
            <a:xfrm flipV="1">
              <a:off x="2263680" y="3663360"/>
              <a:ext cx="2488320" cy="891000"/>
            </a:xfrm>
            <a:prstGeom prst="straightConnector1">
              <a:avLst/>
            </a:prstGeom>
            <a:ln w="2232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6" idx="0"/>
              <a:endCxn id="507" idx="1"/>
            </p:cNvCxnSpPr>
            <p:nvPr/>
          </p:nvCxnSpPr>
          <p:spPr>
            <a:xfrm flipV="1">
              <a:off x="3879360" y="3663720"/>
              <a:ext cx="872280" cy="1745280"/>
            </a:xfrm>
            <a:prstGeom prst="straightConnector1">
              <a:avLst/>
            </a:prstGeom>
            <a:ln w="2232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14" idx="3"/>
              <a:endCxn id="507" idx="1"/>
            </p:cNvCxnSpPr>
            <p:nvPr/>
          </p:nvCxnSpPr>
          <p:spPr>
            <a:xfrm flipV="1">
              <a:off x="2602080" y="3663720"/>
              <a:ext cx="2149920" cy="10080"/>
            </a:xfrm>
            <a:prstGeom prst="straightConnector1">
              <a:avLst/>
            </a:prstGeom>
            <a:ln w="2232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520" name=""/>
            <p:cNvSpPr/>
            <p:nvPr/>
          </p:nvSpPr>
          <p:spPr>
            <a:xfrm rot="2846400">
              <a:off x="3709800" y="3884760"/>
              <a:ext cx="1221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publis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SSE/ORCHESTRA Service Network: Search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06640" y="1314360"/>
            <a:ext cx="3979800" cy="139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78440" y="2060640"/>
            <a:ext cx="863280" cy="51444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32000" y="1674720"/>
            <a:ext cx="2673360" cy="9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67000" y="2197080"/>
            <a:ext cx="1322280" cy="276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Service Cli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87360" y="1314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1280" y="207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BPEL engi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85920" y="1476360"/>
            <a:ext cx="275580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2000" y="1585800"/>
            <a:ext cx="20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RCHESTRA Cli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42000" y="5454720"/>
            <a:ext cx="503280" cy="576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06640" y="4554360"/>
            <a:ext cx="231300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Management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30" idx="2"/>
            <a:endCxn id="533" idx="3"/>
          </p:cNvCxnSpPr>
          <p:nvPr/>
        </p:nvCxnSpPr>
        <p:spPr>
          <a:xfrm flipH="1" flipV="1">
            <a:off x="4941000" y="5732280"/>
            <a:ext cx="801000" cy="11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2906640" y="5408640"/>
            <a:ext cx="19447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51280" y="3338640"/>
            <a:ext cx="158436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Catalogue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12000" y="3249720"/>
            <a:ext cx="1123920" cy="8096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37" name=""/>
          <p:cNvCxnSpPr>
            <a:stCxn id="535" idx="3"/>
            <a:endCxn id="536" idx="2"/>
          </p:cNvCxnSpPr>
          <p:nvPr/>
        </p:nvCxnSpPr>
        <p:spPr>
          <a:xfrm flipV="1">
            <a:off x="6335280" y="3653640"/>
            <a:ext cx="577080" cy="104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538" name=""/>
          <p:cNvCxnSpPr>
            <a:stCxn id="528" idx="2"/>
            <a:endCxn id="535" idx="0"/>
          </p:cNvCxnSpPr>
          <p:nvPr/>
        </p:nvCxnSpPr>
        <p:spPr>
          <a:xfrm>
            <a:off x="3563640" y="2054160"/>
            <a:ext cx="1980360" cy="1285200"/>
          </a:xfrm>
          <a:prstGeom prst="straightConnector1">
            <a:avLst/>
          </a:prstGeom>
          <a:ln w="2232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327720" y="5364000"/>
            <a:ext cx="26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imulation data stores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.g. bathymetrie, wind,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51640" y="42847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eta-information sto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51280" y="2843280"/>
            <a:ext cx="946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97360" y="5499000"/>
            <a:ext cx="194436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047000" y="3608280"/>
            <a:ext cx="180720" cy="1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72360" y="3743280"/>
            <a:ext cx="225360" cy="135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7000" y="3384720"/>
            <a:ext cx="2305080" cy="577800"/>
          </a:xfrm>
          <a:prstGeom prst="rect">
            <a:avLst/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BMT Pilot Ap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3"/>
            <a:endCxn id="535" idx="1"/>
          </p:cNvCxnSpPr>
          <p:nvPr/>
        </p:nvCxnSpPr>
        <p:spPr>
          <a:xfrm flipV="1">
            <a:off x="2602080" y="3663720"/>
            <a:ext cx="2149920" cy="10080"/>
          </a:xfrm>
          <a:prstGeom prst="straightConnector1">
            <a:avLst/>
          </a:prstGeom>
          <a:ln w="2232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28" idx="2"/>
            <a:endCxn id="544" idx="0"/>
          </p:cNvCxnSpPr>
          <p:nvPr/>
        </p:nvCxnSpPr>
        <p:spPr>
          <a:xfrm flipH="1">
            <a:off x="1449000" y="2054160"/>
            <a:ext cx="2115360" cy="1331280"/>
          </a:xfrm>
          <a:prstGeom prst="straightConnector1">
            <a:avLst/>
          </a:prstGeom>
          <a:ln w="2232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2276640" y="2843280"/>
            <a:ext cx="946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32720" y="3608280"/>
            <a:ext cx="314280" cy="270000"/>
          </a:xfrm>
          <a:prstGeom prst="triangle">
            <a:avLst>
              <a:gd name="adj" fmla="val 50000"/>
            </a:avLst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5337000" y="549360"/>
            <a:ext cx="843120" cy="799920"/>
          </a:xfrm>
          <a:prstGeom prst="rect">
            <a:avLst/>
          </a:prstGeom>
          <a:ln w="0">
            <a:noFill/>
          </a:ln>
        </p:spPr>
      </p:pic>
      <p:cxnSp>
        <p:nvCxnSpPr>
          <p:cNvPr id="550" name=""/>
          <p:cNvCxnSpPr>
            <a:stCxn id="549" idx="1"/>
            <a:endCxn id="528" idx="0"/>
          </p:cNvCxnSpPr>
          <p:nvPr/>
        </p:nvCxnSpPr>
        <p:spPr>
          <a:xfrm flipH="1">
            <a:off x="3563280" y="949320"/>
            <a:ext cx="1773720" cy="5277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 rot="2846400">
            <a:off x="2719080" y="3570480"/>
            <a:ext cx="122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032360" y="998640"/>
            <a:ext cx="946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SSE/ORCHESTRA Service Network: Start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06640" y="1312920"/>
            <a:ext cx="3979800" cy="139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78440" y="2058840"/>
            <a:ext cx="863280" cy="51444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32000" y="1673280"/>
            <a:ext cx="2673360" cy="90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67000" y="2195640"/>
            <a:ext cx="1322280" cy="276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Service Cli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87360" y="13129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21280" y="20779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BPEL engi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85920" y="1474920"/>
            <a:ext cx="275580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2000" y="1584360"/>
            <a:ext cx="20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RCHESTRA Cli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42000" y="5454720"/>
            <a:ext cx="503280" cy="576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06640" y="4554360"/>
            <a:ext cx="231300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Management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64" name=""/>
          <p:cNvCxnSpPr>
            <a:stCxn id="562" idx="2"/>
            <a:endCxn id="565" idx="3"/>
          </p:cNvCxnSpPr>
          <p:nvPr/>
        </p:nvCxnSpPr>
        <p:spPr>
          <a:xfrm flipH="1" flipV="1">
            <a:off x="4941000" y="5732280"/>
            <a:ext cx="801000" cy="11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2906640" y="5408640"/>
            <a:ext cx="19447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51280" y="3338640"/>
            <a:ext cx="158436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Catalogue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12000" y="3249720"/>
            <a:ext cx="1123920" cy="8096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7" idx="3"/>
            <a:endCxn id="568" idx="2"/>
          </p:cNvCxnSpPr>
          <p:nvPr/>
        </p:nvCxnSpPr>
        <p:spPr>
          <a:xfrm flipV="1">
            <a:off x="6335280" y="3653640"/>
            <a:ext cx="577080" cy="104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6327720" y="5364000"/>
            <a:ext cx="26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imulation data stores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.g. bathymetrie, wind,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1640" y="42847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eta-information sto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97360" y="5499000"/>
            <a:ext cx="194436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ORCHESTRA Simulation Data Service Inst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608280"/>
            <a:ext cx="180720" cy="135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272360" y="3743280"/>
            <a:ext cx="225360" cy="135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7000" y="3384720"/>
            <a:ext cx="2305080" cy="577800"/>
          </a:xfrm>
          <a:prstGeom prst="rect">
            <a:avLst/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BMT Pilot Ap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60" idx="2"/>
            <a:endCxn id="574" idx="0"/>
          </p:cNvCxnSpPr>
          <p:nvPr/>
        </p:nvCxnSpPr>
        <p:spPr>
          <a:xfrm flipH="1">
            <a:off x="1449000" y="2052720"/>
            <a:ext cx="2115360" cy="1332720"/>
          </a:xfrm>
          <a:prstGeom prst="straightConnector1">
            <a:avLst/>
          </a:prstGeom>
          <a:ln w="2232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2276640" y="2843280"/>
            <a:ext cx="108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32720" y="3608280"/>
            <a:ext cx="314280" cy="270000"/>
          </a:xfrm>
          <a:prstGeom prst="triangle">
            <a:avLst>
              <a:gd name="adj" fmla="val 50000"/>
            </a:avLst>
          </a:prstGeom>
          <a:solidFill>
            <a:srgbClr val="8ed2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337000" y="549360"/>
            <a:ext cx="843120" cy="799920"/>
          </a:xfrm>
          <a:prstGeom prst="rect">
            <a:avLst/>
          </a:prstGeom>
          <a:ln w="0">
            <a:noFill/>
          </a:ln>
        </p:spPr>
      </p:pic>
      <p:cxnSp>
        <p:nvCxnSpPr>
          <p:cNvPr id="579" name=""/>
          <p:cNvCxnSpPr>
            <a:stCxn id="563" idx="2"/>
            <a:endCxn id="566" idx="0"/>
          </p:cNvCxnSpPr>
          <p:nvPr/>
        </p:nvCxnSpPr>
        <p:spPr>
          <a:xfrm>
            <a:off x="2263320" y="5021280"/>
            <a:ext cx="1616760" cy="388080"/>
          </a:xfrm>
          <a:prstGeom prst="straightConnector1">
            <a:avLst/>
          </a:prstGeom>
          <a:ln w="2232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746280" y="4059360"/>
            <a:ext cx="80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01640" y="5237280"/>
            <a:ext cx="1035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8" idx="1"/>
            <a:endCxn id="560" idx="0"/>
          </p:cNvCxnSpPr>
          <p:nvPr/>
        </p:nvCxnSpPr>
        <p:spPr>
          <a:xfrm flipH="1">
            <a:off x="3563280" y="949320"/>
            <a:ext cx="1773720" cy="5263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2097000" y="4059360"/>
            <a:ext cx="80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22360" y="3968640"/>
            <a:ext cx="0" cy="585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097000" y="3968280"/>
            <a:ext cx="0" cy="585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57360" y="458640"/>
            <a:ext cx="835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1640" y="2079720"/>
            <a:ext cx="813780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 algn="ctr">
              <a:lnSpc>
                <a:spcPts val="2999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0440" indent="-190440" algn="ctr">
              <a:lnSpc>
                <a:spcPts val="2999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103560" y="1644480"/>
            <a:ext cx="417348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03560" y="1573200"/>
            <a:ext cx="4173480" cy="7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973760" y="1744560"/>
            <a:ext cx="502920" cy="505080"/>
            <a:chOff x="4973760" y="1744560"/>
            <a:chExt cx="502920" cy="505080"/>
          </a:xfrm>
        </p:grpSpPr>
        <p:sp>
          <p:nvSpPr>
            <p:cNvPr id="591" name=""/>
            <p:cNvSpPr/>
            <p:nvPr/>
          </p:nvSpPr>
          <p:spPr>
            <a:xfrm>
              <a:off x="5118120" y="1744560"/>
              <a:ext cx="71280" cy="730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61040" y="1960560"/>
              <a:ext cx="71280" cy="730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73760" y="2033640"/>
              <a:ext cx="71280" cy="730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94" name=""/>
            <p:cNvCxnSpPr>
              <a:stCxn id="591" idx="3"/>
              <a:endCxn id="593" idx="7"/>
            </p:cNvCxnSpPr>
            <p:nvPr/>
          </p:nvCxnSpPr>
          <p:spPr>
            <a:xfrm flipH="1">
              <a:off x="5033160" y="1806480"/>
              <a:ext cx="96120" cy="2390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95" name=""/>
            <p:cNvCxnSpPr>
              <a:stCxn id="591" idx="5"/>
              <a:endCxn id="592" idx="1"/>
            </p:cNvCxnSpPr>
            <p:nvPr/>
          </p:nvCxnSpPr>
          <p:spPr>
            <a:xfrm>
              <a:off x="5177880" y="1806120"/>
              <a:ext cx="94680" cy="1659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5118120" y="2176560"/>
              <a:ext cx="71280" cy="730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05400" y="2176560"/>
              <a:ext cx="71280" cy="730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6" idx="7"/>
              <a:endCxn id="592" idx="3"/>
            </p:cNvCxnSpPr>
            <p:nvPr/>
          </p:nvCxnSpPr>
          <p:spPr>
            <a:xfrm flipV="1">
              <a:off x="5177880" y="2021760"/>
              <a:ext cx="94680" cy="1659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99" name=""/>
            <p:cNvCxnSpPr>
              <a:stCxn id="597" idx="1"/>
              <a:endCxn id="592" idx="5"/>
            </p:cNvCxnSpPr>
            <p:nvPr/>
          </p:nvCxnSpPr>
          <p:spPr>
            <a:xfrm flipH="1" flipV="1">
              <a:off x="5320440" y="2021760"/>
              <a:ext cx="96120" cy="1659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</p:grpSp>
      <p:sp>
        <p:nvSpPr>
          <p:cNvPr id="600" name=""/>
          <p:cNvSpPr/>
          <p:nvPr/>
        </p:nvSpPr>
        <p:spPr>
          <a:xfrm>
            <a:off x="3821040" y="121284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68680" y="1827360"/>
            <a:ext cx="432000" cy="287280"/>
          </a:xfrm>
          <a:prstGeom prst="leftArrow">
            <a:avLst>
              <a:gd name="adj1" fmla="val 39537"/>
              <a:gd name="adj2" fmla="val 80165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5476320" y="1838160"/>
            <a:ext cx="431640" cy="287640"/>
          </a:xfrm>
          <a:prstGeom prst="leftArrow">
            <a:avLst>
              <a:gd name="adj1" fmla="val 39537"/>
              <a:gd name="adj2" fmla="val 7999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269040" y="121284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346560" y="1816200"/>
            <a:ext cx="11221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Query Proc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10120" y="1816200"/>
            <a:ext cx="11941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emantic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Report Ge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53600" y="113040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Cat.Search Interfa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854440" y="1898640"/>
            <a:ext cx="2476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54440" y="2041560"/>
            <a:ext cx="2476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21080" y="1047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70840" y="996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691480" y="4795920"/>
            <a:ext cx="986040" cy="720720"/>
          </a:xfrm>
          <a:prstGeom prst="flowChart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35440" y="2317680"/>
            <a:ext cx="0" cy="695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462120" y="26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1400" y="265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86560" y="264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70840" y="2652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34520" y="262404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Cat.Search Interfa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73720" y="2317680"/>
            <a:ext cx="9720" cy="695520"/>
          </a:xfrm>
          <a:custGeom>
            <a:avLst/>
            <a:gdLst/>
            <a:ahLst/>
            <a:rect l="l" t="t" r="r" b="b"/>
            <a:pathLst>
              <a:path w="6" h="438">
                <a:moveTo>
                  <a:pt x="0" y="438"/>
                </a:moveTo>
                <a:lnTo>
                  <a:pt x="6" y="432"/>
                </a:lnTo>
                <a:lnTo>
                  <a:pt x="6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081240" y="3030480"/>
            <a:ext cx="4183200" cy="642960"/>
            <a:chOff x="3081240" y="3030480"/>
            <a:chExt cx="4183200" cy="642960"/>
          </a:xfrm>
        </p:grpSpPr>
        <p:sp>
          <p:nvSpPr>
            <p:cNvPr id="620" name=""/>
            <p:cNvSpPr/>
            <p:nvPr/>
          </p:nvSpPr>
          <p:spPr>
            <a:xfrm>
              <a:off x="3081240" y="3097080"/>
              <a:ext cx="4183200" cy="5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81240" y="3030480"/>
              <a:ext cx="418320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264440" y="3036240"/>
            <a:ext cx="1182960" cy="646920"/>
            <a:chOff x="7264440" y="3036240"/>
            <a:chExt cx="1182960" cy="646920"/>
          </a:xfrm>
        </p:grpSpPr>
        <p:sp>
          <p:nvSpPr>
            <p:cNvPr id="623" name=""/>
            <p:cNvSpPr/>
            <p:nvPr/>
          </p:nvSpPr>
          <p:spPr>
            <a:xfrm>
              <a:off x="7493760" y="3036240"/>
              <a:ext cx="953640" cy="646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66"/>
                  </a:solidFill>
                  <a:latin typeface="Arial"/>
                </a:rPr>
                <a:t>combin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66"/>
                  </a:solidFill>
                  <a:latin typeface="Arial"/>
                </a:rPr>
                <a:t>OAS-MI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4440" y="3357720"/>
              <a:ext cx="225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Metapilot / Semantic Catalogu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0" y="2048040"/>
            <a:ext cx="2265480" cy="352404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927720" y="1606680"/>
            <a:ext cx="1893600" cy="667800"/>
            <a:chOff x="927720" y="1606680"/>
            <a:chExt cx="1893600" cy="667800"/>
          </a:xfrm>
        </p:grpSpPr>
        <p:sp>
          <p:nvSpPr>
            <p:cNvPr id="628" name=""/>
            <p:cNvSpPr/>
            <p:nvPr/>
          </p:nvSpPr>
          <p:spPr>
            <a:xfrm>
              <a:off x="942840" y="1606680"/>
              <a:ext cx="1839960" cy="622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27720" y="163188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Ontology Access</a:t>
              </a:r>
              <a:br>
                <a:rPr sz="1800"/>
              </a:b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308320" y="3659040"/>
            <a:ext cx="6657840" cy="2072520"/>
            <a:chOff x="2308320" y="3659040"/>
            <a:chExt cx="6657840" cy="2072520"/>
          </a:xfrm>
        </p:grpSpPr>
        <p:grpSp>
          <p:nvGrpSpPr>
            <p:cNvPr id="631" name=""/>
            <p:cNvGrpSpPr/>
            <p:nvPr/>
          </p:nvGrpSpPr>
          <p:grpSpPr>
            <a:xfrm>
              <a:off x="2308320" y="4417920"/>
              <a:ext cx="1488960" cy="1313640"/>
              <a:chOff x="2308320" y="4417920"/>
              <a:chExt cx="1488960" cy="1313640"/>
            </a:xfrm>
          </p:grpSpPr>
          <p:sp>
            <p:nvSpPr>
              <p:cNvPr id="632" name=""/>
              <p:cNvSpPr/>
              <p:nvPr/>
            </p:nvSpPr>
            <p:spPr>
              <a:xfrm>
                <a:off x="2308320" y="5084640"/>
                <a:ext cx="1488960" cy="646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OAS-MI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CS-Typsa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2308320" y="4417920"/>
                <a:ext cx="1484280" cy="431280"/>
                <a:chOff x="2308320" y="4417920"/>
                <a:chExt cx="1484280" cy="4312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308320" y="4489200"/>
                  <a:ext cx="1484280" cy="3600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Arial"/>
                    </a:rPr>
                    <a:t>CS – Typsa Pilot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308320" y="4417920"/>
                  <a:ext cx="1484280" cy="7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 flipV="1">
                <a:off x="3029040" y="4857120"/>
                <a:ext cx="0" cy="2314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056120" y="4392720"/>
              <a:ext cx="1488960" cy="1313640"/>
              <a:chOff x="4056120" y="4392720"/>
              <a:chExt cx="1488960" cy="131364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4056120" y="4392720"/>
                <a:ext cx="1484280" cy="431280"/>
                <a:chOff x="4056120" y="4392720"/>
                <a:chExt cx="1484280" cy="43128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056120" y="4464000"/>
                  <a:ext cx="1484280" cy="3600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Arial"/>
                    </a:rPr>
                    <a:t>CS – JRC Pilot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56120" y="4392720"/>
                  <a:ext cx="1484280" cy="7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4056120" y="5059440"/>
                <a:ext cx="1488960" cy="646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OAS-MI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CS-JRC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4815000" y="4825440"/>
                <a:ext cx="0" cy="2314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5767560" y="4392720"/>
              <a:ext cx="1488960" cy="1313640"/>
              <a:chOff x="5767560" y="4392720"/>
              <a:chExt cx="1488960" cy="131364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5767560" y="4392720"/>
                <a:ext cx="1483920" cy="431280"/>
                <a:chOff x="5767560" y="4392720"/>
                <a:chExt cx="1483920" cy="4312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767560" y="4464000"/>
                  <a:ext cx="1483920" cy="3600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Arial"/>
                    </a:rPr>
                    <a:t>CS – BRGM Pilot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67560" y="4392720"/>
                  <a:ext cx="1483920" cy="7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5767560" y="5059440"/>
                <a:ext cx="1488960" cy="646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OAS-MI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CS-BRGM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487920" y="4827600"/>
                <a:ext cx="0" cy="2311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7477200" y="4392720"/>
              <a:ext cx="1488960" cy="1313640"/>
              <a:chOff x="7477200" y="4392720"/>
              <a:chExt cx="1488960" cy="131364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7477200" y="4392720"/>
                <a:ext cx="1484280" cy="431280"/>
                <a:chOff x="7477200" y="4392720"/>
                <a:chExt cx="1484280" cy="431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477200" y="4464000"/>
                  <a:ext cx="1484280" cy="3600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Arial"/>
                    </a:rPr>
                    <a:t>CS – BMT Pilot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77200" y="4392720"/>
                  <a:ext cx="1484280" cy="7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7477200" y="5059440"/>
                <a:ext cx="1488960" cy="64692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OAS-MI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Arial"/>
                  </a:rPr>
                  <a:t>CS-BM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8240760" y="4831920"/>
                <a:ext cx="0" cy="2314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4924440" y="3672000"/>
              <a:ext cx="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103720" y="3672000"/>
              <a:ext cx="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24440" y="3672000"/>
              <a:ext cx="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6004080" y="3672000"/>
              <a:ext cx="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39040" y="3659040"/>
              <a:ext cx="134928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6943680" y="3659040"/>
              <a:ext cx="134928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02840" y="3855960"/>
              <a:ext cx="20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3366"/>
                  </a:solidFill>
                  <a:latin typeface="Arial"/>
                </a:rPr>
                <a:t>Cat.Search Interf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461680" y="3672000"/>
              <a:ext cx="134964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867040" y="3672000"/>
              <a:ext cx="1349280" cy="72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299120" y="324180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S-casca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roblem statement of a Civil Protection or Environmental Agency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276960" cy="425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360" y="5445000"/>
            <a:ext cx="41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Frutiger 55 Roman"/>
              </a:rPr>
              <a:t>Quelle: http://iapf.physik.tu-berlin.de/DZ/dickow/Pyrenaeen/Karte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76360" y="1268280"/>
            <a:ext cx="4032360" cy="2544840"/>
            <a:chOff x="1476360" y="1268280"/>
            <a:chExt cx="4032360" cy="254484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476360" y="1268280"/>
              <a:ext cx="381636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619280" y="148428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Frutiger 45 Light"/>
                </a:rPr>
                <a:t>How big is the </a:t>
              </a:r>
              <a:r>
                <a:rPr b="1" lang="en-GB" sz="2400" spc="-1" strike="noStrike">
                  <a:solidFill>
                    <a:srgbClr val="ffff00"/>
                  </a:solidFill>
                  <a:latin typeface="Frutiger 45 Light"/>
                </a:rPr>
                <a:t>risk</a:t>
              </a:r>
              <a:r>
                <a:rPr b="0" lang="en-GB" sz="2400" spc="-1" strike="noStrike">
                  <a:solidFill>
                    <a:srgbClr val="ffffff"/>
                  </a:solidFill>
                  <a:latin typeface="Frutiger 45 Light"/>
                </a:rPr>
                <a:t> of a </a:t>
              </a:r>
              <a:r>
                <a:rPr b="1" lang="en-GB" sz="2400" spc="-1" strike="noStrike">
                  <a:solidFill>
                    <a:srgbClr val="ffff00"/>
                  </a:solidFill>
                  <a:latin typeface="Frutiger 45 Light"/>
                </a:rPr>
                <a:t>forest fire</a:t>
              </a:r>
              <a:r>
                <a:rPr b="0" lang="en-GB" sz="2400" spc="-1" strike="noStrike">
                  <a:solidFill>
                    <a:srgbClr val="ffffff"/>
                  </a:solidFill>
                  <a:latin typeface="Frutiger 45 Light"/>
                </a:rPr>
                <a:t> in a certain </a:t>
              </a:r>
              <a:r>
                <a:rPr b="1" lang="en-GB" sz="2400" spc="-1" strike="noStrike">
                  <a:solidFill>
                    <a:srgbClr val="ffff00"/>
                  </a:solidFill>
                  <a:latin typeface="Frutiger 45 Light"/>
                </a:rPr>
                <a:t>region of the Pyrenees</a:t>
              </a:r>
              <a:br>
                <a:rPr sz="2400"/>
              </a:br>
              <a:r>
                <a:rPr b="0" lang="en-GB" sz="2400" spc="-1" strike="noStrike">
                  <a:solidFill>
                    <a:srgbClr val="ffffff"/>
                  </a:solidFill>
                  <a:latin typeface="Frutiger 45 Light"/>
                </a:rPr>
                <a:t>in a given </a:t>
              </a:r>
              <a:r>
                <a:rPr b="1" lang="en-GB" sz="2400" spc="-1" strike="noStrike">
                  <a:solidFill>
                    <a:srgbClr val="ffff00"/>
                  </a:solidFill>
                  <a:latin typeface="Frutiger 45 Light"/>
                </a:rPr>
                <a:t>season</a:t>
              </a:r>
              <a:r>
                <a:rPr b="0" lang="en-GB" sz="2400" spc="-1" strike="noStrike">
                  <a:solidFill>
                    <a:srgbClr val="ffffff"/>
                  </a:solidFill>
                  <a:latin typeface="Frutiger 45 Light"/>
                </a:rPr>
                <a:t> ?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276720" y="4292640"/>
            <a:ext cx="2449440" cy="1152360"/>
          </a:xfrm>
          <a:prstGeom prst="wedgeRoundRectCallout">
            <a:avLst>
              <a:gd name="adj1" fmla="val -25564"/>
              <a:gd name="adj2" fmla="val -170250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mporal ref.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ime series and prognost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000" y="4221000"/>
            <a:ext cx="2692440" cy="1152720"/>
          </a:xfrm>
          <a:prstGeom prst="wedgeRoundRectCallout">
            <a:avLst>
              <a:gd name="adj1" fmla="val 27712"/>
              <a:gd name="adj2" fmla="val -19820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patial ref.: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ross-border, cross-administ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59280" y="2492280"/>
            <a:ext cx="3384720" cy="2017800"/>
          </a:xfrm>
          <a:prstGeom prst="wedgeRoundRectCallout">
            <a:avLst>
              <a:gd name="adj1" fmla="val -133444"/>
              <a:gd name="adj2" fmla="val -65972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matic ref.: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orest Fire – Vegetation – Geology – Cartography – Meteorology – Settlements – Industry – Traffic - ..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86280" y="819000"/>
            <a:ext cx="2881440" cy="792360"/>
          </a:xfrm>
          <a:prstGeom prst="wedgeRoundRectCallout">
            <a:avLst>
              <a:gd name="adj1" fmla="val -103111"/>
              <a:gd name="adj2" fmla="val 54810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nceptual ref.: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s a risk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216000" y="1158840"/>
            <a:ext cx="2057040" cy="2582640"/>
            <a:chOff x="216000" y="1158840"/>
            <a:chExt cx="2057040" cy="258264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216000" y="1158840"/>
              <a:ext cx="2043360" cy="14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2"/>
            <a:stretch/>
          </p:blipFill>
          <p:spPr>
            <a:xfrm>
              <a:off x="229320" y="2564640"/>
              <a:ext cx="2043720" cy="117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1341360" y="1393920"/>
            <a:ext cx="7155000" cy="2090520"/>
            <a:chOff x="1341360" y="1393920"/>
            <a:chExt cx="7155000" cy="2090520"/>
          </a:xfrm>
        </p:grpSpPr>
        <p:grpSp>
          <p:nvGrpSpPr>
            <p:cNvPr id="669" name=""/>
            <p:cNvGrpSpPr/>
            <p:nvPr/>
          </p:nvGrpSpPr>
          <p:grpSpPr>
            <a:xfrm>
              <a:off x="1341360" y="1393920"/>
              <a:ext cx="7155000" cy="2090520"/>
              <a:chOff x="1341360" y="1393920"/>
              <a:chExt cx="7155000" cy="209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6103800" y="1698480"/>
                <a:ext cx="1079640" cy="303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586560" y="1457280"/>
                <a:ext cx="507960" cy="2653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64240" y="2679840"/>
                <a:ext cx="812880" cy="28872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02600" y="2179800"/>
                <a:ext cx="1193760" cy="28872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778040" y="3284640"/>
                <a:ext cx="203040" cy="19980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97160" y="3009960"/>
                <a:ext cx="241200" cy="22536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1360" y="1393920"/>
                <a:ext cx="216000" cy="2016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2004840" y="1895400"/>
              <a:ext cx="2059200" cy="452160"/>
              <a:chOff x="2004840" y="1895400"/>
              <a:chExt cx="2059200" cy="452160"/>
            </a:xfrm>
          </p:grpSpPr>
          <p:sp>
            <p:nvSpPr>
              <p:cNvPr id="678" name=""/>
              <p:cNvSpPr/>
              <p:nvPr/>
            </p:nvSpPr>
            <p:spPr>
              <a:xfrm>
                <a:off x="2004840" y="1895400"/>
                <a:ext cx="2059200" cy="452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26800" y="1973160"/>
                <a:ext cx="202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3366"/>
                    </a:solidFill>
                    <a:latin typeface="Arial"/>
                  </a:rPr>
                  <a:t>Annotation Service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149720" y="2130480"/>
              <a:ext cx="5904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343160" y="2117880"/>
              <a:ext cx="5904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430880" y="3448080"/>
            <a:ext cx="0" cy="554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523200" y="32446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803680" y="4159080"/>
            <a:ext cx="1009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28880" y="43149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55760" y="343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88360" y="348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41000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940360" y="349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832200" y="5230800"/>
            <a:ext cx="1141560" cy="431280"/>
            <a:chOff x="3832200" y="5230800"/>
            <a:chExt cx="1141560" cy="431280"/>
          </a:xfrm>
        </p:grpSpPr>
        <p:sp>
          <p:nvSpPr>
            <p:cNvPr id="691" name=""/>
            <p:cNvSpPr/>
            <p:nvPr/>
          </p:nvSpPr>
          <p:spPr>
            <a:xfrm>
              <a:off x="3832200" y="5302080"/>
              <a:ext cx="1141560" cy="360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OGC-IS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2200" y="5230800"/>
              <a:ext cx="114156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22800" y="5230800"/>
            <a:ext cx="1332000" cy="431280"/>
            <a:chOff x="5122800" y="5230800"/>
            <a:chExt cx="1332000" cy="431280"/>
          </a:xfrm>
        </p:grpSpPr>
        <p:sp>
          <p:nvSpPr>
            <p:cNvPr id="694" name=""/>
            <p:cNvSpPr/>
            <p:nvPr/>
          </p:nvSpPr>
          <p:spPr>
            <a:xfrm>
              <a:off x="5122800" y="5302080"/>
              <a:ext cx="1332000" cy="360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OGC-ebRIM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22800" y="5230800"/>
              <a:ext cx="133200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605640" y="5243400"/>
            <a:ext cx="988920" cy="432000"/>
            <a:chOff x="6605640" y="5243400"/>
            <a:chExt cx="988920" cy="432000"/>
          </a:xfrm>
        </p:grpSpPr>
        <p:sp>
          <p:nvSpPr>
            <p:cNvPr id="697" name=""/>
            <p:cNvSpPr/>
            <p:nvPr/>
          </p:nvSpPr>
          <p:spPr>
            <a:xfrm>
              <a:off x="6605640" y="5315040"/>
              <a:ext cx="98892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UDD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05640" y="5243400"/>
              <a:ext cx="98892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731000" y="5243400"/>
            <a:ext cx="1166760" cy="432000"/>
            <a:chOff x="7731000" y="5243400"/>
            <a:chExt cx="1166760" cy="432000"/>
          </a:xfrm>
        </p:grpSpPr>
        <p:sp>
          <p:nvSpPr>
            <p:cNvPr id="700" name=""/>
            <p:cNvSpPr/>
            <p:nvPr/>
          </p:nvSpPr>
          <p:spPr>
            <a:xfrm>
              <a:off x="7731000" y="5315040"/>
              <a:ext cx="116676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Google-lik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31000" y="5243400"/>
              <a:ext cx="116676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495760" y="451008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726160" y="449748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46880" y="4497480"/>
            <a:ext cx="380880" cy="733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626160" y="4484520"/>
            <a:ext cx="393840" cy="733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92840" y="4510080"/>
            <a:ext cx="134928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7172280" y="4497480"/>
            <a:ext cx="134928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German Bight Pilot / Semantic Catalogu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915120" y="3879720"/>
            <a:ext cx="1893600" cy="667800"/>
            <a:chOff x="915120" y="3879720"/>
            <a:chExt cx="1893600" cy="667800"/>
          </a:xfrm>
        </p:grpSpPr>
        <p:sp>
          <p:nvSpPr>
            <p:cNvPr id="710" name=""/>
            <p:cNvSpPr/>
            <p:nvPr/>
          </p:nvSpPr>
          <p:spPr>
            <a:xfrm>
              <a:off x="930240" y="3879720"/>
              <a:ext cx="1839960" cy="622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15120" y="390492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Ontology Access</a:t>
              </a:r>
              <a:br>
                <a:rPr sz="1800"/>
              </a:b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 flipH="1">
            <a:off x="2728440" y="4497480"/>
            <a:ext cx="134964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121200" y="4484520"/>
            <a:ext cx="134928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857760" y="4006800"/>
            <a:ext cx="3382560" cy="482760"/>
            <a:chOff x="3857760" y="4006800"/>
            <a:chExt cx="3382560" cy="482760"/>
          </a:xfrm>
        </p:grpSpPr>
        <p:sp>
          <p:nvSpPr>
            <p:cNvPr id="715" name=""/>
            <p:cNvSpPr/>
            <p:nvPr/>
          </p:nvSpPr>
          <p:spPr>
            <a:xfrm>
              <a:off x="3857760" y="4006800"/>
              <a:ext cx="3382560" cy="48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5600" y="4025160"/>
              <a:ext cx="306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Semantic Catalogue Servic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498760" y="5243400"/>
            <a:ext cx="1141200" cy="432000"/>
            <a:chOff x="2498760" y="5243400"/>
            <a:chExt cx="1141200" cy="432000"/>
          </a:xfrm>
        </p:grpSpPr>
        <p:sp>
          <p:nvSpPr>
            <p:cNvPr id="718" name=""/>
            <p:cNvSpPr/>
            <p:nvPr/>
          </p:nvSpPr>
          <p:spPr>
            <a:xfrm>
              <a:off x="2498760" y="5315040"/>
              <a:ext cx="11412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366"/>
                  </a:solidFill>
                  <a:latin typeface="Arial"/>
                </a:rPr>
                <a:t>OAS-M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8760" y="5243400"/>
              <a:ext cx="114120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 flipH="1">
            <a:off x="4338720" y="4510080"/>
            <a:ext cx="380880" cy="733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518000" y="4497120"/>
            <a:ext cx="393840" cy="733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089080" y="1398600"/>
            <a:ext cx="6711840" cy="2026800"/>
            <a:chOff x="2089080" y="1398600"/>
            <a:chExt cx="6711840" cy="2026800"/>
          </a:xfrm>
        </p:grpSpPr>
        <p:pic>
          <p:nvPicPr>
            <p:cNvPr id="723" name="" descr=""/>
            <p:cNvPicPr/>
            <p:nvPr/>
          </p:nvPicPr>
          <p:blipFill>
            <a:blip r:embed="rId3"/>
            <a:stretch/>
          </p:blipFill>
          <p:spPr>
            <a:xfrm>
              <a:off x="2089080" y="2509920"/>
              <a:ext cx="1538280" cy="77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4" name=""/>
            <p:cNvGrpSpPr/>
            <p:nvPr/>
          </p:nvGrpSpPr>
          <p:grpSpPr>
            <a:xfrm>
              <a:off x="3243240" y="3019320"/>
              <a:ext cx="1424880" cy="406080"/>
              <a:chOff x="3243240" y="3019320"/>
              <a:chExt cx="1424880" cy="406080"/>
            </a:xfrm>
          </p:grpSpPr>
          <p:sp>
            <p:nvSpPr>
              <p:cNvPr id="725" name=""/>
              <p:cNvSpPr/>
              <p:nvPr/>
            </p:nvSpPr>
            <p:spPr>
              <a:xfrm>
                <a:off x="3290760" y="3019320"/>
                <a:ext cx="1333440" cy="406080"/>
              </a:xfrm>
              <a:prstGeom prst="bevel">
                <a:avLst>
                  <a:gd name="adj" fmla="val 12500"/>
                </a:avLst>
              </a:prstGeom>
              <a:solidFill>
                <a:srgbClr val="ff66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3240" y="3078360"/>
                <a:ext cx="1424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600" spc="-1" strike="noStrike">
                    <a:solidFill>
                      <a:srgbClr val="003366"/>
                    </a:solidFill>
                    <a:latin typeface="Arial"/>
                  </a:rPr>
                  <a:t>Background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829040" y="1398600"/>
              <a:ext cx="3971880" cy="1768320"/>
              <a:chOff x="4829040" y="1398600"/>
              <a:chExt cx="3971880" cy="1768320"/>
            </a:xfrm>
          </p:grpSpPr>
          <p:sp>
            <p:nvSpPr>
              <p:cNvPr id="728" name=""/>
              <p:cNvSpPr/>
              <p:nvPr/>
            </p:nvSpPr>
            <p:spPr>
              <a:xfrm>
                <a:off x="4829040" y="1398600"/>
                <a:ext cx="3717720" cy="1768320"/>
              </a:xfrm>
              <a:prstGeom prst="flowChartDocument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86280" y="1455480"/>
                <a:ext cx="39146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... Too high level ...TBT concentration 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caused by ... antifoulant paintings ...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of ship hulls ... simulation has turned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out ... areas ... imposex of gastropodes has been observed...  To the biggest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3366"/>
                    </a:solidFill>
                    <a:latin typeface="Arial"/>
                  </a:rPr>
                  <a:t>class of molluscs ... 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24000" y="333360"/>
            <a:ext cx="835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Application for Sensor Service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580080" cy="2763720"/>
          </a:xfrm>
          <a:prstGeom prst="rect">
            <a:avLst/>
          </a:prstGeom>
          <a:ln w="0">
            <a:noFill/>
          </a:ln>
        </p:spPr>
      </p:pic>
      <p:grpSp>
        <p:nvGrpSpPr>
          <p:cNvPr id="732" name=""/>
          <p:cNvGrpSpPr/>
          <p:nvPr/>
        </p:nvGrpSpPr>
        <p:grpSpPr>
          <a:xfrm>
            <a:off x="324000" y="692280"/>
            <a:ext cx="6912000" cy="5088600"/>
            <a:chOff x="324000" y="692280"/>
            <a:chExt cx="6912000" cy="5088600"/>
          </a:xfrm>
        </p:grpSpPr>
        <p:sp>
          <p:nvSpPr>
            <p:cNvPr id="733" name=""/>
            <p:cNvSpPr/>
            <p:nvPr/>
          </p:nvSpPr>
          <p:spPr>
            <a:xfrm>
              <a:off x="324000" y="4149720"/>
              <a:ext cx="1800000" cy="16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Thematic dat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Spatial dat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Meta-informatio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32000" y="83664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Analys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24360" y="692280"/>
              <a:ext cx="1511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Info Centr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763640" y="1125360"/>
              <a:ext cx="4892760" cy="4159080"/>
              <a:chOff x="1763640" y="1125360"/>
              <a:chExt cx="4892760" cy="415908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1763640" y="4581360"/>
                <a:ext cx="911160" cy="703080"/>
                <a:chOff x="1763640" y="4581360"/>
                <a:chExt cx="911160" cy="703080"/>
              </a:xfrm>
            </p:grpSpPr>
            <p:pic>
              <p:nvPicPr>
                <p:cNvPr id="73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4581360"/>
                  <a:ext cx="911160" cy="70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9" name=""/>
                <p:cNvSpPr/>
                <p:nvPr/>
              </p:nvSpPr>
              <p:spPr>
                <a:xfrm>
                  <a:off x="1906560" y="4625640"/>
                  <a:ext cx="330120" cy="297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050920" y="4775040"/>
                  <a:ext cx="328680" cy="29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93840" y="4922640"/>
                  <a:ext cx="330120" cy="2984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1197000"/>
                <a:ext cx="673200" cy="72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4720" y="1125360"/>
                <a:ext cx="57168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flipV="1">
                <a:off x="2268360" y="4149360"/>
                <a:ext cx="432000" cy="4316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87640" y="1916280"/>
                <a:ext cx="144360" cy="2174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84720" y="1700280"/>
                <a:ext cx="216000" cy="216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4140360" y="765000"/>
            <a:ext cx="4543200" cy="4791600"/>
            <a:chOff x="4140360" y="765000"/>
            <a:chExt cx="4543200" cy="4791600"/>
          </a:xfrm>
        </p:grpSpPr>
        <p:sp>
          <p:nvSpPr>
            <p:cNvPr id="748" name=""/>
            <p:cNvSpPr/>
            <p:nvPr/>
          </p:nvSpPr>
          <p:spPr>
            <a:xfrm>
              <a:off x="6588000" y="515772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Sensor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40360" y="765000"/>
              <a:ext cx="1008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Map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4211640" y="1125360"/>
              <a:ext cx="4471920" cy="3708720"/>
              <a:chOff x="4211640" y="1125360"/>
              <a:chExt cx="4471920" cy="3708720"/>
            </a:xfrm>
          </p:grpSpPr>
          <p:pic>
            <p:nvPicPr>
              <p:cNvPr id="75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1640" y="1125360"/>
                <a:ext cx="947880" cy="57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172360" y="4005360"/>
                <a:ext cx="51120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"/>
              <p:cNvSpPr/>
              <p:nvPr/>
            </p:nvSpPr>
            <p:spPr>
              <a:xfrm flipH="1" flipV="1">
                <a:off x="7956720" y="3933360"/>
                <a:ext cx="287280" cy="358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716360" y="1628640"/>
                <a:ext cx="71640" cy="216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2627280" y="1125360"/>
            <a:ext cx="6121440" cy="4647240"/>
            <a:chOff x="2627280" y="1125360"/>
            <a:chExt cx="6121440" cy="4647240"/>
          </a:xfrm>
        </p:grpSpPr>
        <p:sp>
          <p:nvSpPr>
            <p:cNvPr id="756" name=""/>
            <p:cNvSpPr/>
            <p:nvPr/>
          </p:nvSpPr>
          <p:spPr>
            <a:xfrm>
              <a:off x="2627280" y="537372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Document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96360" y="1125360"/>
              <a:ext cx="1152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Archiv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059280" y="4581360"/>
              <a:ext cx="645840" cy="860760"/>
              <a:chOff x="3059280" y="4581360"/>
              <a:chExt cx="645840" cy="860760"/>
            </a:xfrm>
          </p:grpSpPr>
          <p:pic>
            <p:nvPicPr>
              <p:cNvPr id="7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59280" y="4581360"/>
                <a:ext cx="645840" cy="86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07760" y="4855320"/>
                <a:ext cx="21744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Documents"/>
              <p:cNvSpPr/>
              <p:nvPr/>
            </p:nvSpPr>
            <p:spPr>
              <a:xfrm>
                <a:off x="3184560" y="4722480"/>
                <a:ext cx="192600" cy="3369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762" name="" descr=""/>
            <p:cNvPicPr/>
            <p:nvPr/>
          </p:nvPicPr>
          <p:blipFill>
            <a:blip r:embed="rId9"/>
            <a:stretch/>
          </p:blipFill>
          <p:spPr>
            <a:xfrm>
              <a:off x="7380360" y="1484280"/>
              <a:ext cx="7729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flipV="1">
              <a:off x="3708360" y="4508640"/>
              <a:ext cx="358920" cy="50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596000" y="2133720"/>
              <a:ext cx="21564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0920" y="1341360"/>
            <a:ext cx="7700760" cy="4200480"/>
            <a:chOff x="250920" y="1341360"/>
            <a:chExt cx="7700760" cy="4200480"/>
          </a:xfrm>
        </p:grpSpPr>
        <p:sp>
          <p:nvSpPr>
            <p:cNvPr id="766" name=""/>
            <p:cNvSpPr/>
            <p:nvPr/>
          </p:nvSpPr>
          <p:spPr>
            <a:xfrm>
              <a:off x="250920" y="184464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Control centr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10"/>
            <a:stretch/>
          </p:blipFill>
          <p:spPr>
            <a:xfrm>
              <a:off x="5724360" y="4941720"/>
              <a:ext cx="7542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11"/>
            <a:stretch/>
          </p:blipFill>
          <p:spPr>
            <a:xfrm>
              <a:off x="7164360" y="4508640"/>
              <a:ext cx="78732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12"/>
            <a:stretch/>
          </p:blipFill>
          <p:spPr>
            <a:xfrm>
              <a:off x="900000" y="1341360"/>
              <a:ext cx="100800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1692360" y="1916280"/>
              <a:ext cx="647640" cy="649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164360" y="4292280"/>
              <a:ext cx="216000" cy="431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5867280" y="4508280"/>
              <a:ext cx="144720" cy="43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5580000" y="2349360"/>
            <a:ext cx="1600920" cy="970200"/>
            <a:chOff x="5580000" y="2349360"/>
            <a:chExt cx="1600920" cy="970200"/>
          </a:xfrm>
        </p:grpSpPr>
        <p:grpSp>
          <p:nvGrpSpPr>
            <p:cNvPr id="774" name=""/>
            <p:cNvGrpSpPr/>
            <p:nvPr/>
          </p:nvGrpSpPr>
          <p:grpSpPr>
            <a:xfrm>
              <a:off x="5846760" y="2492280"/>
              <a:ext cx="1334160" cy="827280"/>
              <a:chOff x="5846760" y="2492280"/>
              <a:chExt cx="1334160" cy="827280"/>
            </a:xfrm>
          </p:grpSpPr>
          <p:pic>
            <p:nvPicPr>
              <p:cNvPr id="7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46760" y="2492280"/>
                <a:ext cx="122292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91360" y="2781360"/>
                <a:ext cx="889560" cy="53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7" name=""/>
            <p:cNvSpPr/>
            <p:nvPr/>
          </p:nvSpPr>
          <p:spPr>
            <a:xfrm>
              <a:off x="5580000" y="2349360"/>
              <a:ext cx="12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Frutiger 45 Light"/>
                </a:rPr>
                <a:t>Catalog(s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367000" y="2421000"/>
            <a:ext cx="1844280" cy="1439640"/>
            <a:chOff x="2367000" y="2421000"/>
            <a:chExt cx="1844280" cy="1439640"/>
          </a:xfrm>
        </p:grpSpPr>
        <p:sp>
          <p:nvSpPr>
            <p:cNvPr id="779" name=""/>
            <p:cNvSpPr/>
            <p:nvPr/>
          </p:nvSpPr>
          <p:spPr>
            <a:xfrm>
              <a:off x="2458080" y="2421000"/>
              <a:ext cx="175320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Frutiger 45 Light"/>
                </a:rPr>
                <a:t>Knowledge Base(s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15"/>
            <a:stretch/>
          </p:blipFill>
          <p:spPr>
            <a:xfrm>
              <a:off x="2367000" y="3048120"/>
              <a:ext cx="107172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1" name=""/>
          <p:cNvSpPr/>
          <p:nvPr/>
        </p:nvSpPr>
        <p:spPr>
          <a:xfrm>
            <a:off x="1916280" y="1898640"/>
            <a:ext cx="6435720" cy="261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20329200">
            <a:off x="4975200" y="3924360"/>
            <a:ext cx="3735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GC Sensor Web Enabl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81280" y="2394000"/>
            <a:ext cx="1395360" cy="703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odelling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86280" y="2214720"/>
            <a:ext cx="220500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usion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85" name=""/>
          <p:cNvCxnSpPr>
            <a:stCxn id="783" idx="3"/>
            <a:endCxn id="784" idx="2"/>
          </p:cNvCxnSpPr>
          <p:nvPr/>
        </p:nvCxnSpPr>
        <p:spPr>
          <a:xfrm flipV="1">
            <a:off x="4076640" y="2620800"/>
            <a:ext cx="1913760" cy="1292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786" name=""/>
          <p:cNvCxnSpPr>
            <a:stCxn id="784" idx="2"/>
            <a:endCxn id="782" idx="0"/>
          </p:cNvCxnSpPr>
          <p:nvPr/>
        </p:nvCxnSpPr>
        <p:spPr>
          <a:xfrm>
            <a:off x="5989320" y="2620800"/>
            <a:ext cx="781560" cy="131652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787" name=""/>
          <p:cNvCxnSpPr>
            <a:stCxn id="783" idx="3"/>
            <a:endCxn id="782" idx="0"/>
          </p:cNvCxnSpPr>
          <p:nvPr/>
        </p:nvCxnSpPr>
        <p:spPr>
          <a:xfrm>
            <a:off x="4076280" y="2749680"/>
            <a:ext cx="2694600" cy="11876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pic>
        <p:nvPicPr>
          <p:cNvPr id="788" name="" descr=""/>
          <p:cNvPicPr/>
          <p:nvPr/>
        </p:nvPicPr>
        <p:blipFill>
          <a:blip r:embed="rId16"/>
          <a:stretch/>
        </p:blipFill>
        <p:spPr>
          <a:xfrm>
            <a:off x="4122720" y="3114720"/>
            <a:ext cx="2232000" cy="87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314360"/>
            <a:ext cx="813744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ts val="2500"/>
              </a:lnSpc>
              <a:spcAft>
                <a:spcPts val="624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Reference Model will influence standard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624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ublic specifications, open-source software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624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ntribution to EU initiative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624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Integration in Earth Observation Portal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190440" indent="-190440">
              <a:lnSpc>
                <a:spcPts val="2500"/>
              </a:lnSpc>
              <a:spcAft>
                <a:spcPts val="624"/>
              </a:spcAft>
              <a:buClr>
                <a:srgbClr val="197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rchitecture reused in other EU Projects (SANY, FP7)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Benefits of ORCHESTRA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356000" y="3429000"/>
            <a:ext cx="4289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289080"/>
                <a:tab algn="l" pos="571680"/>
                <a:tab algn="l" pos="579600"/>
                <a:tab algn="l" pos="3246480"/>
                <a:tab algn="l" pos="3521160"/>
                <a:tab algn="l" pos="380988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Frutiger 55 Roman"/>
              </a:rPr>
              <a:t>Business Unit „Information Management“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a68c"/>
              </a:buClr>
              <a:buFont typeface="Frutiger 55 Roman"/>
              <a:buChar char="•"/>
              <a:tabLst>
                <a:tab algn="l" pos="289080"/>
                <a:tab algn="l" pos="571680"/>
                <a:tab algn="l" pos="579600"/>
                <a:tab algn="l" pos="3246480"/>
                <a:tab algn="l" pos="3521160"/>
                <a:tab algn="l" pos="380988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  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Information and Knowledge Logistic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a68c"/>
              </a:buClr>
              <a:buFont typeface="Frutiger 55 Roman"/>
              <a:buChar char="•"/>
              <a:tabLst>
                <a:tab algn="l" pos="289080"/>
                <a:tab algn="l" pos="571680"/>
                <a:tab algn="l" pos="579600"/>
                <a:tab algn="l" pos="3246480"/>
                <a:tab algn="l" pos="3521160"/>
                <a:tab algn="l" pos="380988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Thematic Information Systems 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    (Environmen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a68c"/>
              </a:buClr>
              <a:buFont typeface="Frutiger 55 Roman"/>
              <a:buChar char="•"/>
              <a:tabLst>
                <a:tab algn="l" pos="289080"/>
                <a:tab algn="l" pos="571680"/>
                <a:tab algn="l" pos="579600"/>
                <a:tab algn="l" pos="3246480"/>
                <a:tab algn="l" pos="3521160"/>
                <a:tab algn="l" pos="380988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 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Simulation Sys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a68c"/>
              </a:buClr>
              <a:buFont typeface="Frutiger 55 Roman"/>
              <a:buChar char="•"/>
              <a:tabLst>
                <a:tab algn="l" pos="289080"/>
                <a:tab algn="l" pos="571680"/>
                <a:tab algn="l" pos="579600"/>
                <a:tab algn="l" pos="3246480"/>
                <a:tab algn="l" pos="3521160"/>
                <a:tab algn="l" pos="380988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Frutiger 55 Roman"/>
              </a:rPr>
              <a:t>IT consult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1193760"/>
            <a:ext cx="341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THANK YOU</a:t>
            </a:r>
            <a:br>
              <a:rPr sz="3600"/>
            </a:b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FOR YOUR</a:t>
            </a:r>
            <a:br>
              <a:rPr sz="3600"/>
            </a:b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ATTEN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4360" y="4005360"/>
            <a:ext cx="3466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Ulrich Bügel</a:t>
            </a:r>
            <a:br>
              <a:rPr sz="2400"/>
            </a:b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Fraunhofer IITB, Fraunhoferstr.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76131 Karlsruhe, Germ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e-mail: buegel@iitb.fraunhofer.d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4441680" y="1247760"/>
            <a:ext cx="3130560" cy="15559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66720" y="326880"/>
            <a:ext cx="8339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Arial"/>
              </a:rPr>
              <a:t>Fraunhofer IITB - Innovative IT Solu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835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ORCHESTRA Architectural Appro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580080" cy="2763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24000" y="692280"/>
            <a:ext cx="6912000" cy="5088600"/>
            <a:chOff x="324000" y="692280"/>
            <a:chExt cx="6912000" cy="5088600"/>
          </a:xfrm>
        </p:grpSpPr>
        <p:sp>
          <p:nvSpPr>
            <p:cNvPr id="102" name=""/>
            <p:cNvSpPr/>
            <p:nvPr/>
          </p:nvSpPr>
          <p:spPr>
            <a:xfrm>
              <a:off x="324000" y="4149720"/>
              <a:ext cx="1800000" cy="16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Thematic dat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Spatial dat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Meta-informatio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2000" y="83664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Analys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4360" y="692280"/>
              <a:ext cx="1511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Info Centr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763640" y="1125360"/>
              <a:ext cx="4892760" cy="4159080"/>
              <a:chOff x="1763640" y="1125360"/>
              <a:chExt cx="4892760" cy="41590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763640" y="4581360"/>
                <a:ext cx="911160" cy="703080"/>
                <a:chOff x="1763640" y="4581360"/>
                <a:chExt cx="911160" cy="7030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4581360"/>
                  <a:ext cx="911160" cy="70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1906560" y="4625640"/>
                  <a:ext cx="330120" cy="297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050920" y="4775040"/>
                  <a:ext cx="328680" cy="29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93840" y="4922640"/>
                  <a:ext cx="330120" cy="2984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1197000"/>
                <a:ext cx="673200" cy="72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4720" y="1125360"/>
                <a:ext cx="57168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flipV="1">
                <a:off x="2268360" y="4149360"/>
                <a:ext cx="432000" cy="4316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7640" y="1916280"/>
                <a:ext cx="144360" cy="2174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6084720" y="1700280"/>
                <a:ext cx="216000" cy="216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140360" y="765000"/>
            <a:ext cx="4543200" cy="4791600"/>
            <a:chOff x="4140360" y="765000"/>
            <a:chExt cx="4543200" cy="4791600"/>
          </a:xfrm>
        </p:grpSpPr>
        <p:sp>
          <p:nvSpPr>
            <p:cNvPr id="117" name=""/>
            <p:cNvSpPr/>
            <p:nvPr/>
          </p:nvSpPr>
          <p:spPr>
            <a:xfrm>
              <a:off x="6588000" y="515772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Sensor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40360" y="765000"/>
              <a:ext cx="1008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Map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211640" y="1125360"/>
              <a:ext cx="4471920" cy="3708720"/>
              <a:chOff x="4211640" y="1125360"/>
              <a:chExt cx="4471920" cy="3708720"/>
            </a:xfrm>
          </p:grpSpPr>
          <p:pic>
            <p:nvPicPr>
              <p:cNvPr id="1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1640" y="1125360"/>
                <a:ext cx="947880" cy="57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172360" y="4005360"/>
                <a:ext cx="51120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 flipH="1" flipV="1">
                <a:off x="7956720" y="3933360"/>
                <a:ext cx="287280" cy="358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16360" y="1628640"/>
                <a:ext cx="71640" cy="216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2627280" y="1125360"/>
            <a:ext cx="6121440" cy="4647240"/>
            <a:chOff x="2627280" y="1125360"/>
            <a:chExt cx="6121440" cy="4647240"/>
          </a:xfrm>
        </p:grpSpPr>
        <p:sp>
          <p:nvSpPr>
            <p:cNvPr id="125" name=""/>
            <p:cNvSpPr/>
            <p:nvPr/>
          </p:nvSpPr>
          <p:spPr>
            <a:xfrm>
              <a:off x="2627280" y="537372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Document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96360" y="1125360"/>
              <a:ext cx="1152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Archiv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059280" y="4581360"/>
              <a:ext cx="645840" cy="860760"/>
              <a:chOff x="3059280" y="4581360"/>
              <a:chExt cx="645840" cy="8607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59280" y="4581360"/>
                <a:ext cx="645840" cy="86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07760" y="4855320"/>
                <a:ext cx="21744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Documents"/>
              <p:cNvSpPr/>
              <p:nvPr/>
            </p:nvSpPr>
            <p:spPr>
              <a:xfrm>
                <a:off x="3184560" y="4722480"/>
                <a:ext cx="192600" cy="3369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7380360" y="1484280"/>
              <a:ext cx="7729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V="1">
              <a:off x="3708360" y="4508640"/>
              <a:ext cx="358920" cy="50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596000" y="2133720"/>
              <a:ext cx="21564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50920" y="1341360"/>
            <a:ext cx="7700760" cy="4200480"/>
            <a:chOff x="250920" y="1341360"/>
            <a:chExt cx="7700760" cy="4200480"/>
          </a:xfrm>
        </p:grpSpPr>
        <p:sp>
          <p:nvSpPr>
            <p:cNvPr id="135" name=""/>
            <p:cNvSpPr/>
            <p:nvPr/>
          </p:nvSpPr>
          <p:spPr>
            <a:xfrm>
              <a:off x="250920" y="184464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Control centr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5724360" y="4941720"/>
              <a:ext cx="7542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1"/>
            <a:stretch/>
          </p:blipFill>
          <p:spPr>
            <a:xfrm>
              <a:off x="7164360" y="4508640"/>
              <a:ext cx="78732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2"/>
            <a:stretch/>
          </p:blipFill>
          <p:spPr>
            <a:xfrm>
              <a:off x="900000" y="1341360"/>
              <a:ext cx="100800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692360" y="1916280"/>
              <a:ext cx="647640" cy="649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164360" y="4292280"/>
              <a:ext cx="216000" cy="431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5867280" y="4508280"/>
              <a:ext cx="144720" cy="43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2349360"/>
            <a:ext cx="1600920" cy="970200"/>
            <a:chOff x="5580000" y="2349360"/>
            <a:chExt cx="1600920" cy="970200"/>
          </a:xfrm>
        </p:grpSpPr>
        <p:grpSp>
          <p:nvGrpSpPr>
            <p:cNvPr id="143" name=""/>
            <p:cNvGrpSpPr/>
            <p:nvPr/>
          </p:nvGrpSpPr>
          <p:grpSpPr>
            <a:xfrm>
              <a:off x="5846760" y="2492280"/>
              <a:ext cx="1334160" cy="827280"/>
              <a:chOff x="5846760" y="2492280"/>
              <a:chExt cx="1334160" cy="827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46760" y="2492280"/>
                <a:ext cx="122292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91360" y="2781360"/>
                <a:ext cx="889560" cy="53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>
              <a:off x="5580000" y="2349360"/>
              <a:ext cx="12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Frutiger 45 Light"/>
                </a:rPr>
                <a:t>Catalog(s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67000" y="2421000"/>
            <a:ext cx="1844280" cy="1439640"/>
            <a:chOff x="2367000" y="2421000"/>
            <a:chExt cx="1844280" cy="1439640"/>
          </a:xfrm>
        </p:grpSpPr>
        <p:sp>
          <p:nvSpPr>
            <p:cNvPr id="148" name=""/>
            <p:cNvSpPr/>
            <p:nvPr/>
          </p:nvSpPr>
          <p:spPr>
            <a:xfrm>
              <a:off x="2458080" y="2421000"/>
              <a:ext cx="175320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Frutiger 45 Light"/>
                </a:rPr>
                <a:t>Knowledge Base(s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5"/>
            <a:stretch/>
          </p:blipFill>
          <p:spPr>
            <a:xfrm>
              <a:off x="2367000" y="3048120"/>
              <a:ext cx="1071720" cy="81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51280" y="1360440"/>
            <a:ext cx="58957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Ope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Service-oriented Architecture improving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 Interope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4486320"/>
            <a:ext cx="517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yntactic  </a:t>
            </a:r>
            <a:r>
              <a:rPr b="0" lang="en-GB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enco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tructural </a:t>
            </a:r>
            <a:r>
              <a:rPr b="0" lang="en-GB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schemas, interfa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emantic </a:t>
            </a:r>
            <a:r>
              <a:rPr b="0" lang="en-GB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meani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Claim of the ORCHESTRA Reference Model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6280" y="2798640"/>
            <a:ext cx="571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Arial"/>
              </a:rPr>
              <a:t>Public and free specif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Arial"/>
              </a:rPr>
              <a:t>Use of exis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Arial"/>
              </a:rPr>
              <a:t>Contribute to the evolution of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2360" y="1044720"/>
            <a:ext cx="2925360" cy="1619280"/>
            <a:chOff x="252360" y="1044720"/>
            <a:chExt cx="2925360" cy="161928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603720" y="1308240"/>
              <a:ext cx="2473200" cy="101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576720" y="1044720"/>
              <a:ext cx="1839240" cy="1524960"/>
              <a:chOff x="576720" y="1044720"/>
              <a:chExt cx="1839240" cy="15249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576720" y="2311920"/>
                <a:ext cx="342360" cy="257760"/>
                <a:chOff x="576720" y="2311920"/>
                <a:chExt cx="342360" cy="257760"/>
              </a:xfrm>
            </p:grpSpPr>
            <p:pic>
              <p:nvPicPr>
                <p:cNvPr id="1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6720" y="2311920"/>
                  <a:ext cx="342360" cy="25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>
                  <a:off x="630360" y="2328120"/>
                  <a:ext cx="123840" cy="108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84720" y="2382840"/>
                  <a:ext cx="123480" cy="108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360" y="2436840"/>
                  <a:ext cx="123840" cy="1094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28800" y="1070640"/>
                <a:ext cx="253080" cy="26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1040" y="1044720"/>
                <a:ext cx="214920" cy="21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 flipV="1">
                <a:off x="766440" y="2153160"/>
                <a:ext cx="162360" cy="1580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36800" y="1334520"/>
                <a:ext cx="54000" cy="79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01040" y="1255320"/>
                <a:ext cx="81000" cy="79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497240" y="1044720"/>
              <a:ext cx="1680480" cy="1359720"/>
              <a:chOff x="1497240" y="1044720"/>
              <a:chExt cx="1680480" cy="1359720"/>
            </a:xfrm>
          </p:grpSpPr>
          <p:pic>
            <p:nvPicPr>
              <p:cNvPr id="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97240" y="1044720"/>
                <a:ext cx="356040" cy="21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85840" y="2100600"/>
                <a:ext cx="19188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 flipH="1" flipV="1">
                <a:off x="2904480" y="2073960"/>
                <a:ext cx="107640" cy="131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86960" y="1229040"/>
                <a:ext cx="26640" cy="79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063800" y="2311920"/>
              <a:ext cx="242640" cy="315360"/>
              <a:chOff x="1063800" y="2311920"/>
              <a:chExt cx="242640" cy="3153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63800" y="2311920"/>
                <a:ext cx="242640" cy="31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4840" y="2412360"/>
                <a:ext cx="81720" cy="1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Documents"/>
              <p:cNvSpPr/>
              <p:nvPr/>
            </p:nvSpPr>
            <p:spPr>
              <a:xfrm>
                <a:off x="1110960" y="2363760"/>
                <a:ext cx="72360" cy="12348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2688120" y="1176120"/>
              <a:ext cx="290520" cy="2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flipV="1">
              <a:off x="1307880" y="2285280"/>
              <a:ext cx="134640" cy="185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769120" y="1414440"/>
              <a:ext cx="81000" cy="78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0"/>
            <a:stretch/>
          </p:blipFill>
          <p:spPr>
            <a:xfrm>
              <a:off x="2065680" y="2444040"/>
              <a:ext cx="283320" cy="2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2607120" y="2285280"/>
              <a:ext cx="29592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2"/>
            <a:stretch/>
          </p:blipFill>
          <p:spPr>
            <a:xfrm>
              <a:off x="252360" y="1123920"/>
              <a:ext cx="37872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0080" y="1334520"/>
              <a:ext cx="243360" cy="237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606760" y="2205720"/>
              <a:ext cx="81000" cy="158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118960" y="2284920"/>
              <a:ext cx="54360" cy="158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91320" y="1542960"/>
              <a:ext cx="704160" cy="478080"/>
              <a:chOff x="2191320" y="1542960"/>
              <a:chExt cx="704160" cy="478080"/>
            </a:xfrm>
          </p:grpSpPr>
          <p:pic>
            <p:nvPicPr>
              <p:cNvPr id="18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91320" y="1542960"/>
                <a:ext cx="645480" cy="42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26040" y="1710000"/>
                <a:ext cx="469440" cy="311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8" name="" descr=""/>
            <p:cNvPicPr/>
            <p:nvPr/>
          </p:nvPicPr>
          <p:blipFill>
            <a:blip r:embed="rId15"/>
            <a:stretch/>
          </p:blipFill>
          <p:spPr>
            <a:xfrm>
              <a:off x="820440" y="1622160"/>
              <a:ext cx="541080" cy="40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402000" y="324000"/>
            <a:ext cx="3284640" cy="495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7360" y="324000"/>
            <a:ext cx="944280" cy="49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RM-OA: Basis and Extensions/Adaption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00280" y="2679840"/>
            <a:ext cx="4032360" cy="1008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ce Model for the ORCHESTRA Architectur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RM-O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5920" y="2664000"/>
            <a:ext cx="2456280" cy="937080"/>
            <a:chOff x="115920" y="2664000"/>
            <a:chExt cx="2456280" cy="937080"/>
          </a:xfrm>
        </p:grpSpPr>
        <p:sp>
          <p:nvSpPr>
            <p:cNvPr id="194" name=""/>
            <p:cNvSpPr/>
            <p:nvPr/>
          </p:nvSpPr>
          <p:spPr>
            <a:xfrm>
              <a:off x="115920" y="286236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ISO</a:t>
              </a:r>
              <a:br>
                <a:rPr sz="2000"/>
              </a:b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RM-ODP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94" idx="3"/>
              <a:endCxn id="192" idx="1"/>
            </p:cNvCxnSpPr>
            <p:nvPr/>
          </p:nvCxnSpPr>
          <p:spPr>
            <a:xfrm flipV="1">
              <a:off x="1411200" y="3211200"/>
              <a:ext cx="1161360" cy="21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1557360" y="2664000"/>
              <a:ext cx="8557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process mod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294000"/>
              <a:ext cx="8557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SO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615560" y="3771360"/>
            <a:ext cx="3556800" cy="2171160"/>
            <a:chOff x="4615560" y="3771360"/>
            <a:chExt cx="3556800" cy="2171160"/>
          </a:xfrm>
        </p:grpSpPr>
        <p:sp>
          <p:nvSpPr>
            <p:cNvPr id="199" name=""/>
            <p:cNvSpPr/>
            <p:nvPr/>
          </p:nvSpPr>
          <p:spPr>
            <a:xfrm>
              <a:off x="5427720" y="5543640"/>
              <a:ext cx="94464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W3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0"/>
              <a:endCxn id="192" idx="2"/>
            </p:cNvCxnSpPr>
            <p:nvPr/>
          </p:nvCxnSpPr>
          <p:spPr>
            <a:xfrm flipH="1" flipV="1">
              <a:off x="4615920" y="3771360"/>
              <a:ext cx="1285200" cy="17722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6867360" y="5049720"/>
              <a:ext cx="103536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OAS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201" idx="0"/>
              <a:endCxn id="192" idx="2"/>
            </p:cNvCxnSpPr>
            <p:nvPr/>
          </p:nvCxnSpPr>
          <p:spPr>
            <a:xfrm flipH="1" flipV="1">
              <a:off x="4615560" y="3771360"/>
              <a:ext cx="2769480" cy="12783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6146640" y="4508640"/>
              <a:ext cx="2025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SOA Reference Mod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7000" y="4103640"/>
              <a:ext cx="13492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86280" y="4824360"/>
              <a:ext cx="1081080" cy="3070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Semantic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22360" y="3771360"/>
            <a:ext cx="4094280" cy="2171160"/>
            <a:chOff x="522360" y="3771360"/>
            <a:chExt cx="4094280" cy="2171160"/>
          </a:xfrm>
        </p:grpSpPr>
        <p:sp>
          <p:nvSpPr>
            <p:cNvPr id="207" name=""/>
            <p:cNvSpPr/>
            <p:nvPr/>
          </p:nvSpPr>
          <p:spPr>
            <a:xfrm>
              <a:off x="522360" y="5229360"/>
              <a:ext cx="85572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OG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67000" y="5543640"/>
              <a:ext cx="151128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ISO 191xx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7" idx="0"/>
              <a:endCxn id="192" idx="2"/>
            </p:cNvCxnSpPr>
            <p:nvPr/>
          </p:nvCxnSpPr>
          <p:spPr>
            <a:xfrm flipV="1">
              <a:off x="950760" y="3771720"/>
              <a:ext cx="3666240" cy="145800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0"/>
              <a:endCxn id="192" idx="2"/>
            </p:cNvCxnSpPr>
            <p:nvPr/>
          </p:nvCxnSpPr>
          <p:spPr>
            <a:xfrm flipV="1">
              <a:off x="3122280" y="3771360"/>
              <a:ext cx="1494360" cy="17722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2727360" y="4068720"/>
              <a:ext cx="17096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conceptual mod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6280" y="4486320"/>
              <a:ext cx="184644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service meta-mod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15920" y="4576680"/>
              <a:ext cx="13492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geospatial servic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971640" y="1089000"/>
            <a:ext cx="3645000" cy="1562400"/>
            <a:chOff x="971640" y="1089000"/>
            <a:chExt cx="3645000" cy="1562400"/>
          </a:xfrm>
        </p:grpSpPr>
        <p:sp>
          <p:nvSpPr>
            <p:cNvPr id="215" name=""/>
            <p:cNvSpPr/>
            <p:nvPr/>
          </p:nvSpPr>
          <p:spPr>
            <a:xfrm>
              <a:off x="971640" y="1089000"/>
              <a:ext cx="291600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User Requirement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5" idx="2"/>
              <a:endCxn id="192" idx="0"/>
            </p:cNvCxnSpPr>
            <p:nvPr/>
          </p:nvCxnSpPr>
          <p:spPr>
            <a:xfrm>
              <a:off x="2430360" y="1495440"/>
              <a:ext cx="2186640" cy="11563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1015920" y="1584360"/>
              <a:ext cx="2341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Risk Management Project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11280" y="1989000"/>
              <a:ext cx="306072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Req. Analysis </a:t>
              </a:r>
              <a:r>
                <a:rPr b="0" i="1" lang="en-GB" sz="1400" spc="-1" strike="noStrike">
                  <a:solidFill>
                    <a:srgbClr val="003366"/>
                  </a:solidFill>
                  <a:latin typeface="Wingdings"/>
                  <a:ea typeface="Wingdings"/>
                </a:rPr>
                <a:t></a:t>
              </a: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 functional,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informational and qualitativ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15560" y="1089000"/>
            <a:ext cx="3015720" cy="1562400"/>
            <a:chOff x="4615560" y="1089000"/>
            <a:chExt cx="3015720" cy="1562400"/>
          </a:xfrm>
        </p:grpSpPr>
        <p:sp>
          <p:nvSpPr>
            <p:cNvPr id="220" name=""/>
            <p:cNvSpPr/>
            <p:nvPr/>
          </p:nvSpPr>
          <p:spPr>
            <a:xfrm>
              <a:off x="4842000" y="1089000"/>
              <a:ext cx="278928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Arial"/>
                </a:rPr>
                <a:t>System Requirement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20" idx="2"/>
              <a:endCxn id="192" idx="0"/>
            </p:cNvCxnSpPr>
            <p:nvPr/>
          </p:nvCxnSpPr>
          <p:spPr>
            <a:xfrm flipH="1">
              <a:off x="4615560" y="1495440"/>
              <a:ext cx="1621800" cy="11563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4751280" y="1808280"/>
              <a:ext cx="20703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IT Challenges </a:t>
              </a:r>
              <a:r>
                <a:rPr b="0" i="1" lang="en-GB" sz="1400" spc="-1" strike="noStrike">
                  <a:solidFill>
                    <a:srgbClr val="003366"/>
                  </a:solidFill>
                  <a:latin typeface="Wingdings"/>
                  <a:ea typeface="Wingdings"/>
                </a:rPr>
                <a:t></a:t>
              </a:r>
              <a:r>
                <a:rPr b="0" i="1" lang="en-GB" sz="1400" spc="-1" strike="noStrike">
                  <a:solidFill>
                    <a:srgbClr val="003366"/>
                  </a:solidFill>
                  <a:latin typeface="Arial"/>
                </a:rPr>
                <a:t> Architectural Princip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RM-OA Design Process: Iteration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00280" y="2679840"/>
            <a:ext cx="4032360" cy="1008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ce Model for the ORCHESTRA Architectur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RM-O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1089000"/>
            <a:ext cx="291600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r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42000" y="1089000"/>
            <a:ext cx="27892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ystem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2"/>
            <a:endCxn id="224" idx="0"/>
          </p:cNvCxnSpPr>
          <p:nvPr/>
        </p:nvCxnSpPr>
        <p:spPr>
          <a:xfrm>
            <a:off x="2430360" y="1495440"/>
            <a:ext cx="2186640" cy="11563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6" idx="2"/>
            <a:endCxn id="224" idx="0"/>
          </p:cNvCxnSpPr>
          <p:nvPr/>
        </p:nvCxnSpPr>
        <p:spPr>
          <a:xfrm flipH="1">
            <a:off x="4615560" y="1495440"/>
            <a:ext cx="1621800" cy="11563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15920" y="28623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O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M-OD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3"/>
            <a:endCxn id="224" idx="1"/>
          </p:cNvCxnSpPr>
          <p:nvPr/>
        </p:nvCxnSpPr>
        <p:spPr>
          <a:xfrm flipV="1">
            <a:off x="1411200" y="3211200"/>
            <a:ext cx="116136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522360" y="5229360"/>
            <a:ext cx="8557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G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7000" y="5543640"/>
            <a:ext cx="15112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O 191x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0"/>
            <a:endCxn id="224" idx="2"/>
          </p:cNvCxnSpPr>
          <p:nvPr/>
        </p:nvCxnSpPr>
        <p:spPr>
          <a:xfrm flipV="1">
            <a:off x="950760" y="3771720"/>
            <a:ext cx="3666240" cy="14580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2" idx="0"/>
            <a:endCxn id="224" idx="2"/>
          </p:cNvCxnSpPr>
          <p:nvPr/>
        </p:nvCxnSpPr>
        <p:spPr>
          <a:xfrm flipV="1">
            <a:off x="3122280" y="3771360"/>
            <a:ext cx="1494360" cy="17722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5427720" y="5543640"/>
            <a:ext cx="94464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3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5" idx="0"/>
            <a:endCxn id="224" idx="2"/>
          </p:cNvCxnSpPr>
          <p:nvPr/>
        </p:nvCxnSpPr>
        <p:spPr>
          <a:xfrm flipH="1" flipV="1">
            <a:off x="4615920" y="3771360"/>
            <a:ext cx="1285200" cy="17722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867360" y="5049720"/>
            <a:ext cx="103536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A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0"/>
            <a:endCxn id="224" idx="2"/>
          </p:cNvCxnSpPr>
          <p:nvPr/>
        </p:nvCxnSpPr>
        <p:spPr>
          <a:xfrm flipH="1" flipV="1">
            <a:off x="4615560" y="3771360"/>
            <a:ext cx="2769480" cy="12783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1557360" y="2664000"/>
            <a:ext cx="855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process mod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57360" y="3294000"/>
            <a:ext cx="8557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SO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7360" y="4068720"/>
            <a:ext cx="1709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conceptual mod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46280" y="4486320"/>
            <a:ext cx="184644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service meta-mod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46640" y="4508640"/>
            <a:ext cx="2025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SOA Reference Mod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07000" y="4103640"/>
            <a:ext cx="1349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86280" y="4824360"/>
            <a:ext cx="1081080" cy="30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Semantic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15920" y="4576680"/>
            <a:ext cx="13492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geospatial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67000" y="1584360"/>
            <a:ext cx="2340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Risk Management Proje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1989000"/>
            <a:ext cx="184644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ORCHESTRA Pilo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51280" y="1808280"/>
            <a:ext cx="207036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IT Challenges </a:t>
            </a:r>
            <a:r>
              <a:rPr b="0" i="1" lang="en-GB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 Architectural Principl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141640" y="998640"/>
            <a:ext cx="6254640" cy="4599000"/>
            <a:chOff x="2141640" y="998640"/>
            <a:chExt cx="6254640" cy="459900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92360" y="998640"/>
              <a:ext cx="9892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7407360" y="1089000"/>
              <a:ext cx="98892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141640" y="4778280"/>
              <a:ext cx="98892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5921280" y="4869000"/>
              <a:ext cx="989280" cy="7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6237360" y="3203640"/>
            <a:ext cx="988920" cy="728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27720" y="3789360"/>
            <a:ext cx="17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GC 05-107 D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27720" y="2573280"/>
            <a:ext cx="17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GC 07-xxx B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993080" y="347292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27720" y="3159000"/>
            <a:ext cx="175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GC 07-024 D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93080" y="284292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800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osition of the RM-OA in the Engineering Proces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83240" y="2751120"/>
            <a:ext cx="29520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7840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476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97360" y="5438880"/>
            <a:ext cx="3195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ervice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24240" y="28209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6400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52720" y="437364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crete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3321000"/>
            <a:ext cx="3214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71" idx="1"/>
            <a:endCxn id="269" idx="1"/>
          </p:cNvCxnSpPr>
          <p:nvPr/>
        </p:nvCxnSpPr>
        <p:spPr>
          <a:xfrm flipV="1">
            <a:off x="1228680" y="3509640"/>
            <a:ext cx="1750320" cy="2304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73" idx="1"/>
            <a:endCxn id="268" idx="1"/>
          </p:cNvCxnSpPr>
          <p:nvPr/>
        </p:nvCxnSpPr>
        <p:spPr>
          <a:xfrm>
            <a:off x="836640" y="4554000"/>
            <a:ext cx="2116800" cy="90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75" idx="1"/>
            <a:endCxn id="265" idx="1"/>
          </p:cNvCxnSpPr>
          <p:nvPr/>
        </p:nvCxnSpPr>
        <p:spPr>
          <a:xfrm>
            <a:off x="922320" y="5595840"/>
            <a:ext cx="2075760" cy="324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3222720" y="3833640"/>
            <a:ext cx="27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ncrete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Cloud"/>
          <p:cNvSpPr/>
          <p:nvPr/>
        </p:nvSpPr>
        <p:spPr>
          <a:xfrm>
            <a:off x="3687840" y="1122480"/>
            <a:ext cx="1643040" cy="46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51400" y="1674720"/>
            <a:ext cx="1056960" cy="1047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1280" y="3321000"/>
            <a:ext cx="1395720" cy="398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M-O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6640" y="4397400"/>
            <a:ext cx="1800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W3C Web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22320" y="5438880"/>
            <a:ext cx="1714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Operation Polic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6884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359000"/>
            <a:ext cx="315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66"/>
                </a:solidFill>
                <a:uFillTx/>
                <a:latin typeface="Arial"/>
              </a:rPr>
              <a:t>Requirements</a:t>
            </a:r>
            <a:br>
              <a:rPr sz="1400"/>
            </a:b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:  functional</a:t>
            </a:r>
            <a:br>
              <a:rPr sz="1400"/>
            </a:b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:   informational</a:t>
            </a:r>
            <a:br>
              <a:rPr sz="1400"/>
            </a:b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: qualitative/non-funct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1600" y="1674720"/>
            <a:ext cx="0" cy="1028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11600" y="1674720"/>
            <a:ext cx="1067040" cy="98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9560" y="1812960"/>
            <a:ext cx="885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70200" y="2214720"/>
            <a:ext cx="1986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bstract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22720" y="4915080"/>
            <a:ext cx="2835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4344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9236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4344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7720" y="3008160"/>
            <a:ext cx="256536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latform-neutral generic specification in U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51280" y="1314360"/>
            <a:ext cx="5130720" cy="27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199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ORCHESTRA Result (1): Abstract Architectur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27520" y="2751120"/>
            <a:ext cx="29520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2320" y="2751120"/>
            <a:ext cx="29556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904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280" y="5438880"/>
            <a:ext cx="3195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ervice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8160" y="2820960"/>
            <a:ext cx="2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0828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000" y="437364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crete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2200" y="3246480"/>
            <a:ext cx="3214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6640" y="3833640"/>
            <a:ext cx="279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ncrete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Cloud"/>
          <p:cNvSpPr/>
          <p:nvPr/>
        </p:nvSpPr>
        <p:spPr>
          <a:xfrm>
            <a:off x="1031760" y="1122480"/>
            <a:ext cx="1643040" cy="46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94960" y="1674720"/>
            <a:ext cx="1057320" cy="1047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312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55880" y="1674720"/>
            <a:ext cx="0" cy="1028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55880" y="1674720"/>
            <a:ext cx="1066680" cy="98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63840" y="1812960"/>
            <a:ext cx="88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14480" y="2214720"/>
            <a:ext cx="19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bstract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6640" y="4915080"/>
            <a:ext cx="2835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664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664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8772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48240" y="140508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ORCHESTRA Archite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37000" y="2575080"/>
            <a:ext cx="4005360" cy="58068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/Interface Abstract Specs (UML) of Architecture Servi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7000" y="335448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Meta-)Information Models (UM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7000" y="203508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eta-model Services and Infor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0" idx="3"/>
            <a:endCxn id="317" idx="1"/>
          </p:cNvCxnSpPr>
          <p:nvPr/>
        </p:nvCxnSpPr>
        <p:spPr>
          <a:xfrm flipV="1">
            <a:off x="3537000" y="2207520"/>
            <a:ext cx="900720" cy="12279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00" idx="3"/>
            <a:endCxn id="315" idx="1"/>
          </p:cNvCxnSpPr>
          <p:nvPr/>
        </p:nvCxnSpPr>
        <p:spPr>
          <a:xfrm flipV="1">
            <a:off x="3537000" y="2869920"/>
            <a:ext cx="900720" cy="5659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00" idx="3"/>
            <a:endCxn id="316" idx="1"/>
          </p:cNvCxnSpPr>
          <p:nvPr/>
        </p:nvCxnSpPr>
        <p:spPr>
          <a:xfrm>
            <a:off x="3537000" y="3435120"/>
            <a:ext cx="900720" cy="9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51280" y="1314360"/>
            <a:ext cx="5130720" cy="27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4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ORCHESTRA Result (2): Application Architectur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27520" y="2751120"/>
            <a:ext cx="29520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2320" y="2751120"/>
            <a:ext cx="29556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9040" y="2751120"/>
            <a:ext cx="295200" cy="278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280" y="5438880"/>
            <a:ext cx="3195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ervice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8160" y="2820960"/>
            <a:ext cx="2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0828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7000" y="437364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crete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2200" y="3246480"/>
            <a:ext cx="3214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Service Platfo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" y="3833640"/>
            <a:ext cx="279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ncrete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1031760" y="1122480"/>
            <a:ext cx="1643040" cy="46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94960" y="1674720"/>
            <a:ext cx="1057320" cy="1047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13120" y="282096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55880" y="1674720"/>
            <a:ext cx="0" cy="1028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55880" y="1674720"/>
            <a:ext cx="1066680" cy="98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63840" y="1812960"/>
            <a:ext cx="88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14480" y="2214720"/>
            <a:ext cx="19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bstract desig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6640" y="4915080"/>
            <a:ext cx="2835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664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87720" y="3833640"/>
            <a:ext cx="0" cy="316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664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87720" y="4915080"/>
            <a:ext cx="0" cy="315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48240" y="140508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ORCHESTRA Archite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37000" y="2575080"/>
            <a:ext cx="4005360" cy="58068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ervice/Interface Abstract Specs (UML) of Architecture Servi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37000" y="335448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Meta-)Information Models (UM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37000" y="2035080"/>
            <a:ext cx="4005360" cy="33732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eta-model Services and Infor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30" idx="3"/>
            <a:endCxn id="347" idx="1"/>
          </p:cNvCxnSpPr>
          <p:nvPr/>
        </p:nvCxnSpPr>
        <p:spPr>
          <a:xfrm flipV="1">
            <a:off x="3537000" y="2207520"/>
            <a:ext cx="900720" cy="12279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0" idx="3"/>
            <a:endCxn id="345" idx="1"/>
          </p:cNvCxnSpPr>
          <p:nvPr/>
        </p:nvCxnSpPr>
        <p:spPr>
          <a:xfrm flipV="1">
            <a:off x="3537000" y="2869920"/>
            <a:ext cx="900720" cy="5659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46" idx="1"/>
          </p:cNvCxnSpPr>
          <p:nvPr/>
        </p:nvCxnSpPr>
        <p:spPr>
          <a:xfrm>
            <a:off x="3537000" y="3435120"/>
            <a:ext cx="900720" cy="9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grpSp>
        <p:nvGrpSpPr>
          <p:cNvPr id="351" name=""/>
          <p:cNvGrpSpPr/>
          <p:nvPr/>
        </p:nvGrpSpPr>
        <p:grpSpPr>
          <a:xfrm>
            <a:off x="3537000" y="3435120"/>
            <a:ext cx="5445000" cy="2379960"/>
            <a:chOff x="3537000" y="3435120"/>
            <a:chExt cx="5445000" cy="2379960"/>
          </a:xfrm>
        </p:grpSpPr>
        <p:sp>
          <p:nvSpPr>
            <p:cNvPr id="352" name=""/>
            <p:cNvSpPr/>
            <p:nvPr/>
          </p:nvSpPr>
          <p:spPr>
            <a:xfrm>
              <a:off x="3851280" y="4464000"/>
              <a:ext cx="5130720" cy="1351080"/>
            </a:xfrm>
            <a:prstGeom prst="rect">
              <a:avLst/>
            </a:prstGeom>
            <a:solidFill>
              <a:srgbClr val="8e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537000" y="3435120"/>
              <a:ext cx="5354640" cy="2268000"/>
              <a:chOff x="3537000" y="3435120"/>
              <a:chExt cx="5354640" cy="2268000"/>
            </a:xfrm>
          </p:grpSpPr>
          <p:sp>
            <p:nvSpPr>
              <p:cNvPr id="354" name=""/>
              <p:cNvSpPr/>
              <p:nvPr/>
            </p:nvSpPr>
            <p:spPr>
              <a:xfrm>
                <a:off x="4437000" y="4915080"/>
                <a:ext cx="4140360" cy="3373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66"/>
                    </a:solidFill>
                    <a:latin typeface="Arial"/>
                  </a:rPr>
                  <a:t>Thematic Services (UML)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37000" y="5365800"/>
                <a:ext cx="4140360" cy="3373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66"/>
                    </a:solidFill>
                    <a:latin typeface="Arial"/>
                  </a:rPr>
                  <a:t>Thematic (Meta-)Information Models (UML)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86280" y="4508640"/>
                <a:ext cx="49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ORCHESTRA Application Architectur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357" name=""/>
              <p:cNvCxnSpPr>
                <a:stCxn id="321" idx="2"/>
                <a:endCxn id="352" idx="0"/>
              </p:cNvCxnSpPr>
              <p:nvPr/>
            </p:nvCxnSpPr>
            <p:spPr>
              <a:xfrm>
                <a:off x="6416280" y="4014720"/>
                <a:ext cx="1080" cy="45000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58" name=""/>
              <p:cNvSpPr/>
              <p:nvPr/>
            </p:nvSpPr>
            <p:spPr>
              <a:xfrm>
                <a:off x="6462720" y="4059360"/>
                <a:ext cx="21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3366"/>
                    </a:solidFill>
                    <a:latin typeface="Arial"/>
                  </a:rPr>
                  <a:t>thematic extension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359" name=""/>
              <p:cNvCxnSpPr>
                <a:stCxn id="330" idx="3"/>
                <a:endCxn id="354" idx="1"/>
              </p:cNvCxnSpPr>
              <p:nvPr/>
            </p:nvCxnSpPr>
            <p:spPr>
              <a:xfrm>
                <a:off x="3537000" y="3435480"/>
                <a:ext cx="900720" cy="165312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  <p:cxnSp>
            <p:nvCxnSpPr>
              <p:cNvPr id="360" name=""/>
              <p:cNvCxnSpPr>
                <a:stCxn id="330" idx="3"/>
                <a:endCxn id="355" idx="1"/>
              </p:cNvCxnSpPr>
              <p:nvPr/>
            </p:nvCxnSpPr>
            <p:spPr>
              <a:xfrm>
                <a:off x="3537000" y="3435120"/>
                <a:ext cx="900720" cy="210420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</p:cxnSp>
        </p:grpSp>
      </p:grp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13:54:23Z</dcterms:created>
  <dc:creator>Ulrich Bügel</dc:creator>
  <dc:description/>
  <cp:keywords/>
  <dc:language>en-US</dc:language>
  <cp:lastModifiedBy>Ulrich Bügel</cp:lastModifiedBy>
  <dcterms:modified xsi:type="dcterms:W3CDTF">2007-05-21T11:54:59Z</dcterms:modified>
  <cp:revision>559</cp:revision>
  <dc:subject/>
  <dc:title>ORCHESTRA - Aktueller Stand und Entwicklungen</dc:title>
</cp:coreProperties>
</file>