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937B-7A14-4FC0-90C0-A232B5485C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C5CB-D796-4AE3-94DE-2E1268F1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ACAC-A185-49D7-A197-9D69B5F6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8616-E43B-4187-A5B6-41DE272148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ABA3-F780-4196-BD12-729D512D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5024-A020-47C3-B636-5C747081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E42D-47C9-4541-8BC3-28A70A25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DF4A-EB48-411C-B0B9-5156FE51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3E77-C011-48BA-B6C0-420DEF19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3B37-4EC4-43FB-AD28-912F810C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E463-FE61-4A73-BA21-C2A09306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FA0A-11A2-491B-BCB0-04D07134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3120"/>
            <a:ext cx="8997840" cy="36360"/>
          </a:xfrm>
          <a:prstGeom prst="rect">
            <a:avLst/>
          </a:prstGeom>
          <a:solidFill>
            <a:srgbClr val="004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477120"/>
            <a:ext cx="8077320" cy="380880"/>
            <a:chOff x="0" y="6477120"/>
            <a:chExt cx="8077320" cy="380880"/>
          </a:xfrm>
        </p:grpSpPr>
        <p:sp>
          <p:nvSpPr>
            <p:cNvPr id="2" name=""/>
            <p:cNvSpPr/>
            <p:nvPr/>
          </p:nvSpPr>
          <p:spPr>
            <a:xfrm>
              <a:off x="2819520" y="6477120"/>
              <a:ext cx="52578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489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477120"/>
              <a:ext cx="2819520" cy="380880"/>
            </a:xfrm>
            <a:prstGeom prst="rect">
              <a:avLst/>
            </a:prstGeom>
            <a:solidFill>
              <a:srgbClr val="004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228600" y="76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4725" b="0"/>
          <a:stretch/>
        </p:blipFill>
        <p:spPr>
          <a:xfrm>
            <a:off x="6624720" y="6477120"/>
            <a:ext cx="2519280" cy="414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8580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2746440" y="6651360"/>
            <a:ext cx="350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F. Hosenfeld &amp; D. Ku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ldNum" idx="2"/>
          </p:nvPr>
        </p:nvSpPr>
        <p:spPr>
          <a:xfrm>
            <a:off x="2698560" y="6407280"/>
            <a:ext cx="3654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Verdana"/>
              </a:rPr>
              <a:t>Bodendaten-Übersetzungsschlüs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40400"/>
            <a:ext cx="9144000" cy="36720"/>
          </a:xfrm>
          <a:prstGeom prst="rect">
            <a:avLst/>
          </a:prstGeom>
          <a:solidFill>
            <a:srgbClr val="004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6437160"/>
            <a:ext cx="990720" cy="42084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07960" y="1959120"/>
            <a:ext cx="63284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4895"/>
                </a:solidFill>
                <a:latin typeface="Arial"/>
              </a:rPr>
              <a:t>Automatische Überführung und Harmonisierung</a:t>
            </a:r>
            <a:br>
              <a:rPr sz="1800"/>
            </a:br>
            <a:r>
              <a:rPr b="1" lang="de-DE" sz="1800" spc="-1" strike="noStrike">
                <a:solidFill>
                  <a:srgbClr val="004895"/>
                </a:solidFill>
                <a:latin typeface="Arial"/>
              </a:rPr>
              <a:t>von Bodendaten mit Hilfe digitaler Übersetzungsschlüs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1480" y="3962520"/>
            <a:ext cx="43610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4895"/>
                </a:solidFill>
                <a:latin typeface="Arial"/>
              </a:rPr>
              <a:t>Friedhelm Hosenfeld</a:t>
            </a:r>
            <a:br>
              <a:rPr sz="1300"/>
            </a:br>
            <a:r>
              <a:rPr b="1" lang="de-DE" sz="1300" spc="-1" strike="noStrike">
                <a:solidFill>
                  <a:srgbClr val="004895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4895"/>
                </a:solidFill>
                <a:latin typeface="Arial"/>
              </a:rPr>
              <a:t>Institut für Digitale Systemanalyse &amp; Landschaftsdiagnose (DigSyLand)</a:t>
            </a:r>
            <a:br>
              <a:rPr sz="1000"/>
            </a:br>
            <a:r>
              <a:rPr b="1" lang="de-DE" sz="1000" spc="-1" strike="noStrike">
                <a:solidFill>
                  <a:srgbClr val="004895"/>
                </a:solidFill>
                <a:latin typeface="Arial"/>
              </a:rPr>
              <a:t>http://www.digsyland.d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4895"/>
                </a:solidFill>
                <a:latin typeface="Arial"/>
              </a:rPr>
              <a:t>Dieter Kuhn </a:t>
            </a:r>
            <a:br>
              <a:rPr sz="1300"/>
            </a:br>
            <a:r>
              <a:rPr b="1" lang="de-DE" sz="1000" spc="-1" strike="noStrike">
                <a:solidFill>
                  <a:srgbClr val="004895"/>
                </a:solidFill>
                <a:latin typeface="Arial"/>
              </a:rPr>
              <a:t>Institut für regionale Analyse und Entwicklung (AgendaRegio)</a:t>
            </a:r>
            <a:br>
              <a:rPr sz="1000"/>
            </a:br>
            <a:r>
              <a:rPr b="1" lang="de-DE" sz="1000" spc="-1" strike="noStrike">
                <a:solidFill>
                  <a:srgbClr val="004895"/>
                </a:solidFill>
                <a:latin typeface="Arial"/>
              </a:rPr>
              <a:t>http://www.agenda-regio.d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53C5-398C-4A99-AB7F-A602EF7247B5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B34DC-1DC1-4918-822B-7C7ACB5370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600" y="7632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berblick ÜS-Vers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ntwicklung verschiedener Versionen für unterschiedliche Anforderun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S 1.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S 2.0 KA4/KA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S 2.0 W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S 2.0 Inte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aukasten-Prinzip“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Anwendende benötigen häufig nur einen Übersetzungsmechanism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Weiterentwicklung bei Konzentration auf einen Übersetzungsprozess besser steuerb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2743200"/>
          <a:ext cx="7607520" cy="181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60752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AD81-F8C2-47C6-92C7-CF8D79F15C81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B7630-783F-4ED3-A727-4EA01BD026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4400" y="76320"/>
            <a:ext cx="38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Standalone-Vers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Genereller Aufba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asis: Microsoft Access (ab Access 200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Frontend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enutzungsschnittstelle, Applikationslogi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sdatenbank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sregel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odendaten (Benutzerdaten)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Microsoft Access-Datenban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XML-Spezifikationen werden von der BGR entwickel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360880" y="3943440"/>
            <a:ext cx="6097320" cy="2046240"/>
            <a:chOff x="2360880" y="3943440"/>
            <a:chExt cx="6097320" cy="2046240"/>
          </a:xfrm>
        </p:grpSpPr>
        <p:sp>
          <p:nvSpPr>
            <p:cNvPr id="91" name=""/>
            <p:cNvSpPr/>
            <p:nvPr/>
          </p:nvSpPr>
          <p:spPr>
            <a:xfrm>
              <a:off x="6172200" y="4876920"/>
              <a:ext cx="1219320" cy="761760"/>
            </a:xfrm>
            <a:prstGeom prst="flowChartMagneticDisk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8720" y="4876920"/>
              <a:ext cx="609480" cy="838080"/>
            </a:xfrm>
            <a:prstGeom prst="flowChartMultidocument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276720" y="3943440"/>
              <a:ext cx="1981080" cy="609480"/>
              <a:chOff x="3276720" y="3943440"/>
              <a:chExt cx="1981080" cy="609480"/>
            </a:xfrm>
          </p:grpSpPr>
          <p:sp>
            <p:nvSpPr>
              <p:cNvPr id="94" name=""/>
              <p:cNvSpPr/>
              <p:nvPr/>
            </p:nvSpPr>
            <p:spPr>
              <a:xfrm>
                <a:off x="3276720" y="3943440"/>
                <a:ext cx="1981080" cy="609480"/>
              </a:xfrm>
              <a:prstGeom prst="flowChartAlternateProcess">
                <a:avLst/>
              </a:prstGeom>
              <a:noFill/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84520" y="4129200"/>
                <a:ext cx="1244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spcAft>
                    <a:spcPts val="3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300" spc="-1" strike="noStrike">
                    <a:solidFill>
                      <a:srgbClr val="000000"/>
                    </a:solidFill>
                    <a:latin typeface="Arial"/>
                  </a:rPr>
                  <a:t>Access-Fronten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505320" y="4952880"/>
              <a:ext cx="1523880" cy="762120"/>
              <a:chOff x="3505320" y="4952880"/>
              <a:chExt cx="1523880" cy="762120"/>
            </a:xfrm>
          </p:grpSpPr>
          <p:sp>
            <p:nvSpPr>
              <p:cNvPr id="97" name=""/>
              <p:cNvSpPr/>
              <p:nvPr/>
            </p:nvSpPr>
            <p:spPr>
              <a:xfrm>
                <a:off x="3505320" y="4952880"/>
                <a:ext cx="1523880" cy="762120"/>
              </a:xfrm>
              <a:prstGeom prst="flowChartMagneticDisk">
                <a:avLst/>
              </a:prstGeom>
              <a:noFill/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31600" y="5334120"/>
                <a:ext cx="1472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spcAft>
                    <a:spcPts val="3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300" spc="-1" strike="noStrike">
                    <a:solidFill>
                      <a:srgbClr val="000000"/>
                    </a:solidFill>
                    <a:latin typeface="Arial"/>
                  </a:rPr>
                  <a:t>Übersetzungsregel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6337800" y="5181480"/>
              <a:ext cx="887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Bodendaten</a:t>
              </a:r>
              <a:br>
                <a:rPr sz="1300"/>
              </a:b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(Anwender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5040" y="5181480"/>
              <a:ext cx="33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4572000"/>
              <a:ext cx="6094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"/>
            <p:cNvCxnSpPr>
              <a:endCxn id="91" idx="1"/>
            </p:cNvCxnSpPr>
            <p:nvPr/>
          </p:nvCxnSpPr>
          <p:spPr>
            <a:xfrm>
              <a:off x="5257440" y="4419720"/>
              <a:ext cx="1524600" cy="457920"/>
            </a:xfrm>
            <a:prstGeom prst="bentConnector2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  <p:grpSp>
          <p:nvGrpSpPr>
            <p:cNvPr id="103" name=""/>
            <p:cNvGrpSpPr/>
            <p:nvPr/>
          </p:nvGrpSpPr>
          <p:grpSpPr>
            <a:xfrm>
              <a:off x="5257800" y="4267080"/>
              <a:ext cx="2819520" cy="533520"/>
              <a:chOff x="5257800" y="4267080"/>
              <a:chExt cx="2819520" cy="533520"/>
            </a:xfrm>
          </p:grpSpPr>
          <p:sp>
            <p:nvSpPr>
              <p:cNvPr id="104" name=""/>
              <p:cNvSpPr/>
              <p:nvPr/>
            </p:nvSpPr>
            <p:spPr>
              <a:xfrm>
                <a:off x="5257800" y="4267080"/>
                <a:ext cx="281952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77320" y="4267080"/>
                <a:ext cx="0" cy="533520"/>
              </a:xfrm>
              <a:prstGeom prst="line">
                <a:avLst/>
              </a:prstGeom>
              <a:ln w="25560">
                <a:solidFill>
                  <a:srgbClr val="008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360880" y="4648320"/>
              <a:ext cx="173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Zugriff auf Übersetzungsregel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89520" y="4038480"/>
              <a:ext cx="184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000000"/>
                  </a:solidFill>
                  <a:latin typeface="Arial"/>
                </a:rPr>
                <a:t>Zukünftig: XML- Datenaustaus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13560" y="4495680"/>
              <a:ext cx="898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Übernahme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der Bodendat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920" y="579132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MS Acc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1520" y="571500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MS Acc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04AE-5520-494C-9AC5-A25F24E021B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A3C14-71C7-472C-A630-59AE044CF0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8120" y="763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bersetzungs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infaches Datenmod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Trennung in Standortdaten und Horizontdaten (1: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Übersetz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Master-Übersetzungstabelle („Übersetzungsgrundlagen“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Vier Übersetzungsarten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1:1-Übernah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Regeltabelle („DirektTabelle“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Regeltabelle mit Zerlegung in Einzelwerten („DirektTabelleMu“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gesonderte Übersetzungsfunktionen („separat“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Ausgelegt für die Weiterentwicklung der Übersetzungsregel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automatische Konfiguration auf der Basis der Übersetzungstabell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Ausgabe soll aber standardisiert bleib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Nachteil der Methodik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 in Access sehr laufzeit-intensi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Regeltabellen-Bezeichner orientieren sich an Geländeformblatt (Feldnummer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22440" cy="63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3FF8-A14B-4C49-BF20-C55B577F3171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6FA63-D5B7-4319-AD4D-F6B734103C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480" y="76320"/>
            <a:ext cx="56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bersetzungsprinzip: Daten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76120" y="762120"/>
            <a:ext cx="8639280" cy="5486400"/>
            <a:chOff x="276120" y="762120"/>
            <a:chExt cx="8639280" cy="5486400"/>
          </a:xfrm>
        </p:grpSpPr>
        <p:sp>
          <p:nvSpPr>
            <p:cNvPr id="116" name=""/>
            <p:cNvSpPr/>
            <p:nvPr/>
          </p:nvSpPr>
          <p:spPr>
            <a:xfrm>
              <a:off x="6324480" y="762120"/>
              <a:ext cx="2590920" cy="5486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76120" y="762120"/>
              <a:ext cx="2590920" cy="5486400"/>
              <a:chOff x="276120" y="762120"/>
              <a:chExt cx="2590920" cy="5486400"/>
            </a:xfrm>
          </p:grpSpPr>
          <p:sp>
            <p:nvSpPr>
              <p:cNvPr id="118" name=""/>
              <p:cNvSpPr/>
              <p:nvPr/>
            </p:nvSpPr>
            <p:spPr>
              <a:xfrm>
                <a:off x="276120" y="762120"/>
                <a:ext cx="2590920" cy="54864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5680" y="838080"/>
                <a:ext cx="951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spcAft>
                    <a:spcPts val="3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Bodendat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8400" y="1388520"/>
                <a:ext cx="863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spcAft>
                    <a:spcPts val="27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000000"/>
                    </a:solidFill>
                    <a:latin typeface="Arial"/>
                  </a:rPr>
                  <a:t>Eingabedat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504720" y="1619280"/>
                <a:ext cx="2057400" cy="923400"/>
                <a:chOff x="504720" y="1619280"/>
                <a:chExt cx="2057400" cy="923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04720" y="1628640"/>
                  <a:ext cx="2057400" cy="914040"/>
                </a:xfrm>
                <a:prstGeom prst="flowChartInternalStorag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041840" y="1619280"/>
                  <a:ext cx="130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spcAft>
                      <a:spcPts val="326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Arial"/>
                    </a:rPr>
                    <a:t>Standort-bezog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352440" y="1295280"/>
                <a:ext cx="2438280" cy="234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2440" y="3800520"/>
                <a:ext cx="2438280" cy="234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8040" y="3903120"/>
                <a:ext cx="902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spcAft>
                    <a:spcPts val="27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000000"/>
                    </a:solidFill>
                    <a:latin typeface="Arial"/>
                  </a:rPr>
                  <a:t>Ergebnisdat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504720" y="2619360"/>
                <a:ext cx="2057400" cy="924120"/>
                <a:chOff x="504720" y="2619360"/>
                <a:chExt cx="2057400" cy="924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04720" y="2629080"/>
                  <a:ext cx="2057400" cy="914400"/>
                </a:xfrm>
                <a:prstGeom prst="flowChartInternalStorag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041480" y="2619360"/>
                  <a:ext cx="1299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spcAft>
                      <a:spcPts val="326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Arial"/>
                    </a:rPr>
                    <a:t>Horizont-bezog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04720" y="4114800"/>
                <a:ext cx="2057400" cy="923400"/>
                <a:chOff x="504720" y="4114800"/>
                <a:chExt cx="2057400" cy="9234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04720" y="4124160"/>
                  <a:ext cx="2057400" cy="914040"/>
                </a:xfrm>
                <a:prstGeom prst="flowChartInternalStorag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41840" y="4114800"/>
                  <a:ext cx="130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spcAft>
                      <a:spcPts val="326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Arial"/>
                    </a:rPr>
                    <a:t>Standort-bezog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504720" y="5114880"/>
                <a:ext cx="2057400" cy="924120"/>
                <a:chOff x="504720" y="5114880"/>
                <a:chExt cx="2057400" cy="924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04720" y="5124600"/>
                  <a:ext cx="2057400" cy="914400"/>
                </a:xfrm>
                <a:prstGeom prst="flowChartInternalStorag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41480" y="5114880"/>
                  <a:ext cx="1299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spcAft>
                      <a:spcPts val="326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Arial"/>
                    </a:rPr>
                    <a:t>Horizont-bezog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" name=""/>
            <p:cNvSpPr/>
            <p:nvPr/>
          </p:nvSpPr>
          <p:spPr>
            <a:xfrm>
              <a:off x="3309840" y="762120"/>
              <a:ext cx="2590920" cy="54864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90840" y="838080"/>
              <a:ext cx="1582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Übersetzungsregel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38440" y="1352520"/>
              <a:ext cx="2057400" cy="914400"/>
            </a:xfrm>
            <a:prstGeom prst="flowChartInternal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75840" y="1366920"/>
              <a:ext cx="156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spcAft>
                  <a:spcPts val="2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Übersetzungsgrundl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23480" y="838080"/>
              <a:ext cx="1381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Nutzerverwalt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572160" y="1352520"/>
              <a:ext cx="2057400" cy="924120"/>
              <a:chOff x="6572160" y="1352520"/>
              <a:chExt cx="2057400" cy="924120"/>
            </a:xfrm>
          </p:grpSpPr>
          <p:sp>
            <p:nvSpPr>
              <p:cNvPr id="142" name=""/>
              <p:cNvSpPr/>
              <p:nvPr/>
            </p:nvSpPr>
            <p:spPr>
              <a:xfrm>
                <a:off x="6572160" y="1362240"/>
                <a:ext cx="2057400" cy="914400"/>
              </a:xfrm>
              <a:prstGeom prst="flowChartInternal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06760" y="1352520"/>
                <a:ext cx="814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spcAft>
                    <a:spcPts val="3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300" spc="-1" strike="noStrike">
                    <a:solidFill>
                      <a:srgbClr val="000000"/>
                    </a:solidFill>
                    <a:latin typeface="Arial"/>
                  </a:rPr>
                  <a:t>Basisdat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572160" y="2733840"/>
              <a:ext cx="2057400" cy="923400"/>
              <a:chOff x="6572160" y="2733840"/>
              <a:chExt cx="2057400" cy="923400"/>
            </a:xfrm>
          </p:grpSpPr>
          <p:sp>
            <p:nvSpPr>
              <p:cNvPr id="145" name=""/>
              <p:cNvSpPr/>
              <p:nvPr/>
            </p:nvSpPr>
            <p:spPr>
              <a:xfrm>
                <a:off x="6572160" y="2743200"/>
                <a:ext cx="2057400" cy="914040"/>
              </a:xfrm>
              <a:prstGeom prst="flowChartInternal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08560" y="2733840"/>
                <a:ext cx="1052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spcAft>
                    <a:spcPts val="3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300" spc="-1" strike="noStrike">
                    <a:solidFill>
                      <a:srgbClr val="000000"/>
                    </a:solidFill>
                    <a:latin typeface="Arial"/>
                  </a:rPr>
                  <a:t>Zugangsdat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572160" y="4419720"/>
              <a:ext cx="2057400" cy="923760"/>
              <a:chOff x="6572160" y="4419720"/>
              <a:chExt cx="2057400" cy="923760"/>
            </a:xfrm>
          </p:grpSpPr>
          <p:sp>
            <p:nvSpPr>
              <p:cNvPr id="148" name=""/>
              <p:cNvSpPr/>
              <p:nvPr/>
            </p:nvSpPr>
            <p:spPr>
              <a:xfrm>
                <a:off x="6572160" y="4429080"/>
                <a:ext cx="2057400" cy="914400"/>
              </a:xfrm>
              <a:prstGeom prst="flowChartInternal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52400" y="4419720"/>
                <a:ext cx="1536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spcAft>
                    <a:spcPts val="3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300" spc="-1" strike="noStrike">
                    <a:solidFill>
                      <a:srgbClr val="000000"/>
                    </a:solidFill>
                    <a:latin typeface="Arial"/>
                  </a:rPr>
                  <a:t>Administrationsdat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452760" y="2733840"/>
              <a:ext cx="2362320" cy="1218600"/>
              <a:chOff x="3452760" y="2733840"/>
              <a:chExt cx="2362320" cy="1218600"/>
            </a:xfrm>
          </p:grpSpPr>
          <p:sp>
            <p:nvSpPr>
              <p:cNvPr id="151" name=""/>
              <p:cNvSpPr/>
              <p:nvPr/>
            </p:nvSpPr>
            <p:spPr>
              <a:xfrm>
                <a:off x="3452760" y="2733840"/>
                <a:ext cx="2057400" cy="914040"/>
              </a:xfrm>
              <a:prstGeom prst="flowChartInternal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05040" y="2885760"/>
                <a:ext cx="2057400" cy="914040"/>
              </a:xfrm>
              <a:prstGeom prst="flowChartInternal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757680" y="3038400"/>
                <a:ext cx="2057400" cy="914040"/>
              </a:xfrm>
              <a:prstGeom prst="flowChartInternal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95160" y="3371760"/>
                <a:ext cx="13539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spcAft>
                    <a:spcPts val="27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000000"/>
                    </a:solidFill>
                    <a:latin typeface="Arial"/>
                  </a:rPr>
                  <a:t>Standard-</a:t>
                </a:r>
                <a:br>
                  <a:rPr sz="1100"/>
                </a:br>
                <a:r>
                  <a:rPr b="0" lang="de-DE" sz="1100" spc="-1" strike="noStrike">
                    <a:solidFill>
                      <a:srgbClr val="000000"/>
                    </a:solidFill>
                    <a:latin typeface="Arial"/>
                  </a:rPr>
                  <a:t>Übersetzungstabell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452760" y="4419720"/>
              <a:ext cx="2362320" cy="1218600"/>
              <a:chOff x="3452760" y="4419720"/>
              <a:chExt cx="2362320" cy="1218600"/>
            </a:xfrm>
          </p:grpSpPr>
          <p:sp>
            <p:nvSpPr>
              <p:cNvPr id="156" name=""/>
              <p:cNvSpPr/>
              <p:nvPr/>
            </p:nvSpPr>
            <p:spPr>
              <a:xfrm>
                <a:off x="3452760" y="4419720"/>
                <a:ext cx="2057400" cy="914040"/>
              </a:xfrm>
              <a:prstGeom prst="flowChartInternal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05040" y="4571640"/>
                <a:ext cx="2057400" cy="914040"/>
              </a:xfrm>
              <a:prstGeom prst="flowChartInternal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57680" y="4724280"/>
                <a:ext cx="2057400" cy="914040"/>
              </a:xfrm>
              <a:prstGeom prst="flowChartInternal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95160" y="5057640"/>
                <a:ext cx="13539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spcAft>
                    <a:spcPts val="27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000000"/>
                    </a:solidFill>
                    <a:latin typeface="Arial"/>
                  </a:rPr>
                  <a:t>spezielle</a:t>
                </a:r>
                <a:br>
                  <a:rPr sz="1100"/>
                </a:br>
                <a:r>
                  <a:rPr b="0" lang="de-DE" sz="1100" spc="-1" strike="noStrike">
                    <a:solidFill>
                      <a:srgbClr val="000000"/>
                    </a:solidFill>
                    <a:latin typeface="Arial"/>
                  </a:rPr>
                  <a:t>Übersetzungstabell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424920" y="1028880"/>
              <a:ext cx="1564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(nur Internet-Vers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3F0D-4420-4FC3-863E-437E34C65B4D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20BD2-EDBF-4055-8EB3-A81F4223C3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7520" y="76320"/>
            <a:ext cx="51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bersetzungsprinzip: Beisp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Vereinfachtes Beispi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eispiel eines Parameterwertes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Parameter „Torfart“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KA3-Wert (fiktiv): „Hnc,Hnp“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1. Nachschlagen in Master-Tabelle „Übersetzungsgrundlage“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sart: „DirektTabelleMu“ (Übersetzung von Einzelwert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Regeltabelle: „tbl_43d“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Abgleichsbedingu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2.  Zerlegung in „Hnc“ und „Hnp“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3. Nachschlagen in „tbl_43d“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4. Einzelergebnisse zu „Hnr,Hnp“ zusammenfüge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248520" y="1066680"/>
            <a:ext cx="2077920" cy="673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20120" cy="288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5570640" cy="527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72200" y="914400"/>
            <a:ext cx="1143000" cy="68580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4800600"/>
            <a:ext cx="914400" cy="53352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4800600"/>
            <a:ext cx="838440" cy="53352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4800600"/>
            <a:ext cx="1447920" cy="53352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5334120"/>
            <a:ext cx="990720" cy="83808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381640"/>
            <a:ext cx="1523880" cy="83808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914400"/>
            <a:ext cx="1143000" cy="83808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23160" y="67788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9966"/>
                </a:solidFill>
                <a:latin typeface="Arial"/>
              </a:rPr>
              <a:t>Ausgangswe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1880" y="76212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9966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8006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9966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556272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9966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4840" y="4572000"/>
            <a:ext cx="1207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9966"/>
                </a:solidFill>
                <a:latin typeface="Arial"/>
              </a:rPr>
              <a:t>Master-Tabell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8400" y="5181480"/>
            <a:ext cx="164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9966"/>
                </a:solidFill>
                <a:latin typeface="Arial"/>
              </a:rPr>
              <a:t>Regeltabelle tbl_43d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2804-F38A-46FC-A213-A89AB58737B8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241A3-4D14-4BCB-B10A-C823DA569C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38520" y="76320"/>
            <a:ext cx="74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bersetzungsprinzip: Fehlerkennzei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nmerkun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Kennzeichnung von Fehler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nicht übersetzbare Ausgangswer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Kennzeichnung von manuellem Korrekturbedar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nicht eindeutig übersetzbare Ausgangswer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Versuch: Wahrscheinlichkeiten zur Hilfestellu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267080" y="3429000"/>
            <a:ext cx="2927520" cy="1317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E75E-4C7F-40E8-A731-ABE6296CB9B8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BCD16-F4C0-4CF9-8AFB-02311EBA86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6240" y="7632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Unklare, mehrdeutige Regelun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Notation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Mehrfach-Wer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Trennzeich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igenheit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regionale Spezifika („Länder-Schlüssel“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Kartierer-spezifische Angab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Fehl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Falsche Eintragungen (Verwechslungen, uneindeutige Angaben, Inkonsistenz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verbale Ergänzungen, Beschreibung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Klein-/Großbuchstab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E281-1102-4287-88BD-42911B23752E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05626-3E01-4BC2-9693-315B80A307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000" y="7632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bersetzungsschlüssel 1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Übersetzungsschlüssel 1.2 (ÜS 1.2)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 von KA3 nach KA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Verbesserung des ÜS 1.0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enutzungsschnittstelle optimiert (Mapping der Ausgangsdat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Erweiterung und Verbesserung der Übersetzungsregel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Laufzeit-Optimieru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Entfernung von Funktionalität, die sich nicht bewährt h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Zusatz-Funktionalitä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Prototypischer XML-Export der KA4-Da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ca. 50 000 Profilbeschreibungen aus Schleswig-Holste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ca. 2 000 aus Niedersachsen und Nordrhein-Westfal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1808-F0B9-4B72-B2A5-B45D1420BF69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E8558-F130-451A-AF22-F870BE228E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9280" y="76320"/>
            <a:ext cx="66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S 1.2:  Spezifikation der Eingabe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Zuordnung der 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ingabedat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Pflichtfelder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(können bei Bedarf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umdefiniert werd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76720" y="762120"/>
            <a:ext cx="5646600" cy="541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3657600" cy="269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C564-82B0-469F-87FD-3C6FF2D68CD1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D16B0-C5AD-4FAF-986A-2A9DD69F30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8640" y="76320"/>
            <a:ext cx="52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S 1.2:  Übersetzungsergeb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Kontrollansicht von Ausgangs- und übersetzten Dat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238880" cy="471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141E-1EBB-4102-A43C-7282E883EC3D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79B3F-08DC-4F5A-ABC7-A4BBCBC106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2000" y="7632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895"/>
                </a:solidFill>
                <a:latin typeface="Tahoma"/>
              </a:rPr>
              <a:t>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80" y="74304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990033"/>
                </a:solidFill>
                <a:latin typeface="Arial"/>
              </a:rPr>
              <a:t>Einführ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spcAft>
                <a:spcPts val="326"/>
              </a:spcAft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0033"/>
                </a:solidFill>
                <a:latin typeface="Arial"/>
              </a:rPr>
              <a:t>Bodendaten, Kartieranleitungen, nationale und internationale Stand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990033"/>
                </a:solidFill>
                <a:latin typeface="Arial"/>
              </a:rPr>
              <a:t>Entwicklung eines Übersetzungsschlüsse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990033"/>
                </a:solidFill>
                <a:latin typeface="Arial"/>
              </a:rPr>
              <a:t>Überblick über die Weiterentwicklun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6600"/>
                </a:solidFill>
                <a:latin typeface="Arial"/>
              </a:rPr>
              <a:t>Aufba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6600"/>
                </a:solidFill>
                <a:latin typeface="Arial"/>
              </a:rPr>
              <a:t>Übersetzungsprinzi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6600"/>
                </a:solidFill>
                <a:latin typeface="Arial"/>
              </a:rPr>
              <a:t>Probleme bei der Übersetz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6600"/>
                </a:solidFill>
                <a:latin typeface="Arial"/>
              </a:rPr>
              <a:t>Übersetzungsschlüssel 1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spcAft>
                <a:spcPts val="326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6600"/>
                </a:solidFill>
                <a:latin typeface="Arial"/>
              </a:rPr>
              <a:t>Access-Anwendu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6600"/>
                </a:solidFill>
                <a:latin typeface="Arial"/>
              </a:rPr>
              <a:t>Übersetzungsschlüssel 2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spcAft>
                <a:spcPts val="326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6600"/>
                </a:solidFill>
                <a:latin typeface="Arial"/>
              </a:rPr>
              <a:t>aktuelle nationale Kartieranleitung KA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26"/>
              </a:spcBef>
              <a:spcAft>
                <a:spcPts val="326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6600"/>
                </a:solidFill>
                <a:latin typeface="Arial"/>
              </a:rPr>
              <a:t>internationaler Standard W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6600"/>
                </a:solidFill>
                <a:latin typeface="Arial"/>
              </a:rPr>
              <a:t>Internet-Ver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6699"/>
                </a:solidFill>
                <a:latin typeface="Arial"/>
              </a:rPr>
              <a:t>Zusammenfassung &amp; Ausbli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FC76-4561-48FD-BFF1-A80D5AE91DA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67F7D-8FB3-4B53-9F51-0F56D96BF8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7440" y="76320"/>
            <a:ext cx="63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bersetzungsschlüssel 2.0: Übers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Übersetzungsschlüssel 2.0 (ÜS 2.0),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ntwicklung in verschiedenen Variante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KA4/KA5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 von KA4 in KA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WRB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 KA5 nach WRB/F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Internet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Internet-Anwendung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zunächst: KA4/KA5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in Zukunft auch: KA5/W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DCB6-C7C6-46F5-A77E-55F16F6413A8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899C2-2871-4C5C-9FE8-3381A09E11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03760" y="7632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S 2.0 KA4/KA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Übersetzungsschlüssel 2.0 KA4/KA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 von KA4 in KA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internes Redesign einiger Programmfunktion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fast ausschließlich Anpassung der Übersetzungsregel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squalität wird zur Zeit noch evaluie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94F0-A40F-4437-AB19-31F77C57A54B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3C5E5-63E3-4674-9F33-8CE95B32D2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9600" y="7632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S 2.0 W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Übersetzungsschlüssel 2.0 WRB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 von KA5 nach W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inhaltlich noch in der Entwicklu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viele Einzelheiten der Übersetzung unk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neue Übersetzungsmechanismen mit Häufigkeiten / Wahrscheinlichkei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eventuell Entwicklung eines neuen, zusätzlichen Regelmechanismus erforderlich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z.B. Regelbasierte Einbeziehung zusätzlicher Parame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2809800" cy="1619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641840" cy="2151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4349160" y="3191040"/>
            <a:ext cx="178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9966"/>
                </a:solidFill>
                <a:latin typeface="Arial"/>
              </a:rPr>
              <a:t>Regeltabelle „texture“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920" y="3733920"/>
            <a:ext cx="1436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9966"/>
                </a:solidFill>
                <a:latin typeface="Arial"/>
              </a:rPr>
              <a:t>Beispiel-Ausgab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E64A-BA59-48A7-87CB-D5C141160A14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744BA-0A7E-4DF8-93F4-C5C453221E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276720" y="2543040"/>
            <a:ext cx="5688000" cy="3665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190440" y="763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S 2.0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Übersetzungsschlüssel 2.0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isher Übersetzung von KA4 nach KA5, WRB wird folg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allgemeine Zugänglichkeit geplant, keine Installation erforderli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PHP, Microsoft SQL Server, Internet Information Server (aber andere möglich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Vorteil MS SQL: leichte Übertragbarkeit von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Automatische Übernahme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der Übersetzungsregel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Keine Bearbeitung der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sregeln durch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„normale“ User gepl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Up-/Download von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odendaten (CS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Speicherung in Datenbank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(ca. 7 Tag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XML-Transfer gepl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F7C4-E421-49B1-B585-37A94575A49B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B20D7-2EF5-485B-B818-B7A25F6F27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0440" y="763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S 2.0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66680" y="1125000"/>
            <a:ext cx="5943600" cy="4818600"/>
            <a:chOff x="1066680" y="1125000"/>
            <a:chExt cx="5943600" cy="4818600"/>
          </a:xfrm>
        </p:grpSpPr>
        <p:grpSp>
          <p:nvGrpSpPr>
            <p:cNvPr id="208" name=""/>
            <p:cNvGrpSpPr/>
            <p:nvPr/>
          </p:nvGrpSpPr>
          <p:grpSpPr>
            <a:xfrm>
              <a:off x="2819520" y="5257800"/>
              <a:ext cx="1752480" cy="685800"/>
              <a:chOff x="2819520" y="5257800"/>
              <a:chExt cx="1752480" cy="685800"/>
            </a:xfrm>
          </p:grpSpPr>
          <p:sp>
            <p:nvSpPr>
              <p:cNvPr id="209" name=""/>
              <p:cNvSpPr/>
              <p:nvPr/>
            </p:nvSpPr>
            <p:spPr>
              <a:xfrm>
                <a:off x="2819520" y="5257800"/>
                <a:ext cx="1752480" cy="685800"/>
              </a:xfrm>
              <a:prstGeom prst="flowChartMagneticDisk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08800" y="5562360"/>
                <a:ext cx="157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26"/>
                  </a:spcBef>
                  <a:spcAft>
                    <a:spcPts val="3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300" spc="-1" strike="noStrike">
                    <a:solidFill>
                      <a:srgbClr val="000000"/>
                    </a:solidFill>
                    <a:latin typeface="Arial"/>
                  </a:rPr>
                  <a:t>Microsoft SQL Serv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066680" y="2362320"/>
              <a:ext cx="5943600" cy="2590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9320" y="3200400"/>
              <a:ext cx="5486400" cy="1676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7080" y="3352680"/>
              <a:ext cx="2362320" cy="30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Kommunik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1600" y="4495680"/>
              <a:ext cx="525780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Datenbanklay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67080" y="3733920"/>
              <a:ext cx="2362320" cy="30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67080" y="4114800"/>
              <a:ext cx="2362320" cy="30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Sicherheitsfunktion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95280" y="3657600"/>
              <a:ext cx="2362320" cy="3063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weitere PHP-Funktion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99800" y="4191120"/>
              <a:ext cx="1326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66ff"/>
                  </a:solidFill>
                  <a:latin typeface="Arial"/>
                </a:rPr>
                <a:t>Modul-Frame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4920" y="3276720"/>
              <a:ext cx="33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H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4080" y="24289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Web-Serv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52360" y="2666880"/>
              <a:ext cx="302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Microsoft Internet Information Server (II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48040" y="2895480"/>
              <a:ext cx="1929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alternativ möglich: Apach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5880" y="556272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9000" y="4800600"/>
              <a:ext cx="380880" cy="457200"/>
            </a:xfrm>
            <a:prstGeom prst="upDownArrow">
              <a:avLst>
                <a:gd name="adj1" fmla="val 50000"/>
                <a:gd name="adj2" fmla="val 2389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724280" y="1295280"/>
              <a:ext cx="673200" cy="944640"/>
              <a:chOff x="4724280" y="1295280"/>
              <a:chExt cx="673200" cy="944640"/>
            </a:xfrm>
          </p:grpSpPr>
          <p:sp>
            <p:nvSpPr>
              <p:cNvPr id="226" name=""/>
              <p:cNvSpPr/>
              <p:nvPr/>
            </p:nvSpPr>
            <p:spPr>
              <a:xfrm>
                <a:off x="4732920" y="2064960"/>
                <a:ext cx="656280" cy="160560"/>
              </a:xfrm>
              <a:custGeom>
                <a:avLst/>
                <a:gdLst/>
                <a:ahLst/>
                <a:rect l="l" t="t" r="r" b="b"/>
                <a:pathLst>
                  <a:path w="1487" h="366">
                    <a:moveTo>
                      <a:pt x="244" y="0"/>
                    </a:moveTo>
                    <a:lnTo>
                      <a:pt x="7" y="295"/>
                    </a:lnTo>
                    <a:lnTo>
                      <a:pt x="0" y="366"/>
                    </a:lnTo>
                    <a:lnTo>
                      <a:pt x="1460" y="366"/>
                    </a:lnTo>
                    <a:lnTo>
                      <a:pt x="1487" y="301"/>
                    </a:lnTo>
                    <a:lnTo>
                      <a:pt x="1268" y="0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7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33640" y="2194200"/>
                <a:ext cx="437400" cy="14040"/>
              </a:xfrm>
              <a:prstGeom prst="rect">
                <a:avLst/>
              </a:prstGeom>
              <a:solidFill>
                <a:srgbClr val="c9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960" y="1309320"/>
                <a:ext cx="628200" cy="725760"/>
              </a:xfrm>
              <a:custGeom>
                <a:avLst/>
                <a:gdLst/>
                <a:ahLst/>
                <a:rect l="l" t="t" r="r" b="b"/>
                <a:pathLst>
                  <a:path w="1422" h="1651">
                    <a:moveTo>
                      <a:pt x="0" y="0"/>
                    </a:moveTo>
                    <a:lnTo>
                      <a:pt x="6" y="1158"/>
                    </a:lnTo>
                    <a:lnTo>
                      <a:pt x="601" y="1158"/>
                    </a:lnTo>
                    <a:lnTo>
                      <a:pt x="596" y="1375"/>
                    </a:lnTo>
                    <a:lnTo>
                      <a:pt x="385" y="1517"/>
                    </a:lnTo>
                    <a:lnTo>
                      <a:pt x="537" y="1651"/>
                    </a:lnTo>
                    <a:lnTo>
                      <a:pt x="896" y="1651"/>
                    </a:lnTo>
                    <a:lnTo>
                      <a:pt x="1038" y="1504"/>
                    </a:lnTo>
                    <a:lnTo>
                      <a:pt x="813" y="1375"/>
                    </a:lnTo>
                    <a:lnTo>
                      <a:pt x="813" y="1158"/>
                    </a:lnTo>
                    <a:lnTo>
                      <a:pt x="1415" y="1146"/>
                    </a:lnTo>
                    <a:lnTo>
                      <a:pt x="14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17520" y="1376640"/>
                <a:ext cx="486720" cy="378720"/>
              </a:xfrm>
              <a:custGeom>
                <a:avLst/>
                <a:gdLst/>
                <a:ahLst/>
                <a:rect l="l" t="t" r="r" b="b"/>
                <a:pathLst>
                  <a:path w="1102" h="861">
                    <a:moveTo>
                      <a:pt x="0" y="0"/>
                    </a:moveTo>
                    <a:lnTo>
                      <a:pt x="0" y="861"/>
                    </a:lnTo>
                    <a:lnTo>
                      <a:pt x="1102" y="861"/>
                    </a:lnTo>
                    <a:lnTo>
                      <a:pt x="110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57480" y="1432080"/>
                <a:ext cx="326880" cy="281160"/>
              </a:xfrm>
              <a:custGeom>
                <a:avLst/>
                <a:gdLst/>
                <a:ahLst/>
                <a:rect l="l" t="t" r="r" b="b"/>
                <a:pathLst>
                  <a:path w="742" h="641">
                    <a:moveTo>
                      <a:pt x="0" y="0"/>
                    </a:moveTo>
                    <a:lnTo>
                      <a:pt x="2" y="6"/>
                    </a:lnTo>
                    <a:lnTo>
                      <a:pt x="10" y="23"/>
                    </a:lnTo>
                    <a:lnTo>
                      <a:pt x="24" y="51"/>
                    </a:lnTo>
                    <a:lnTo>
                      <a:pt x="44" y="85"/>
                    </a:lnTo>
                    <a:lnTo>
                      <a:pt x="69" y="128"/>
                    </a:lnTo>
                    <a:lnTo>
                      <a:pt x="100" y="175"/>
                    </a:lnTo>
                    <a:lnTo>
                      <a:pt x="137" y="227"/>
                    </a:lnTo>
                    <a:lnTo>
                      <a:pt x="180" y="281"/>
                    </a:lnTo>
                    <a:lnTo>
                      <a:pt x="228" y="337"/>
                    </a:lnTo>
                    <a:lnTo>
                      <a:pt x="282" y="393"/>
                    </a:lnTo>
                    <a:lnTo>
                      <a:pt x="343" y="446"/>
                    </a:lnTo>
                    <a:lnTo>
                      <a:pt x="410" y="497"/>
                    </a:lnTo>
                    <a:lnTo>
                      <a:pt x="484" y="543"/>
                    </a:lnTo>
                    <a:lnTo>
                      <a:pt x="563" y="583"/>
                    </a:lnTo>
                    <a:lnTo>
                      <a:pt x="650" y="617"/>
                    </a:lnTo>
                    <a:lnTo>
                      <a:pt x="742" y="641"/>
                    </a:lnTo>
                    <a:lnTo>
                      <a:pt x="0" y="6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075640" y="1853280"/>
                <a:ext cx="253440" cy="235080"/>
              </a:xfrm>
              <a:custGeom>
                <a:avLst/>
                <a:gdLst/>
                <a:ahLst/>
                <a:rect l="l" t="t" r="r" b="b"/>
                <a:pathLst>
                  <a:path w="576" h="536">
                    <a:moveTo>
                      <a:pt x="16" y="0"/>
                    </a:moveTo>
                    <a:lnTo>
                      <a:pt x="369" y="16"/>
                    </a:lnTo>
                    <a:lnTo>
                      <a:pt x="576" y="264"/>
                    </a:lnTo>
                    <a:lnTo>
                      <a:pt x="184" y="528"/>
                    </a:lnTo>
                    <a:lnTo>
                      <a:pt x="104" y="536"/>
                    </a:lnTo>
                    <a:lnTo>
                      <a:pt x="472" y="264"/>
                    </a:lnTo>
                    <a:lnTo>
                      <a:pt x="320" y="79"/>
                    </a:lnTo>
                    <a:lnTo>
                      <a:pt x="0" y="7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24280" y="1295280"/>
                <a:ext cx="673200" cy="944640"/>
              </a:xfrm>
              <a:custGeom>
                <a:avLst/>
                <a:gdLst/>
                <a:ahLst/>
                <a:rect l="l" t="t" r="r" b="b"/>
                <a:pathLst>
                  <a:path w="1525" h="2150">
                    <a:moveTo>
                      <a:pt x="1295" y="1741"/>
                    </a:moveTo>
                    <a:lnTo>
                      <a:pt x="1153" y="1741"/>
                    </a:lnTo>
                    <a:lnTo>
                      <a:pt x="1398" y="1536"/>
                    </a:lnTo>
                    <a:lnTo>
                      <a:pt x="1159" y="1254"/>
                    </a:lnTo>
                    <a:lnTo>
                      <a:pt x="833" y="1254"/>
                    </a:lnTo>
                    <a:lnTo>
                      <a:pt x="833" y="1429"/>
                    </a:lnTo>
                    <a:lnTo>
                      <a:pt x="1060" y="1554"/>
                    </a:lnTo>
                    <a:lnTo>
                      <a:pt x="938" y="1664"/>
                    </a:lnTo>
                    <a:lnTo>
                      <a:pt x="604" y="1664"/>
                    </a:lnTo>
                    <a:lnTo>
                      <a:pt x="462" y="1562"/>
                    </a:lnTo>
                    <a:lnTo>
                      <a:pt x="679" y="1428"/>
                    </a:lnTo>
                    <a:lnTo>
                      <a:pt x="679" y="1165"/>
                    </a:lnTo>
                    <a:lnTo>
                      <a:pt x="78" y="1165"/>
                    </a:lnTo>
                    <a:lnTo>
                      <a:pt x="78" y="52"/>
                    </a:lnTo>
                    <a:lnTo>
                      <a:pt x="1448" y="52"/>
                    </a:lnTo>
                    <a:lnTo>
                      <a:pt x="1448" y="1158"/>
                    </a:lnTo>
                    <a:lnTo>
                      <a:pt x="891" y="1158"/>
                    </a:lnTo>
                    <a:lnTo>
                      <a:pt x="891" y="1062"/>
                    </a:lnTo>
                    <a:lnTo>
                      <a:pt x="1340" y="1062"/>
                    </a:lnTo>
                    <a:lnTo>
                      <a:pt x="1340" y="154"/>
                    </a:lnTo>
                    <a:lnTo>
                      <a:pt x="187" y="154"/>
                    </a:lnTo>
                    <a:lnTo>
                      <a:pt x="187" y="1062"/>
                    </a:lnTo>
                    <a:lnTo>
                      <a:pt x="634" y="1062"/>
                    </a:lnTo>
                    <a:lnTo>
                      <a:pt x="634" y="1120"/>
                    </a:lnTo>
                    <a:lnTo>
                      <a:pt x="686" y="1120"/>
                    </a:lnTo>
                    <a:lnTo>
                      <a:pt x="686" y="1010"/>
                    </a:lnTo>
                    <a:lnTo>
                      <a:pt x="238" y="1010"/>
                    </a:lnTo>
                    <a:lnTo>
                      <a:pt x="238" y="205"/>
                    </a:lnTo>
                    <a:lnTo>
                      <a:pt x="1288" y="205"/>
                    </a:lnTo>
                    <a:lnTo>
                      <a:pt x="1288" y="1010"/>
                    </a:lnTo>
                    <a:lnTo>
                      <a:pt x="840" y="1010"/>
                    </a:lnTo>
                    <a:lnTo>
                      <a:pt x="840" y="1210"/>
                    </a:lnTo>
                    <a:lnTo>
                      <a:pt x="1500" y="1210"/>
                    </a:lnTo>
                    <a:lnTo>
                      <a:pt x="1500" y="0"/>
                    </a:lnTo>
                    <a:lnTo>
                      <a:pt x="27" y="0"/>
                    </a:lnTo>
                    <a:lnTo>
                      <a:pt x="27" y="1216"/>
                    </a:lnTo>
                    <a:lnTo>
                      <a:pt x="628" y="1216"/>
                    </a:lnTo>
                    <a:lnTo>
                      <a:pt x="628" y="1399"/>
                    </a:lnTo>
                    <a:lnTo>
                      <a:pt x="371" y="1560"/>
                    </a:lnTo>
                    <a:lnTo>
                      <a:pt x="588" y="1714"/>
                    </a:lnTo>
                    <a:lnTo>
                      <a:pt x="958" y="1714"/>
                    </a:lnTo>
                    <a:lnTo>
                      <a:pt x="1145" y="1543"/>
                    </a:lnTo>
                    <a:lnTo>
                      <a:pt x="885" y="1399"/>
                    </a:lnTo>
                    <a:lnTo>
                      <a:pt x="885" y="1304"/>
                    </a:lnTo>
                    <a:lnTo>
                      <a:pt x="1136" y="1304"/>
                    </a:lnTo>
                    <a:lnTo>
                      <a:pt x="1332" y="1535"/>
                    </a:lnTo>
                    <a:lnTo>
                      <a:pt x="1009" y="1785"/>
                    </a:lnTo>
                    <a:lnTo>
                      <a:pt x="1269" y="1785"/>
                    </a:lnTo>
                    <a:lnTo>
                      <a:pt x="1474" y="2056"/>
                    </a:lnTo>
                    <a:lnTo>
                      <a:pt x="1474" y="2098"/>
                    </a:lnTo>
                    <a:lnTo>
                      <a:pt x="52" y="2098"/>
                    </a:lnTo>
                    <a:lnTo>
                      <a:pt x="52" y="2062"/>
                    </a:lnTo>
                    <a:lnTo>
                      <a:pt x="251" y="1791"/>
                    </a:lnTo>
                    <a:lnTo>
                      <a:pt x="871" y="1791"/>
                    </a:lnTo>
                    <a:lnTo>
                      <a:pt x="871" y="1748"/>
                    </a:lnTo>
                    <a:lnTo>
                      <a:pt x="225" y="1748"/>
                    </a:lnTo>
                    <a:lnTo>
                      <a:pt x="0" y="2045"/>
                    </a:lnTo>
                    <a:lnTo>
                      <a:pt x="0" y="2150"/>
                    </a:lnTo>
                    <a:lnTo>
                      <a:pt x="1525" y="2150"/>
                    </a:lnTo>
                    <a:lnTo>
                      <a:pt x="1525" y="2038"/>
                    </a:lnTo>
                    <a:lnTo>
                      <a:pt x="1295" y="1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44960" y="1455840"/>
                <a:ext cx="5796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86440" y="1455840"/>
                <a:ext cx="756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3440" y="1455840"/>
                <a:ext cx="4248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90960" y="1455840"/>
                <a:ext cx="342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81840" y="1455840"/>
                <a:ext cx="432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65920" y="1523520"/>
                <a:ext cx="306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17400" y="1523520"/>
                <a:ext cx="306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90960" y="1523520"/>
                <a:ext cx="5004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1880" y="1523520"/>
                <a:ext cx="846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67440" y="1523520"/>
                <a:ext cx="5724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64920" y="1591200"/>
                <a:ext cx="6012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90960" y="1591200"/>
                <a:ext cx="9864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09400" y="1591200"/>
                <a:ext cx="846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14520" y="1591200"/>
                <a:ext cx="306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0960" y="1658880"/>
                <a:ext cx="3852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64920" y="1658880"/>
                <a:ext cx="6012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03000" y="1658880"/>
                <a:ext cx="4248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042880" y="1658880"/>
                <a:ext cx="396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50000" y="1658880"/>
                <a:ext cx="7308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62880" y="2101680"/>
                <a:ext cx="3956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40560" y="2127240"/>
                <a:ext cx="44604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00960" y="2160720"/>
                <a:ext cx="51696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62600" y="1829520"/>
                <a:ext cx="88200" cy="178200"/>
              </a:xfrm>
              <a:custGeom>
                <a:avLst/>
                <a:gdLst/>
                <a:ahLst/>
                <a:rect l="l" t="t" r="r" b="b"/>
                <a:pathLst>
                  <a:path w="201" h="406">
                    <a:moveTo>
                      <a:pt x="201" y="39"/>
                    </a:moveTo>
                    <a:lnTo>
                      <a:pt x="201" y="231"/>
                    </a:lnTo>
                    <a:lnTo>
                      <a:pt x="88" y="406"/>
                    </a:lnTo>
                    <a:lnTo>
                      <a:pt x="0" y="343"/>
                    </a:lnTo>
                    <a:lnTo>
                      <a:pt x="177" y="231"/>
                    </a:lnTo>
                    <a:lnTo>
                      <a:pt x="177" y="0"/>
                    </a:lnTo>
                    <a:lnTo>
                      <a:pt x="201" y="39"/>
                    </a:lnTo>
                    <a:close/>
                  </a:path>
                </a:pathLst>
              </a:custGeom>
              <a:solidFill>
                <a:srgbClr val="c9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1144440" y="152388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505320" y="1295280"/>
              <a:ext cx="672840" cy="944640"/>
              <a:chOff x="3505320" y="1295280"/>
              <a:chExt cx="672840" cy="944640"/>
            </a:xfrm>
          </p:grpSpPr>
          <p:sp>
            <p:nvSpPr>
              <p:cNvPr id="258" name=""/>
              <p:cNvSpPr/>
              <p:nvPr/>
            </p:nvSpPr>
            <p:spPr>
              <a:xfrm>
                <a:off x="3513960" y="2064960"/>
                <a:ext cx="655920" cy="160560"/>
              </a:xfrm>
              <a:custGeom>
                <a:avLst/>
                <a:gdLst/>
                <a:ahLst/>
                <a:rect l="l" t="t" r="r" b="b"/>
                <a:pathLst>
                  <a:path w="1487" h="366">
                    <a:moveTo>
                      <a:pt x="244" y="0"/>
                    </a:moveTo>
                    <a:lnTo>
                      <a:pt x="7" y="295"/>
                    </a:lnTo>
                    <a:lnTo>
                      <a:pt x="0" y="366"/>
                    </a:lnTo>
                    <a:lnTo>
                      <a:pt x="1460" y="366"/>
                    </a:lnTo>
                    <a:lnTo>
                      <a:pt x="1487" y="301"/>
                    </a:lnTo>
                    <a:lnTo>
                      <a:pt x="1268" y="0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7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14680" y="2194200"/>
                <a:ext cx="437040" cy="14040"/>
              </a:xfrm>
              <a:prstGeom prst="rect">
                <a:avLst/>
              </a:prstGeom>
              <a:solidFill>
                <a:srgbClr val="c9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28000" y="1309320"/>
                <a:ext cx="627840" cy="725760"/>
              </a:xfrm>
              <a:custGeom>
                <a:avLst/>
                <a:gdLst/>
                <a:ahLst/>
                <a:rect l="l" t="t" r="r" b="b"/>
                <a:pathLst>
                  <a:path w="1422" h="1651">
                    <a:moveTo>
                      <a:pt x="0" y="0"/>
                    </a:moveTo>
                    <a:lnTo>
                      <a:pt x="6" y="1158"/>
                    </a:lnTo>
                    <a:lnTo>
                      <a:pt x="601" y="1158"/>
                    </a:lnTo>
                    <a:lnTo>
                      <a:pt x="596" y="1375"/>
                    </a:lnTo>
                    <a:lnTo>
                      <a:pt x="385" y="1517"/>
                    </a:lnTo>
                    <a:lnTo>
                      <a:pt x="537" y="1651"/>
                    </a:lnTo>
                    <a:lnTo>
                      <a:pt x="896" y="1651"/>
                    </a:lnTo>
                    <a:lnTo>
                      <a:pt x="1038" y="1504"/>
                    </a:lnTo>
                    <a:lnTo>
                      <a:pt x="813" y="1375"/>
                    </a:lnTo>
                    <a:lnTo>
                      <a:pt x="813" y="1158"/>
                    </a:lnTo>
                    <a:lnTo>
                      <a:pt x="1415" y="1146"/>
                    </a:lnTo>
                    <a:lnTo>
                      <a:pt x="14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8560" y="1376640"/>
                <a:ext cx="486720" cy="378720"/>
              </a:xfrm>
              <a:custGeom>
                <a:avLst/>
                <a:gdLst/>
                <a:ahLst/>
                <a:rect l="l" t="t" r="r" b="b"/>
                <a:pathLst>
                  <a:path w="1102" h="861">
                    <a:moveTo>
                      <a:pt x="0" y="0"/>
                    </a:moveTo>
                    <a:lnTo>
                      <a:pt x="0" y="861"/>
                    </a:lnTo>
                    <a:lnTo>
                      <a:pt x="1102" y="861"/>
                    </a:lnTo>
                    <a:lnTo>
                      <a:pt x="110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38160" y="1432080"/>
                <a:ext cx="326880" cy="281160"/>
              </a:xfrm>
              <a:custGeom>
                <a:avLst/>
                <a:gdLst/>
                <a:ahLst/>
                <a:rect l="l" t="t" r="r" b="b"/>
                <a:pathLst>
                  <a:path w="742" h="641">
                    <a:moveTo>
                      <a:pt x="0" y="0"/>
                    </a:moveTo>
                    <a:lnTo>
                      <a:pt x="2" y="6"/>
                    </a:lnTo>
                    <a:lnTo>
                      <a:pt x="10" y="23"/>
                    </a:lnTo>
                    <a:lnTo>
                      <a:pt x="24" y="51"/>
                    </a:lnTo>
                    <a:lnTo>
                      <a:pt x="44" y="85"/>
                    </a:lnTo>
                    <a:lnTo>
                      <a:pt x="69" y="128"/>
                    </a:lnTo>
                    <a:lnTo>
                      <a:pt x="100" y="175"/>
                    </a:lnTo>
                    <a:lnTo>
                      <a:pt x="137" y="227"/>
                    </a:lnTo>
                    <a:lnTo>
                      <a:pt x="180" y="281"/>
                    </a:lnTo>
                    <a:lnTo>
                      <a:pt x="228" y="337"/>
                    </a:lnTo>
                    <a:lnTo>
                      <a:pt x="282" y="393"/>
                    </a:lnTo>
                    <a:lnTo>
                      <a:pt x="343" y="446"/>
                    </a:lnTo>
                    <a:lnTo>
                      <a:pt x="410" y="497"/>
                    </a:lnTo>
                    <a:lnTo>
                      <a:pt x="484" y="543"/>
                    </a:lnTo>
                    <a:lnTo>
                      <a:pt x="563" y="583"/>
                    </a:lnTo>
                    <a:lnTo>
                      <a:pt x="650" y="617"/>
                    </a:lnTo>
                    <a:lnTo>
                      <a:pt x="742" y="641"/>
                    </a:lnTo>
                    <a:lnTo>
                      <a:pt x="0" y="6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56680" y="1853280"/>
                <a:ext cx="253080" cy="235080"/>
              </a:xfrm>
              <a:custGeom>
                <a:avLst/>
                <a:gdLst/>
                <a:ahLst/>
                <a:rect l="l" t="t" r="r" b="b"/>
                <a:pathLst>
                  <a:path w="576" h="536">
                    <a:moveTo>
                      <a:pt x="16" y="0"/>
                    </a:moveTo>
                    <a:lnTo>
                      <a:pt x="369" y="16"/>
                    </a:lnTo>
                    <a:lnTo>
                      <a:pt x="576" y="264"/>
                    </a:lnTo>
                    <a:lnTo>
                      <a:pt x="184" y="528"/>
                    </a:lnTo>
                    <a:lnTo>
                      <a:pt x="104" y="536"/>
                    </a:lnTo>
                    <a:lnTo>
                      <a:pt x="472" y="264"/>
                    </a:lnTo>
                    <a:lnTo>
                      <a:pt x="320" y="79"/>
                    </a:lnTo>
                    <a:lnTo>
                      <a:pt x="0" y="7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05320" y="1295280"/>
                <a:ext cx="672840" cy="944640"/>
              </a:xfrm>
              <a:custGeom>
                <a:avLst/>
                <a:gdLst/>
                <a:ahLst/>
                <a:rect l="l" t="t" r="r" b="b"/>
                <a:pathLst>
                  <a:path w="1525" h="2150">
                    <a:moveTo>
                      <a:pt x="1295" y="1741"/>
                    </a:moveTo>
                    <a:lnTo>
                      <a:pt x="1153" y="1741"/>
                    </a:lnTo>
                    <a:lnTo>
                      <a:pt x="1398" y="1536"/>
                    </a:lnTo>
                    <a:lnTo>
                      <a:pt x="1159" y="1254"/>
                    </a:lnTo>
                    <a:lnTo>
                      <a:pt x="833" y="1254"/>
                    </a:lnTo>
                    <a:lnTo>
                      <a:pt x="833" y="1429"/>
                    </a:lnTo>
                    <a:lnTo>
                      <a:pt x="1060" y="1554"/>
                    </a:lnTo>
                    <a:lnTo>
                      <a:pt x="938" y="1664"/>
                    </a:lnTo>
                    <a:lnTo>
                      <a:pt x="604" y="1664"/>
                    </a:lnTo>
                    <a:lnTo>
                      <a:pt x="462" y="1562"/>
                    </a:lnTo>
                    <a:lnTo>
                      <a:pt x="679" y="1428"/>
                    </a:lnTo>
                    <a:lnTo>
                      <a:pt x="679" y="1165"/>
                    </a:lnTo>
                    <a:lnTo>
                      <a:pt x="78" y="1165"/>
                    </a:lnTo>
                    <a:lnTo>
                      <a:pt x="78" y="52"/>
                    </a:lnTo>
                    <a:lnTo>
                      <a:pt x="1448" y="52"/>
                    </a:lnTo>
                    <a:lnTo>
                      <a:pt x="1448" y="1158"/>
                    </a:lnTo>
                    <a:lnTo>
                      <a:pt x="891" y="1158"/>
                    </a:lnTo>
                    <a:lnTo>
                      <a:pt x="891" y="1062"/>
                    </a:lnTo>
                    <a:lnTo>
                      <a:pt x="1340" y="1062"/>
                    </a:lnTo>
                    <a:lnTo>
                      <a:pt x="1340" y="154"/>
                    </a:lnTo>
                    <a:lnTo>
                      <a:pt x="187" y="154"/>
                    </a:lnTo>
                    <a:lnTo>
                      <a:pt x="187" y="1062"/>
                    </a:lnTo>
                    <a:lnTo>
                      <a:pt x="634" y="1062"/>
                    </a:lnTo>
                    <a:lnTo>
                      <a:pt x="634" y="1120"/>
                    </a:lnTo>
                    <a:lnTo>
                      <a:pt x="686" y="1120"/>
                    </a:lnTo>
                    <a:lnTo>
                      <a:pt x="686" y="1010"/>
                    </a:lnTo>
                    <a:lnTo>
                      <a:pt x="238" y="1010"/>
                    </a:lnTo>
                    <a:lnTo>
                      <a:pt x="238" y="205"/>
                    </a:lnTo>
                    <a:lnTo>
                      <a:pt x="1288" y="205"/>
                    </a:lnTo>
                    <a:lnTo>
                      <a:pt x="1288" y="1010"/>
                    </a:lnTo>
                    <a:lnTo>
                      <a:pt x="840" y="1010"/>
                    </a:lnTo>
                    <a:lnTo>
                      <a:pt x="840" y="1210"/>
                    </a:lnTo>
                    <a:lnTo>
                      <a:pt x="1500" y="1210"/>
                    </a:lnTo>
                    <a:lnTo>
                      <a:pt x="1500" y="0"/>
                    </a:lnTo>
                    <a:lnTo>
                      <a:pt x="27" y="0"/>
                    </a:lnTo>
                    <a:lnTo>
                      <a:pt x="27" y="1216"/>
                    </a:lnTo>
                    <a:lnTo>
                      <a:pt x="628" y="1216"/>
                    </a:lnTo>
                    <a:lnTo>
                      <a:pt x="628" y="1399"/>
                    </a:lnTo>
                    <a:lnTo>
                      <a:pt x="371" y="1560"/>
                    </a:lnTo>
                    <a:lnTo>
                      <a:pt x="588" y="1714"/>
                    </a:lnTo>
                    <a:lnTo>
                      <a:pt x="958" y="1714"/>
                    </a:lnTo>
                    <a:lnTo>
                      <a:pt x="1145" y="1543"/>
                    </a:lnTo>
                    <a:lnTo>
                      <a:pt x="885" y="1399"/>
                    </a:lnTo>
                    <a:lnTo>
                      <a:pt x="885" y="1304"/>
                    </a:lnTo>
                    <a:lnTo>
                      <a:pt x="1136" y="1304"/>
                    </a:lnTo>
                    <a:lnTo>
                      <a:pt x="1332" y="1535"/>
                    </a:lnTo>
                    <a:lnTo>
                      <a:pt x="1009" y="1785"/>
                    </a:lnTo>
                    <a:lnTo>
                      <a:pt x="1269" y="1785"/>
                    </a:lnTo>
                    <a:lnTo>
                      <a:pt x="1474" y="2056"/>
                    </a:lnTo>
                    <a:lnTo>
                      <a:pt x="1474" y="2098"/>
                    </a:lnTo>
                    <a:lnTo>
                      <a:pt x="52" y="2098"/>
                    </a:lnTo>
                    <a:lnTo>
                      <a:pt x="52" y="2062"/>
                    </a:lnTo>
                    <a:lnTo>
                      <a:pt x="251" y="1791"/>
                    </a:lnTo>
                    <a:lnTo>
                      <a:pt x="871" y="1791"/>
                    </a:lnTo>
                    <a:lnTo>
                      <a:pt x="871" y="1748"/>
                    </a:lnTo>
                    <a:lnTo>
                      <a:pt x="225" y="1748"/>
                    </a:lnTo>
                    <a:lnTo>
                      <a:pt x="0" y="2045"/>
                    </a:lnTo>
                    <a:lnTo>
                      <a:pt x="0" y="2150"/>
                    </a:lnTo>
                    <a:lnTo>
                      <a:pt x="1525" y="2150"/>
                    </a:lnTo>
                    <a:lnTo>
                      <a:pt x="1525" y="2038"/>
                    </a:lnTo>
                    <a:lnTo>
                      <a:pt x="1295" y="1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26000" y="1455840"/>
                <a:ext cx="5796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67120" y="1455840"/>
                <a:ext cx="756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04480" y="1455840"/>
                <a:ext cx="4212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72000" y="1455840"/>
                <a:ext cx="342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62520" y="1455840"/>
                <a:ext cx="432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46960" y="1523520"/>
                <a:ext cx="306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98080" y="1523520"/>
                <a:ext cx="306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672000" y="1523520"/>
                <a:ext cx="5004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42560" y="1523520"/>
                <a:ext cx="846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48480" y="1523520"/>
                <a:ext cx="5724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45960" y="1591200"/>
                <a:ext cx="597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672000" y="1591200"/>
                <a:ext cx="9864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790440" y="1591200"/>
                <a:ext cx="846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95560" y="1591200"/>
                <a:ext cx="306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672000" y="1658880"/>
                <a:ext cx="3852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45960" y="1658880"/>
                <a:ext cx="5976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84040" y="1658880"/>
                <a:ext cx="4212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23920" y="1658880"/>
                <a:ext cx="396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31040" y="1658880"/>
                <a:ext cx="7308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43920" y="2101680"/>
                <a:ext cx="3952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621600" y="2127240"/>
                <a:ext cx="44604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82000" y="2160720"/>
                <a:ext cx="516600" cy="2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43640" y="1829520"/>
                <a:ext cx="88200" cy="178200"/>
              </a:xfrm>
              <a:custGeom>
                <a:avLst/>
                <a:gdLst/>
                <a:ahLst/>
                <a:rect l="l" t="t" r="r" b="b"/>
                <a:pathLst>
                  <a:path w="201" h="406">
                    <a:moveTo>
                      <a:pt x="201" y="39"/>
                    </a:moveTo>
                    <a:lnTo>
                      <a:pt x="201" y="231"/>
                    </a:lnTo>
                    <a:lnTo>
                      <a:pt x="88" y="406"/>
                    </a:lnTo>
                    <a:lnTo>
                      <a:pt x="0" y="343"/>
                    </a:lnTo>
                    <a:lnTo>
                      <a:pt x="177" y="231"/>
                    </a:lnTo>
                    <a:lnTo>
                      <a:pt x="177" y="0"/>
                    </a:lnTo>
                    <a:lnTo>
                      <a:pt x="201" y="39"/>
                    </a:lnTo>
                    <a:close/>
                  </a:path>
                </a:pathLst>
              </a:custGeom>
              <a:solidFill>
                <a:srgbClr val="c9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4114800" y="2286000"/>
              <a:ext cx="5335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028840" y="2286000"/>
              <a:ext cx="15228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84960" y="1125000"/>
              <a:ext cx="109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spcAft>
                  <a:spcPts val="2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ktuelle Browser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25440" y="1998360"/>
              <a:ext cx="1377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spcAft>
                  <a:spcPts val="2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Zugang möglichst </a:t>
              </a:r>
              <a:br>
                <a:rPr sz="1100"/>
              </a:b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emäß BIT-V, WAI, ..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8E3B-959E-439A-80C0-BB2ADFC10A58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3E858-DC87-4B88-8D48-15C084BA37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1480" y="76320"/>
            <a:ext cx="47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S 2.0 Internet: Funk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001000" cy="53308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639A-2A55-4F36-80F2-CAE7EE4F71D9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25F90-3C61-4B11-AE14-5A2046BABE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01160" y="7632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8380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Bereitstellung von Werkzeugen zur Harmonisierung von Bodendat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Vereinheitlichung von Bodendaten auf nationaler Ebene: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führung verschiedener Auflagen der Bodenkundlichen Kartieranleitung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Förderung des internationalen Datenaustausch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Ziel: Mehr Daten nutzbar zu machen für Auswertunge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Verschiedene regionale, nationale und internationale Klassifikationen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werden auch zukünftig erforderlich sei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Flexibilität durch einfache Struktur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Leichte Weiterentwicklung der Übersetzungsregel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Weitere Aspek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Erkennen von Fehlern, Besonderheiten, Unstimmigkeite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Hilfsmittel zur Qualitätskontroll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F933-8A63-4249-B476-0664BE4ED0A3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26569-3C57-4499-BD00-87EB7CA5F0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76400" y="76320"/>
            <a:ext cx="15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838080"/>
            <a:ext cx="7848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ktuelle Planun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GR bereitet Fertigstellung und Freigabe des ÜS 1.2 vo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Praxistests des ÜS 1.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Zukunft des ÜS 2.0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Prüfung der Übersetzungsregeln des ÜS 2.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Weiterentwicklung der WRB-Übersetzungsregeln,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Umsetzung erforderlicher Mechanismen im Übersetzungsschlüsse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Fertigstellung der XML-Spezifikationen durch die BG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Einbindung der XML-Schnittstelle in alle Programmversione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tragung weiterer Übersetzungsregeln in die Internet-Anwendung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B006-7DED-40FA-97CB-1F390315D606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5AD8A-EB99-4208-BD21-E4304F0301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9400" y="76320"/>
            <a:ext cx="20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Einfü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Nutzung von Bodendat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Erosion, Wasserhaltevermögen, Pufferkapazität Schwermetallbindungsvermögen,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de-DE" sz="13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-Bindung, Aussagen zu Böden als Kultur- und Archivgut, Produktionsstandort, Bauland 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undesbodenschutzgeset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Nachfrage nach Bodendaten steigt,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daher wird Erschließung von Altdatenbeständen immer wichti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Harmonisierung von Bodendat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odendaten liegen in großen Mengen in unterschiedlicher Qualität v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In Deutschland gibt es bodenkundliche Standard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odenkundliche Kartieranleitungen (K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Durch einheitliche Standards und Daten-Harmonisierung sind bestimmte Auswertungen erst möglich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Auswertungsmethoden können weiterentwickelt und optimiert we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edarf für internationalen Datenaustaus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784E-41D6-430B-82BA-D0CEBDAA460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8E41D-DAB3-42DE-AD60-FBAC327987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120" y="76320"/>
            <a:ext cx="49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Einführung: Kartiera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Bodenkundliche Kartieranleit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in Deutschland wesentliche Grundlage zur Beschreibung von Bö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Anleitung zur Durchführung von Bodenkartierunge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Definition aller wesentlichen Merkmale zur Bodenbeschreibu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odentypen, Bodenart, Ausgangsgestein, Humusform, 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Herausgegeben von der Ad-hoc Arbeitsgruppe Boden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undesanstalt für Geowissenschaften und Rohstoffe (BG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Staatliche Geologische Dienste der Länder (SGD, Geologische Landesämte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Verschiedene Auflagen der Kartieranleitung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z.B. KA3, KA4, KA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4495680"/>
          <a:ext cx="8215200" cy="147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495680"/>
                    <a:ext cx="821520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CB17-CC58-4E44-92BA-51B14BDA53A9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14E1D-E3A8-4FB0-B074-8E0CC18A24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8720" y="7632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Kartieranleitung 4. Auflage (KA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54482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409680" y="685800"/>
            <a:ext cx="7989840" cy="5605560"/>
            <a:chOff x="409680" y="685800"/>
            <a:chExt cx="7989840" cy="5605560"/>
          </a:xfrm>
        </p:grpSpPr>
        <p:sp>
          <p:nvSpPr>
            <p:cNvPr id="62" name=""/>
            <p:cNvSpPr/>
            <p:nvPr/>
          </p:nvSpPr>
          <p:spPr>
            <a:xfrm>
              <a:off x="409680" y="685800"/>
              <a:ext cx="7989840" cy="1523880"/>
            </a:xfrm>
            <a:prstGeom prst="rect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9680" y="2266920"/>
              <a:ext cx="7989840" cy="2971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9680" y="5299200"/>
              <a:ext cx="7989840" cy="992160"/>
            </a:xfrm>
            <a:prstGeom prst="rect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001160" y="3809880"/>
            <a:ext cx="2817000" cy="39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3300"/>
                </a:solidFill>
                <a:latin typeface="Arial"/>
              </a:rPr>
              <a:t>Horizontdaten</a:t>
            </a:r>
            <a:br>
              <a:rPr sz="1300"/>
            </a:br>
            <a:r>
              <a:rPr b="1" lang="de-DE" sz="1300" spc="-1" strike="noStrike">
                <a:solidFill>
                  <a:srgbClr val="ff3300"/>
                </a:solidFill>
                <a:latin typeface="Arial"/>
              </a:rPr>
              <a:t>(einzelne Schichten, 1:n-Beziehu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3800" y="1295280"/>
            <a:ext cx="1116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9966"/>
                </a:solidFill>
                <a:latin typeface="Arial"/>
              </a:rPr>
              <a:t>Standortda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3800" y="5562720"/>
            <a:ext cx="1116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9966"/>
                </a:solidFill>
                <a:latin typeface="Arial"/>
              </a:rPr>
              <a:t>Standortda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22920" y="3886200"/>
            <a:ext cx="17380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Geländeformblatt KA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5210-00E2-47E2-A14F-6AF516D4519C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55B39-2003-4921-9CD0-391431489C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426160" cy="5369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8720" y="7632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Kartieranleitung 5. Auflage (KA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78000" y="750960"/>
            <a:ext cx="8691480" cy="5519520"/>
            <a:chOff x="378000" y="750960"/>
            <a:chExt cx="8691480" cy="5519520"/>
          </a:xfrm>
        </p:grpSpPr>
        <p:sp>
          <p:nvSpPr>
            <p:cNvPr id="72" name=""/>
            <p:cNvSpPr/>
            <p:nvPr/>
          </p:nvSpPr>
          <p:spPr>
            <a:xfrm>
              <a:off x="378000" y="750960"/>
              <a:ext cx="8688240" cy="1295280"/>
            </a:xfrm>
            <a:prstGeom prst="rect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880" y="2079720"/>
              <a:ext cx="8688600" cy="41907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925200" y="5334120"/>
            <a:ext cx="2817000" cy="39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3300"/>
                </a:solidFill>
                <a:latin typeface="Arial"/>
              </a:rPr>
              <a:t>Horizontdaten</a:t>
            </a:r>
            <a:br>
              <a:rPr sz="1300"/>
            </a:br>
            <a:r>
              <a:rPr b="1" lang="de-DE" sz="1300" spc="-1" strike="noStrike">
                <a:solidFill>
                  <a:srgbClr val="ff3300"/>
                </a:solidFill>
                <a:latin typeface="Arial"/>
              </a:rPr>
              <a:t>(einzelne Schichten, 1:n-Beziehu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5200" y="1371600"/>
            <a:ext cx="1116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9966"/>
                </a:solidFill>
                <a:latin typeface="Arial"/>
              </a:rPr>
              <a:t>Standortda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81800" y="5257800"/>
            <a:ext cx="17380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Geländeformblatt KA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0790-8E98-4D66-AEAC-FF91C367E792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FE8FD-5C34-487F-9F84-74355979F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0760" y="7632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Einführung: WRB/F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Wesentlicher internationaler Standar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WRB: World Reference Base for Soil Resourc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Nachfolger der Revised Legend der Soil Map of the World der F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FAO: Food and Agriculture Organization (Welternährungsorganisa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neue Klassifikation seit Somm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Ziel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weltweiter Vergleichsmaßstab für Bö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einfache und leicht anwendbare Einteilu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300" spc="-1" strike="noStrike">
                <a:solidFill>
                  <a:srgbClr val="000066"/>
                </a:solidFill>
                <a:latin typeface="Arial"/>
              </a:rPr>
              <a:t>Arbeitsgruppe von WRB-Experten beteiligte sich an der Entwicklung des </a:t>
            </a:r>
            <a:br>
              <a:rPr sz="1300"/>
            </a:br>
            <a:r>
              <a:rPr b="1" i="1" lang="de-DE" sz="1300" spc="-1" strike="noStrike">
                <a:solidFill>
                  <a:srgbClr val="000066"/>
                </a:solidFill>
                <a:latin typeface="Arial"/>
              </a:rPr>
              <a:t>WRB-Übersetzungsschlüssels. </a:t>
            </a:r>
            <a:r>
              <a:rPr b="1" i="1" lang="de-DE" sz="13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A21C-022A-4C94-932F-E84E016F2C8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14B8C-A6C0-41F9-B45D-458E085A0A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1000" y="7632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Übersetzungsschlüssel 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Übersetzungsschlüssel 1.0 (ÜS 1.0)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in Auftrag gegeben von der BGR in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Zusammenarbeit mit den Staatlichen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Geologischen Diensten der Länder (SG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entwickelt vom Büro für Bodenbewertung und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Hatje Informatik GmbH auf der Basis eines Forschungsgutachten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sregeln sollten leicht modifizierbar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und gut nachvollziehbar se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erste Version mit dem gewünschten Übersetzungsprinzi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veröffentlicht 200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Grundlage: Microsoft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ereits erste Ansätze für die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Übersetzung in die FAO-Klassifikation gepl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Großtest durch AgendaRegio im Auftrag des </a:t>
            </a:r>
            <a:br>
              <a:rPr sz="1300"/>
            </a:b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Landesamts für Natur und Umwelt des Landes Schleswig-Holstein (LANU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53080" y="990720"/>
            <a:ext cx="2076480" cy="307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4474-D3FE-4358-AF9E-9319517BE94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F8F27-8A8E-4195-8DEA-D9CBA9EBD5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52200" y="7632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895"/>
                </a:solidFill>
                <a:latin typeface="Tahoma"/>
              </a:rPr>
              <a:t>Weiterentwicklung des Übersetzungsschlüss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8120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Optimierun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erste Optimierungen als Konsequenz aus den Erkenntnissen des Großtests (ÜS 1.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Weiterentwicklung und Ausbau für gestiegene Anforderun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Unterstützung der aktuellen KA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erücksichtigung der internationalen Klassifik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eginn des Projekts: Herbst 200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Projektgrup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BGR (Auftraggebe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WRB-Expertent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Institut AgendaReg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66"/>
                </a:solidFill>
                <a:latin typeface="Arial"/>
              </a:rPr>
              <a:t>Institut DigSyL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814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E3D0-213A-43EB-A580-4737BE6A5F2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52719-6388-49C6-803E-0C720537AC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22:30Z</dcterms:created>
  <dc:creator>Friedhelm Hosenfeld</dc:creator>
  <dc:description/>
  <dc:language>en-US</dc:language>
  <cp:lastModifiedBy>Friedhelm Hosenfeld</cp:lastModifiedBy>
  <cp:lastPrinted>2007-05-20T11:09:02Z</cp:lastPrinted>
  <dcterms:modified xsi:type="dcterms:W3CDTF">2007-05-21T06:41:53Z</dcterms:modified>
  <cp:revision>822</cp:revision>
  <dc:subject>Workshop Umweltdatenbanbken, Mai 2006 in Höxter</dc:subject>
  <dc:title>Virtuelles Kompetenzzentrum -  Zukunft Küste - Coastal Futures</dc:title>
</cp:coreProperties>
</file>