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14920" y="-36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696600" y="739800"/>
            <a:ext cx="533700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93643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14920" y="936432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618-5433-4B87-8F84-D826C1FEF5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37000" cy="3695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-Dienste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Geo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-Dienstprogramme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GeoDin, WISKI Bay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nittstellen und Masken zum Aufruf und Datenaustau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nstprogramme funktionieren auch eigenständ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7893-A27D-421F-9A72-DAF247037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2760" y="3690000"/>
            <a:ext cx="927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4417-E2D7-4128-BF70-F5C019B60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276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332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188E-DCC9-414E-95F1-AC79ADA55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7640" y="114264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72160" y="114264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2760" y="369000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7640" y="369000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72160" y="369000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088F-C1EE-46D7-B04F-171D22B5B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FC6F4-28D0-4649-B777-7E17548C86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C2BC5-152E-47F5-926D-76AB0690A9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A8219-AD01-4015-9C7D-30B339AB4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0B61F-02B9-4A99-B32F-808DE2EFAC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5B7C-BEDB-4F6C-B51B-0712B92E70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7160" y="230040"/>
            <a:ext cx="927252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733FC-FCCA-4982-8529-D66F1FA9B4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276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03FF1-B442-456E-BF54-0D2CAF710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C13E-06AF-447B-A6EA-5432F031D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332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C500-8093-4452-82CB-83A83CBBB6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2760" y="3690000"/>
            <a:ext cx="927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CD7D9-F773-4FC7-B788-49F59911C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2760" y="3690000"/>
            <a:ext cx="927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D61F-39EF-405F-A6B9-FDF8B26620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276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332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9FE7D-A70C-4A63-8FFA-498799AD5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7640" y="114264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72160" y="114264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2760" y="369000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7640" y="369000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72160" y="3690000"/>
            <a:ext cx="298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8CB2-28FD-479A-906B-CCA605D3A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AFBC-07D7-4AD7-9C91-B9C5F1A8F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35B9-5B6B-497A-8564-D4604ABCD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EE21-52D3-441D-8F1D-0892EF23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7160" y="230040"/>
            <a:ext cx="927252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E854-2D05-42D1-9F01-FDC310ABA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276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D37E-8C48-44F9-A2F3-C79949029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3320" y="369000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1931-DDAC-494A-B46C-B43B8A312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3320" y="1142640"/>
            <a:ext cx="452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2760" y="3690000"/>
            <a:ext cx="927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9C8E-4B53-4F2C-BECE-7EF6F971A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9080" y="6097680"/>
            <a:ext cx="9925200" cy="760320"/>
          </a:xfrm>
          <a:prstGeom prst="rect">
            <a:avLst/>
          </a:prstGeom>
          <a:solidFill>
            <a:srgbClr val="1c3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9080" y="-44280"/>
            <a:ext cx="9925200" cy="1125360"/>
          </a:xfrm>
          <a:prstGeom prst="rect">
            <a:avLst/>
          </a:prstGeom>
          <a:solidFill>
            <a:srgbClr val="1c3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61800" y="6207120"/>
            <a:ext cx="31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Univers 57 Condensed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601"/>
              </a:spcBef>
              <a:buClr>
                <a:srgbClr val="000000"/>
              </a:buClr>
              <a:buFont typeface="Univers 57 Condensed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Univers 57 Condensed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Univers 57 Condensed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127040" y="620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fld id="{0B28DA6E-935A-434C-AC4D-0BFF4456FD9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10480" y="6207120"/>
            <a:ext cx="2744640" cy="3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9080" y="6097680"/>
            <a:ext cx="9925200" cy="760320"/>
          </a:xfrm>
          <a:prstGeom prst="rect">
            <a:avLst/>
          </a:prstGeom>
          <a:solidFill>
            <a:srgbClr val="1c3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9080" y="-44280"/>
            <a:ext cx="9925200" cy="1125360"/>
          </a:xfrm>
          <a:prstGeom prst="rect">
            <a:avLst/>
          </a:prstGeom>
          <a:solidFill>
            <a:srgbClr val="1c3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fld id="{B5107D83-C65E-432B-AD12-360EC6E5A64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10480" y="6207120"/>
            <a:ext cx="2744640" cy="35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Univers 57 Condensed"/>
              <a:buChar char="–"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Univers 57 Condensed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Univers 57 Condensed"/>
            </a:endParaRPr>
          </a:p>
          <a:p>
            <a:pPr lvl="4" marL="1827360" algn="ctr">
              <a:spcBef>
                <a:spcPts val="751"/>
              </a:spcBef>
              <a:buClr>
                <a:srgbClr val="000000"/>
              </a:buClr>
              <a:buFont typeface="Univers 57 Condensed"/>
              <a:buChar char="»"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Univers 57 Condensed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Univers 57 Condensed"/>
            </a:endParaRPr>
          </a:p>
          <a:p>
            <a:pPr lvl="5" marL="1827360">
              <a:spcBef>
                <a:spcPts val="751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Univers 57 Condensed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Univers 57 Condensed"/>
            </a:endParaRPr>
          </a:p>
          <a:p>
            <a:pPr lvl="6" marL="1827360">
              <a:spcBef>
                <a:spcPts val="751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Univers 57 Condensed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Univers 57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ata Warehouse Wasser-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in integratives Recherche- und Informations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0040" y="1068480"/>
            <a:ext cx="7129440" cy="5038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20720" y="1231560"/>
            <a:ext cx="69343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ata Warehouse Wasser- ein integratives Recherche- und Informations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Anja Reineke, Bayerisches Landesamt für Umwel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anja.reinekel@fu.bayern.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Claus Hofmann, disy Informationssysteme Gmb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hofmann@disy.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enintegration/ Quellsyste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nahmekriter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Daten sollen im Zusammenhang mit Daten anderer Fachanwendungen oder mit Daten Dritter auswertbar sei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Daten werden für die Darstellung im GIS benötig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gewünschten Auswertungen der Daten sind in der Fachanwendung nur unter großem Aufwand zu realisie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Daten werden von Nutzergruppen benötigt, die nicht oder nur selten mit der Fachanwendung arbei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Daten sind interessant für die Öffentlichkeit und sollen über das Internet zur Verfügung ste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enintegration/ Quellsyste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ll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nahme von Stammdaten (Name, Zuständigkeiten), Koordinaten, technische und rechtliche Daten sowie Messwerte und Labor-An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nahme von Geo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6480" y="1744560"/>
            <a:ext cx="2158920" cy="304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 Abwasser/Emissio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6480" y="2705040"/>
            <a:ext cx="2158920" cy="304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 Qualitative Hydrologie 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6480" y="2224080"/>
            <a:ext cx="2158920" cy="304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 Wasserkraftan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6480" y="1265400"/>
            <a:ext cx="2158920" cy="304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-Paket Grundwa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32640" y="1785960"/>
            <a:ext cx="1384200" cy="749160"/>
          </a:xfrm>
          <a:prstGeom prst="flowChartMagneticDisk">
            <a:avLst/>
          </a:prstGeom>
          <a:solidFill>
            <a:srgbClr val="d3e1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13392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ntax"/>
              </a:rPr>
              <a:t>Geobasisda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ntax"/>
              </a:rPr>
              <a:t>-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6800" y="1760400"/>
            <a:ext cx="1382760" cy="749520"/>
          </a:xfrm>
          <a:prstGeom prst="flowChartMagneticDisk">
            <a:avLst/>
          </a:prstGeom>
          <a:solidFill>
            <a:srgbClr val="d3e1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13392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ntax"/>
              </a:rPr>
              <a:t>Geofachda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ntax"/>
              </a:rPr>
              <a:t>-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enhaltung/ Datenban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 Datenbank-Bereiche (für Sach- und Geoda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en von Oracle und Oracle Spatial (z.Zt. 9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bellengruppen: Stammdaten, zentrale Wertekataloge, Zuordnungstabellen, Messwerte, Berichtspflichten und Geo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integration mit Hilfe von Oracle Warehouse Builder und ETL-Skrip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migration erfolgt komplett einmal wöchentlich (für alle 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timierung durch materialisierte Sichten, Ermitteln von räumlichen Zuordnungen und spezielle Schemata für Berichtsdat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enauswertung/ Anwendu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arbeitsplatz Komplexe Informationsrecherche (FAK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 Basis von Cadenza Profess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it Juli 2006 in Produktionsbetri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egriertes Benutzerverwaltungs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.Zt. tägliche Nutzung von ca. 5-10 Us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itdem ca. 60 User gesch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verteilung über Java WebSt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 für Auswert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ynamische Recherchen (räumlich und attribut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arten und Kartensamml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richte (z.B. PSM- und Nitratbericht, Landesmessnetz Grundwasserbeschaffenhe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397560" y="1811160"/>
            <a:ext cx="323856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swertung: dynamische Recherc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6360" y="1143000"/>
            <a:ext cx="657072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46360" y="1628640"/>
            <a:ext cx="6008400" cy="445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01800" y="4648320"/>
            <a:ext cx="2925720" cy="1396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icht der W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k Anzahl der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ahl Ingol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654440"/>
            <a:ext cx="1760400" cy="1444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ahl Altmühl-P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772160" y="2139840"/>
            <a:ext cx="4852800" cy="3932280"/>
            <a:chOff x="4772160" y="2139840"/>
            <a:chExt cx="4852800" cy="3932280"/>
          </a:xfrm>
        </p:grpSpPr>
        <p:pic>
          <p:nvPicPr>
            <p:cNvPr id="174" name="" descr=""/>
            <p:cNvPicPr/>
            <p:nvPr/>
          </p:nvPicPr>
          <p:blipFill>
            <a:blip r:embed="rId7"/>
            <a:stretch/>
          </p:blipFill>
          <p:spPr>
            <a:xfrm>
              <a:off x="4772160" y="2139840"/>
              <a:ext cx="4833720" cy="3922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75" name=""/>
            <p:cNvSpPr/>
            <p:nvPr/>
          </p:nvSpPr>
          <p:spPr>
            <a:xfrm>
              <a:off x="5840280" y="5435640"/>
              <a:ext cx="3784680" cy="6364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ebnispräsentation in Form einer Themenka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92160" y="2508120"/>
            <a:ext cx="811080" cy="3128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38240" y="1890720"/>
            <a:ext cx="1230480" cy="1619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swertung: dynamische Recherc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7040" y="1146240"/>
            <a:ext cx="5631120" cy="4511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34120" y="1303200"/>
            <a:ext cx="3544920" cy="221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80200" y="3238560"/>
            <a:ext cx="3481200" cy="281628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0" y="4654440"/>
            <a:ext cx="4246560" cy="1444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ahl Parameter, WWA, Grenzwert und Zeitraum der Mes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0160" y="1501920"/>
            <a:ext cx="2481480" cy="14443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stogramm der vorhandenen Mess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99320" y="3578400"/>
            <a:ext cx="2481120" cy="14443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m mit Min/Maxwerten der betroffenen Mess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swertung: Karten und Kartensammlu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680" y="1217520"/>
            <a:ext cx="3438360" cy="1648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24040" y="3013200"/>
            <a:ext cx="3078000" cy="3047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70520" y="1344600"/>
            <a:ext cx="3233520" cy="3878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859880" y="3384720"/>
            <a:ext cx="1896840" cy="149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swertungen: Berich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2760" y="1143000"/>
            <a:ext cx="4397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lanzenschutzmittel-B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8040" y="1892160"/>
            <a:ext cx="3621240" cy="3713400"/>
            <a:chOff x="338040" y="1892160"/>
            <a:chExt cx="3621240" cy="37134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38040" y="2376360"/>
              <a:ext cx="3621240" cy="3229200"/>
            </a:xfrm>
            <a:prstGeom prst="rect">
              <a:avLst/>
            </a:prstGeom>
            <a:ln w="9360">
              <a:solidFill>
                <a:srgbClr val="b2b2b2"/>
              </a:solidFill>
              <a:miter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812880" y="1892160"/>
              <a:ext cx="26668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1994040" y="2911320"/>
              <a:ext cx="1779480" cy="809640"/>
            </a:xfrm>
            <a:prstGeom prst="rect">
              <a:avLst/>
            </a:prstGeom>
            <a:ln w="9360">
              <a:solidFill>
                <a:srgbClr val="b2b2b2"/>
              </a:solidFill>
              <a:miter/>
            </a:ln>
          </p:spPr>
        </p:pic>
      </p:grpSp>
      <p:sp>
        <p:nvSpPr>
          <p:cNvPr id="197" name=""/>
          <p:cNvSpPr/>
          <p:nvPr/>
        </p:nvSpPr>
        <p:spPr>
          <a:xfrm>
            <a:off x="5187960" y="1144440"/>
            <a:ext cx="43974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esmess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5573880" y="1925640"/>
            <a:ext cx="342252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486400" y="3162240"/>
            <a:ext cx="3878280" cy="25956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8148600" y="3171960"/>
            <a:ext cx="1441440" cy="82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Warehouse Wasser (DWW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DWW als Teil des Informationssystem Wasser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Bestandt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Zielgruppen/ Anwendungsspekt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fachübergreifende Fragestell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Aufbau des Data Warehouse Wa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Datenintegration/ Quellsyst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Datenhaltung/ Daten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Datenauswertung/ Anwend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sbli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erung der Datenbank (Steigerung Performanz, Erweiterung des Datenmod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chließen neuer Datenquel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setzung neuer Anwenderanfor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etriebnahme eines Web-Arbeitsplat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Warehouse Wasser (DWW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WW als Teil des Informationssystem Wasser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tandt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ielgruppen/ Anwendungsspekt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achübergreifende Fragestell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des Data Warehouse Wa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integration/ Quellsyst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haltung/ Daten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auswertung/ Anwend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ke für Ihre Aufmerksamke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 Interesse stehe ich für 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-Demonstration d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ne zur Verfü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ormationssystem Wasserwirtschaf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INFO-Was setzt sich zusammen aus folgenden Grundelem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systemen (Fachanwendungen (FA) und FA-Dienste und -Dienst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graphisches Informationssystem Wasserwirtschaft (GIS-W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a Warehouse Wasser (DW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ainformationssystem Wasser (MiWas)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lan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alanwend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ormationssystem Wasserwirtschaf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55760" y="1100160"/>
            <a:ext cx="824868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e des DW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r gemeinsamen möglichst umfassenden Datenbasis zum Thema Wa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Daten (Sach- und Geodaten) in einer </a:t>
            </a:r>
            <a:r>
              <a:rPr b="0" lang="de-DE" sz="2400" spc="-1" strike="noStrike">
                <a:solidFill>
                  <a:srgbClr val="feb225"/>
                </a:solidFill>
                <a:latin typeface="Arial"/>
              </a:rPr>
              <a:t>zentral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sekundären) </a:t>
            </a:r>
            <a:r>
              <a:rPr b="0" lang="de-DE" sz="2400" spc="-1" strike="noStrike">
                <a:solidFill>
                  <a:srgbClr val="feb225"/>
                </a:solidFill>
                <a:latin typeface="Arial"/>
              </a:rPr>
              <a:t>Datenban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400" spc="-1" strike="noStrike">
                <a:solidFill>
                  <a:srgbClr val="feb225"/>
                </a:solidFill>
                <a:latin typeface="Arial"/>
              </a:rPr>
              <a:t>Metainformation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r Datenerschließu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mit teils neuen, teils in der Wasserwirtschaftsverwaltung bereits eingeführten </a:t>
            </a:r>
            <a:r>
              <a:rPr b="0" lang="de-DE" sz="2400" spc="-1" strike="noStrike">
                <a:solidFill>
                  <a:srgbClr val="feb225"/>
                </a:solidFill>
                <a:latin typeface="Arial"/>
              </a:rPr>
              <a:t>Werkzeugen zur Recherche, Analyse und Präsentation der 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gegriffen werden so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</a:t>
            </a:r>
            <a:r>
              <a:rPr b="0" lang="de-DE" sz="2400" spc="-1" strike="noStrike">
                <a:solidFill>
                  <a:srgbClr val="feb225"/>
                </a:solidFill>
                <a:latin typeface="Arial"/>
              </a:rPr>
              <a:t>unterschiedliche Zielgru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egeber: GIS-Was-Daten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iele und Aufgaben des DW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feb225"/>
                </a:solidFill>
                <a:latin typeface="Arial"/>
              </a:rPr>
              <a:t>Modernisierung und Vereinfachung der Datenbereitstellung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im GIS-W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ktuellere Daten für GIS-Anwen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Ermöglichung </a:t>
            </a:r>
            <a:r>
              <a:rPr b="0" lang="de-DE" sz="2100" spc="-1" strike="noStrike">
                <a:solidFill>
                  <a:srgbClr val="feb225"/>
                </a:solidFill>
                <a:latin typeface="Arial"/>
              </a:rPr>
              <a:t>fachgebietsübergreifender Datenauswe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nicht nur im GIS, sondern auch sachbezo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Leichter Zugang für eine breite Anwendergruppe innerhalb der Verwaltung zu wasserwirtschaftlichen Eckda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feb225"/>
                </a:solidFill>
                <a:latin typeface="Arial"/>
              </a:rPr>
              <a:t>Statistische und räumlich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, aber auch objektbezogene </a:t>
            </a:r>
            <a:r>
              <a:rPr b="0" lang="de-DE" sz="2100" spc="-1" strike="noStrike">
                <a:solidFill>
                  <a:srgbClr val="feb225"/>
                </a:solidFill>
                <a:latin typeface="Arial"/>
              </a:rPr>
              <a:t>Auswe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mit Möglichkeiten zur Darstellung in </a:t>
            </a:r>
            <a:r>
              <a:rPr b="0" lang="de-DE" sz="2100" spc="-1" strike="noStrike">
                <a:solidFill>
                  <a:srgbClr val="feb225"/>
                </a:solidFill>
                <a:latin typeface="Arial"/>
              </a:rPr>
              <a:t>Berichten und Kar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17602"/>
              <a:buBlip>
                <a:blip r:embed="rId6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V-technische Unterstützung bei der Erfüllung von Berichtspflichten, z. B. gegenüber dem Bund und der EU (Wasserrahmenrichtlinie)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17602"/>
              <a:buBlip>
                <a:blip r:embed="rId7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chaffung eines neuen oder vereinfachten Zugangs zu Daten der Wasserwirtschaft für </a:t>
            </a:r>
            <a:r>
              <a:rPr b="0" lang="de-DE" sz="2100" spc="-1" strike="noStrike">
                <a:solidFill>
                  <a:srgbClr val="feb225"/>
                </a:solidFill>
                <a:latin typeface="Arial"/>
              </a:rPr>
              <a:t>Nutzer außerhalb der Wasserwirtschaftsverwaltung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im Intra- bzw. Internet gemäß einem spezifischen Berechtigungskonze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Zielgruppen/ Anwendungsspektr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32080" y="1120680"/>
            <a:ext cx="7203960" cy="488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Warehouse Wasser (DWW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DWW als Teil des Informationssystem Wasser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Bestandt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Zielgruppen/ Anwendungsspekt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b2b2b2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fachübergreifende Fragestell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des Data Warehouse Wa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integration/ Quellsyst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haltung/ Daten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auswertung/ Anwend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Ausb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230040"/>
            <a:ext cx="9272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fbau des Data Warehouse Was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2760" y="1142640"/>
            <a:ext cx="927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79080" y="1298160"/>
            <a:ext cx="7783920" cy="1395720"/>
            <a:chOff x="1279080" y="1298160"/>
            <a:chExt cx="7783920" cy="1395720"/>
          </a:xfrm>
        </p:grpSpPr>
        <p:sp>
          <p:nvSpPr>
            <p:cNvPr id="115" name=""/>
            <p:cNvSpPr/>
            <p:nvPr/>
          </p:nvSpPr>
          <p:spPr>
            <a:xfrm>
              <a:off x="1555200" y="1298520"/>
              <a:ext cx="7507800" cy="1395360"/>
            </a:xfrm>
            <a:prstGeom prst="rect">
              <a:avLst/>
            </a:pr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9680" y="1647720"/>
              <a:ext cx="2210760" cy="40788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GIS-Arbeitspla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73840" y="1647720"/>
              <a:ext cx="2242800" cy="40788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Facharbeitspla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Informationsrecher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22280" y="1647720"/>
              <a:ext cx="2243160" cy="40788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Web-Mo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22280" y="2052000"/>
              <a:ext cx="1121400" cy="34524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Recher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Cadenza W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1279080" y="1298160"/>
              <a:ext cx="279720" cy="1364760"/>
            </a:xfrm>
            <a:prstGeom prst="rect">
              <a:avLst/>
            </a:prstGeom>
            <a:solidFill>
              <a:srgbClr val="ab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ntax"/>
                </a:rPr>
                <a:t>Datenauswert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3840" y="2052000"/>
              <a:ext cx="2242800" cy="34524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FAKIR (Cadenza Pro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3680" y="2052000"/>
              <a:ext cx="1121760" cy="34524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Kartendiens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(ArcIMS, UMN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9680" y="2052000"/>
              <a:ext cx="2210760" cy="345240"/>
            </a:xfrm>
            <a:prstGeom prst="rect">
              <a:avLst/>
            </a:prstGeom>
            <a:solidFill>
              <a:srgbClr val="abe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Syntax"/>
                </a:rPr>
                <a:t>ArcG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85920" y="2477520"/>
            <a:ext cx="7792560" cy="2374200"/>
            <a:chOff x="1285920" y="2477520"/>
            <a:chExt cx="7792560" cy="2374200"/>
          </a:xfrm>
        </p:grpSpPr>
        <p:sp>
          <p:nvSpPr>
            <p:cNvPr id="125" name=""/>
            <p:cNvSpPr/>
            <p:nvPr/>
          </p:nvSpPr>
          <p:spPr>
            <a:xfrm>
              <a:off x="1571040" y="2684520"/>
              <a:ext cx="7507440" cy="20019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7600" y="2972160"/>
              <a:ext cx="6927120" cy="1180080"/>
            </a:xfrm>
            <a:prstGeom prst="flowChartMagneticDisk">
              <a:avLst/>
            </a:prstGeom>
            <a:solidFill>
              <a:srgbClr val="d9f2f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7400" y="4255560"/>
              <a:ext cx="4905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Syntax"/>
                </a:rPr>
                <a:t>Datenimport aus Fachdatenbanken und Geodaten-Primärdatenbanke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Syntax"/>
                </a:rPr>
                <a:t>(z. T. automatische ETL-Prozess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Syntax"/>
                </a:rPr>
                <a:t>ETL = Extraktion-Transformation-Lade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505800">
              <a:off x="7601400" y="2608560"/>
              <a:ext cx="346680" cy="244800"/>
            </a:xfrm>
            <a:prstGeom prst="leftArrow">
              <a:avLst>
                <a:gd name="adj1" fmla="val 50000"/>
                <a:gd name="adj2" fmla="val 35404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4188600">
              <a:off x="2835360" y="2577600"/>
              <a:ext cx="385560" cy="246240"/>
            </a:xfrm>
            <a:prstGeom prst="leftArrow">
              <a:avLst>
                <a:gd name="adj1" fmla="val 50000"/>
                <a:gd name="adj2" fmla="val 39145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5117760" y="2595960"/>
              <a:ext cx="371880" cy="245880"/>
            </a:xfrm>
            <a:prstGeom prst="leftArrow">
              <a:avLst>
                <a:gd name="adj1" fmla="val 50000"/>
                <a:gd name="adj2" fmla="val 3781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1285920" y="2676960"/>
              <a:ext cx="280080" cy="2012040"/>
            </a:xfrm>
            <a:prstGeom prst="rect">
              <a:avLst/>
            </a:prstGeom>
            <a:solidFill>
              <a:srgbClr val="d9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ntax"/>
                </a:rPr>
                <a:t>Datenhalt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6520" y="3405240"/>
              <a:ext cx="709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yntax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ntax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Syntax"/>
                </a:rPr>
                <a:t>Fachdaten der Wasserwirtschaft (Sach- und Geodat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yntax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ntax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Syntax"/>
                </a:rPr>
                <a:t>Geobasis- u. Geofach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ntax"/>
                </a:rPr>
                <a:t>(Oracle + Spatial/ArcSD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1480" y="3008160"/>
              <a:ext cx="710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ntax"/>
                </a:rPr>
                <a:t>DWW-Daten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295280" y="4465800"/>
            <a:ext cx="7799040" cy="1592640"/>
            <a:chOff x="1295280" y="4465800"/>
            <a:chExt cx="7799040" cy="1592640"/>
          </a:xfrm>
        </p:grpSpPr>
        <p:sp>
          <p:nvSpPr>
            <p:cNvPr id="135" name=""/>
            <p:cNvSpPr/>
            <p:nvPr/>
          </p:nvSpPr>
          <p:spPr>
            <a:xfrm>
              <a:off x="1571400" y="4716000"/>
              <a:ext cx="7522920" cy="124920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69200" y="4951800"/>
              <a:ext cx="1645200" cy="648360"/>
            </a:xfrm>
            <a:prstGeom prst="flowChartMagneticDisk">
              <a:avLst/>
            </a:prstGeom>
            <a:solidFill>
              <a:srgbClr val="d3e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Geobasis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-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517560" y="4551840"/>
              <a:ext cx="393480" cy="244800"/>
            </a:xfrm>
            <a:prstGeom prst="leftArrow">
              <a:avLst>
                <a:gd name="adj1" fmla="val 50000"/>
                <a:gd name="adj2" fmla="val 40184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7669800" y="4548240"/>
              <a:ext cx="410040" cy="244800"/>
            </a:xfrm>
            <a:prstGeom prst="leftArrow">
              <a:avLst>
                <a:gd name="adj1" fmla="val 50000"/>
                <a:gd name="adj2" fmla="val 41875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8000" y="4929120"/>
              <a:ext cx="1646640" cy="649080"/>
            </a:xfrm>
            <a:prstGeom prst="flowChartMagneticDisk">
              <a:avLst/>
            </a:prstGeom>
            <a:solidFill>
              <a:srgbClr val="d3e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Geofach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ntax"/>
                </a:rPr>
                <a:t>-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1295280" y="4719960"/>
              <a:ext cx="280080" cy="1245240"/>
            </a:xfrm>
            <a:prstGeom prst="rect">
              <a:avLst/>
            </a:prstGeom>
            <a:solidFill>
              <a:srgbClr val="c8d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ntax"/>
                </a:rPr>
                <a:t>Dateninteg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4240" y="4808160"/>
              <a:ext cx="1839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36920" y="4871520"/>
              <a:ext cx="446760" cy="366480"/>
            </a:xfrm>
            <a:prstGeom prst="rect">
              <a:avLst/>
            </a:prstGeom>
            <a:solidFill>
              <a:srgbClr val="d3e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82560" y="4903920"/>
              <a:ext cx="447840" cy="366480"/>
            </a:xfrm>
            <a:prstGeom prst="rect">
              <a:avLst/>
            </a:prstGeom>
            <a:solidFill>
              <a:srgbClr val="d3e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16320" y="4939920"/>
              <a:ext cx="446760" cy="366480"/>
            </a:xfrm>
            <a:prstGeom prst="rect">
              <a:avLst/>
            </a:prstGeom>
            <a:solidFill>
              <a:srgbClr val="d3e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4800" y="5190120"/>
              <a:ext cx="723240" cy="333720"/>
            </a:xfrm>
            <a:prstGeom prst="flowChartMagneticDisk">
              <a:avLst/>
            </a:prstGeom>
            <a:solidFill>
              <a:srgbClr val="d3e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980360" y="4847400"/>
              <a:ext cx="1921320" cy="860040"/>
              <a:chOff x="1980360" y="4847400"/>
              <a:chExt cx="1921320" cy="860040"/>
            </a:xfrm>
          </p:grpSpPr>
          <p:sp>
            <p:nvSpPr>
              <p:cNvPr id="147" name=""/>
              <p:cNvSpPr/>
              <p:nvPr/>
            </p:nvSpPr>
            <p:spPr>
              <a:xfrm>
                <a:off x="1980360" y="4847400"/>
                <a:ext cx="1466280" cy="606960"/>
              </a:xfrm>
              <a:prstGeom prst="flowChartMagneticDisk">
                <a:avLst/>
              </a:prstGeom>
              <a:solidFill>
                <a:srgbClr val="d3e1e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07880" y="4970520"/>
                <a:ext cx="1466280" cy="606960"/>
              </a:xfrm>
              <a:prstGeom prst="flowChartMagneticDisk">
                <a:avLst/>
              </a:prstGeom>
              <a:solidFill>
                <a:srgbClr val="d3e1e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435760" y="5100480"/>
                <a:ext cx="1465920" cy="606960"/>
              </a:xfrm>
              <a:prstGeom prst="flowChartMagneticDisk">
                <a:avLst/>
              </a:prstGeom>
              <a:solidFill>
                <a:srgbClr val="d3e1e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ntax"/>
                  </a:rPr>
                  <a:t>Datenbank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ntax"/>
                  </a:rPr>
                  <a:t>Fachsysteme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yntax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733760" y="5797080"/>
              <a:ext cx="35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ntax"/>
                </a:rPr>
                <a:t>Sachdaten und Koordinaten von Punktobjek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79160" y="5511960"/>
              <a:ext cx="1233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weitere Datei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ntax"/>
                </a:rPr>
                <a:t>u. Datenbank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46080" y="5788440"/>
              <a:ext cx="860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ntax"/>
                </a:rPr>
                <a:t>Geoda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LfU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4:11Z</dcterms:created>
  <dc:creator>lfu-reineke</dc:creator>
  <dc:description/>
  <dc:language>en-US</dc:language>
  <cp:lastModifiedBy>LokalAdmin</cp:lastModifiedBy>
  <cp:lastPrinted>2001-08-30T14:06:57Z</cp:lastPrinted>
  <dcterms:modified xsi:type="dcterms:W3CDTF">2007-05-20T17:17:35Z</dcterms:modified>
  <cp:revision>24</cp:revision>
  <dc:subject/>
  <dc:title>Folie 1</dc:title>
</cp:coreProperties>
</file>