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B69-E454-47D4-A333-0C0FF22B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DBF-1C18-416E-8441-595F334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40F-AB12-4371-9CFF-9F43912C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8E7-601A-4D25-8B60-F5683271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D2A-AB1A-4A44-93D2-BA06C8C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972-1DDF-48E0-8147-CFD0CE7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5A2-AA66-4559-84D9-CC4168B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987-A0AB-4C74-8586-05EEF36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98D-7DBE-4092-93BC-3ED44A9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EBA-B9AC-4067-BD7F-BFF97C1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012-5D30-4783-A654-8C23CF3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E07-FD8F-47AA-8628-D54C9E9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1947-E256-41E1-98A3-2F31C68D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80880"/>
            <a:ext cx="8785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formationen zu Arbeiten im Forschungsverbund LTER-D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(Long Term Ecological Research - D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recht Gna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rstuhl für Ökosysteme und Umweltinforma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enburgische Technische  Universität Cott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 Umweltdatenbanke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erpunkt Wass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-22. Mai 2007, BSH Ha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n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iel des Datenmanagements im LTER-D ist die Gewährleistung der Datenerfassung, der Daten Verfügbarkeit, des Datenaustauschs und der Verknüpfung von Daten sowie die Sicherung und die Pflege der relevanten Datenbestän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ventur, Aktualisierung und Fortschreibung vorhandener Datenquellen aus Forschungsprojekten, Monitoringprogrammen und Einzeluntersuchung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cherung des Datenzugriffs und des Datenaustausches sowie der langfristigen Interpretierbarkeit der Da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monisierung von Sachdatenstrukturen und Metadaten unter Berücksichtigung internationaler Stand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fristige Sicherung des Datenbestandes im LTER-D und Darstellung der Datenbankinhal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fbau des Datenmana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sammenstellung und Kurzdokumentation der relevanten Datenquellen (Datenport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fbau einer Meta-Datenbank zur Ablage der Information und Verknüpfung mit Web-GIS zur Visualisierung und Abfr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fbau einer Sachdatenbank und Verknüpfung mit der Meta-Datenban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Qualitätssicherung des Datenmanagements durch Festlegung technischer Regel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orte und regionale Ansät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tionalpark Bayrischer Wald (Ra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suchgebiet Scheyern (Bausenwe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chtelgebirge (Hauh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grarlandschaft und Biosphärenreservat Nord-Sachsen (Basti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iosphärenreservat Schorfheide-Chorin (Luthard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grarlandschaft Uckermark (Wenk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lling (Bredemei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eponiestandort in Bremen (Köhl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rnhöveder Seenkette (Müll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rß-Zingster-Boddenkette (Schube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tionalpark Schleswig-Holsteinisches Wattenmeer (AWI, NPA, GK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ffshore-Bereich Helgoland und Deutsche Bucht (AW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tionalpark Hainich (Bredemei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e Einbi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chluss an 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erkennung durch das 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476280"/>
            <a:ext cx="5699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146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ntergr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sgangsb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rgehensweise und Plan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en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orte und regionale Ansät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tionale Einbind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ergr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it dem Umweltgipfel von Rio (1992) wurden weltweit umfangreiche Forschungsaktivitäten zu Folgen des globalen Wandels begonnen, die neben den ökologischen Systemen das Klima, die menschlichen Gesellschaften, ihre Wirtschafts- und Sozialsysteme sowie die Nutzungsstrategien für natürliche Ressourcen beeinfluss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 einzelnen Komponenten dieser Entwicklung wirken auf unterschiedlichen räumlichen und zeitlichen Skalen, deren wissenschaftliche Analyse sich vorrangig auf kurze Zeitskalen bezog. Die Auswirkungen langfristiger Veränderungen wurden weitgehend vernachlässig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 daraus erwachsende Forschungsbedarf wurde von internationalen Übereinkommen aufgegriffen (UNCBD, UNFCCC), die auch nationale Verpflichtungen zur ökologischen Langzeitforschung und zur Langzeitbeobachtung formulie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 und Verbesserung der wissenschaftlichen Kenntnisse zu langfristigen ökologischen Prozessen über ökosystemare, regionale und nationale Grenzen hina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 vergleichender Analysen und Synthesen über einzelne Test- und Untersuchungsgebiete hina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 der Zusammenarbeit zwischen naturwissenschaftlichen und sozio-ökonomischen Diszipli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, Entwicklung und Sicherung der ökologischen Langzeitforschung zur Integration von Umweltforschung und Umweltbeobachtung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rganisation von Datensicherung und Datenaustausch als Voraussetzung für eine erfolgreiche Kooperation und zur Sicherung der Langfrist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 der Ausbildung und des Informationsaustausches mit der Umwelt-Pr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örderung der internationalen Zusammenarbeit auf dem Gebiet vergleichender, langfristiger ökologischer Forschung und Vernetzung im Rahmen der internationalen und europäischen Programme (ILTER und LTER-Europ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gangs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Messkonzepte beruhen meist auf disziplinären oder sektoralen Fragestellung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e ökosystemare Umweltbeobachtung besteht nur in sehr wenigen Ausnahmefäll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Standorte sind historisch oder aufgrund spezifischer Fragestellungen gewäh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ischen einzelnen Messnetzen bestehen keine oder nur geringe Interaktionen, nur wenige Standorte werden von verschiedenen Messnetzen genutz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e gemeinsame Auswertung und Integration der erfassten Daten ist bislang kaum durchgefüh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Ökologische und sozio-ökonomische Daten werden nur in sehr wenigen Fällen und nur auf großen Maßstäben gemeinsam erfasst und bearbeit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ischen den amtlichen Netzwerken und den potentiell interessierten Forschungseinrichtungen besteht nur ein geringes Maß an Kommunikation und Ko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s gibt keine zentrale Datenhaltung, die Inhalte der Messnetz-Protokolle werden nicht durch eine  Meta-Datenbank erfasst. Es gibt keine übergreifende Status-quo-Analy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Fortführung der wenigen systemar angelegten Messprogramme ist nicht langfristig gesiche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rgehensweise und Pla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bau einer nationalen wissenschaftlichen Koordinations- und Kontaktst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tion des Datenmanagements und Erfassung der bundesweit vorhandenen Langzeitdatensät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bau und langfristige Sicherung eines thematisch und regional repräsentativen Kern-Netzes an Untersuchungsge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6:19:58Z</dcterms:created>
  <dc:creator>student</dc:creator>
  <dc:description/>
  <dc:language>en-US</dc:language>
  <cp:lastModifiedBy>Albrecht Gnauck</cp:lastModifiedBy>
  <dcterms:modified xsi:type="dcterms:W3CDTF">2007-05-22T05:22:47Z</dcterms:modified>
  <cp:revision>24</cp:revision>
  <dc:subject/>
  <dc:title>Folie 1</dc:title>
</cp:coreProperties>
</file>