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0.jpeg" ContentType="image/jpeg"/>
  <Override PartName="/ppt/media/image29.png" ContentType="image/png"/>
  <Override PartName="/ppt/media/image2.wmf" ContentType="image/x-wmf"/>
  <Override PartName="/ppt/media/image21.jpeg" ContentType="image/jpe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1473-73D7-4BF6-9B80-CFE60B3BE1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B756-CF70-41E4-A7F3-0861F58AA5A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61840" y="762120"/>
            <a:ext cx="4980240" cy="3735360"/>
          </a:xfrm>
          <a:prstGeom prst="rect">
            <a:avLst/>
          </a:prstGeom>
          <a:ln w="0">
            <a:noFill/>
          </a:ln>
        </p:spPr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486320" y="4387680"/>
            <a:ext cx="1089000" cy="59220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CC14-7C74-4986-9238-4929CD3C39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61840" y="762120"/>
            <a:ext cx="4980240" cy="3735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0DC3-83D1-4C4C-9C57-D69F49F74F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61840" y="762120"/>
            <a:ext cx="4980240" cy="3735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9A5C-5F62-42AF-B21C-D6AC9846F8A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61840" y="762120"/>
            <a:ext cx="4980240" cy="373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5C6A-48F4-4095-9180-E5BFF0AD512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61840" y="762120"/>
            <a:ext cx="4980240" cy="373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9FC-6540-4A61-B50A-4DC4D517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9E9-D7B1-4B1D-A4D0-750A95F8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FFD-2E70-4AE2-8D85-886C7C69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417-8174-471F-8740-5F840071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616-E9F6-4C32-87A4-1B6C5478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1C8-9277-4A5A-9BE7-15667FD8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5D4-CEC2-4448-87BC-465F7AD0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C46-4505-44B3-B48E-02CD855E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9DC-56EE-4FEC-B3B7-A09B66B2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750-7C8C-45BD-BD15-A8EFE7E0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D16-07CE-4DDD-8339-D663A2F5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891-E537-417C-8414-EECD2B61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5B82-8C6B-4988-AA74-CB7FADB17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06400" y="1163520"/>
            <a:ext cx="7873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ossMet’ – WebGIS auf Basis v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Open Source-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ukas Klep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99"/>
                </a:solidFill>
                <a:latin typeface="Arial"/>
              </a:rPr>
              <a:t>lkleppin@iuw.uni-vechta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ristian A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99"/>
                </a:solidFill>
                <a:latin typeface="Arial"/>
              </a:rPr>
              <a:t>caden@iuw.uni-vechta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860560"/>
            <a:ext cx="351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74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9360">
            <a:solidFill>
              <a:srgbClr val="8da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13360" y="87480"/>
            <a:ext cx="438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mweltdatenbanken 2007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chwerpunkt Wasse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ambu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1.-22. Mai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15840"/>
            <a:ext cx="1513080" cy="820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24720" y="44280"/>
            <a:ext cx="1368360" cy="781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32000" y="4724280"/>
            <a:ext cx="66247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2496960"/>
            <a:ext cx="3889440" cy="273240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ossMet‘: Daten aufberei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907920"/>
            <a:ext cx="8610480" cy="0"/>
          </a:xfrm>
          <a:prstGeom prst="line">
            <a:avLst/>
          </a:prstGeom>
          <a:ln w="9360">
            <a:solidFill>
              <a:srgbClr val="8da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92720" y="2492280"/>
            <a:ext cx="2952720" cy="26971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24000" y="14842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sch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1484280"/>
            <a:ext cx="40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ächenschätz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9360">
            <a:solidFill>
              <a:srgbClr val="8da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bGIS-Applik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1260360"/>
            <a:ext cx="8280360" cy="4761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bGIS-Applikation: Da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9360">
            <a:solidFill>
              <a:srgbClr val="8da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708360" y="3213000"/>
            <a:ext cx="4824360" cy="32544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2309760" cy="5950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3640" y="981000"/>
            <a:ext cx="0" cy="568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020000" y="1125360"/>
            <a:ext cx="1523880" cy="1895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5940360" y="3213000"/>
            <a:ext cx="2872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4" idx="0"/>
            <a:endCxn id="133" idx="1"/>
          </p:cNvCxnSpPr>
          <p:nvPr/>
        </p:nvCxnSpPr>
        <p:spPr>
          <a:xfrm flipH="1" flipV="1" rot="5400000">
            <a:off x="5988600" y="2168640"/>
            <a:ext cx="1127880" cy="936000"/>
          </a:xfrm>
          <a:prstGeom prst="bent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5007240" y="2205000"/>
            <a:ext cx="10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or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f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1944720" cy="1170000"/>
          </a:xfrm>
          <a:prstGeom prst="rect">
            <a:avLst/>
          </a:prstGeom>
          <a:ln w="6480">
            <a:solidFill>
              <a:srgbClr val="80808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421080" y="1413000"/>
            <a:ext cx="2028960" cy="1160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588000" y="1413000"/>
            <a:ext cx="1873440" cy="1158840"/>
          </a:xfrm>
          <a:prstGeom prst="rect">
            <a:avLst/>
          </a:prstGeom>
          <a:ln w="6480">
            <a:solidFill>
              <a:srgbClr val="80808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116000" y="2997360"/>
            <a:ext cx="3897360" cy="3028680"/>
          </a:xfrm>
          <a:prstGeom prst="rect">
            <a:avLst/>
          </a:prstGeom>
          <a:ln w="6480">
            <a:solidFill>
              <a:srgbClr val="80808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2556000" y="184644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99cc00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9360">
            <a:solidFill>
              <a:srgbClr val="8da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181080" y="189000"/>
            <a:ext cx="95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bGIS-Applikation: Pufferbild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436572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99cc00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3080" y="184464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99cc00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940360" y="2997360"/>
            <a:ext cx="2403720" cy="3024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5148360" y="436572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99cc00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178000" cy="26654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916360" y="2060640"/>
            <a:ext cx="5903640" cy="4157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50" name=""/>
          <p:cNvSpPr/>
          <p:nvPr/>
        </p:nvSpPr>
        <p:spPr>
          <a:xfrm rot="5400000">
            <a:off x="717840" y="4545720"/>
            <a:ext cx="1800360" cy="1150920"/>
          </a:xfrm>
          <a:custGeom>
            <a:avLst/>
            <a:gdLst>
              <a:gd name="textAreaLeft" fmla="*/ 771480 w 1800360"/>
              <a:gd name="textAreaRight" fmla="*/ 1627560 w 1800360"/>
              <a:gd name="textAreaTop" fmla="*/ 861840 h 1150920"/>
              <a:gd name="textAreaBottom" fmla="*/ 104040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8247"/>
                </a:moveTo>
                <a:lnTo>
                  <a:pt x="16171" y="18247"/>
                </a:lnTo>
                <a:lnTo>
                  <a:pt x="16171" y="9257"/>
                </a:lnTo>
                <a:lnTo>
                  <a:pt x="14095" y="9257"/>
                </a:lnTo>
                <a:lnTo>
                  <a:pt x="17848" y="0"/>
                </a:lnTo>
                <a:lnTo>
                  <a:pt x="21600" y="9257"/>
                </a:lnTo>
                <a:lnTo>
                  <a:pt x="19524" y="9257"/>
                </a:lnTo>
                <a:lnTo>
                  <a:pt x="195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aktive Standortauswah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907920"/>
            <a:ext cx="8610480" cy="0"/>
          </a:xfrm>
          <a:prstGeom prst="line">
            <a:avLst/>
          </a:prstGeom>
          <a:ln w="9360">
            <a:solidFill>
              <a:srgbClr val="8da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WebGIS ausweiten (upload, downloa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Weitere GIS-Funktionen integri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Weitere Geodaten einbeziehen (Messnetz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obiles WebGIS für die Messkampagne 2010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Europaweite MossMet-Applik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bl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907920"/>
            <a:ext cx="8610480" cy="0"/>
          </a:xfrm>
          <a:prstGeom prst="line">
            <a:avLst/>
          </a:prstGeom>
          <a:ln w="9360">
            <a:solidFill>
              <a:srgbClr val="8da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2092320"/>
            <a:ext cx="56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hre Aufmerksamkeit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9360">
            <a:solidFill>
              <a:srgbClr val="8da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13360" y="87480"/>
            <a:ext cx="438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mweltdatenbanken 2007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chwerpunkt Wasse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ambu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1.-22. Mai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9280" y="15840"/>
            <a:ext cx="1513080" cy="820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524720" y="44280"/>
            <a:ext cx="1368360" cy="781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332000" y="4668840"/>
            <a:ext cx="66247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9360">
            <a:solidFill>
              <a:srgbClr val="8da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7880" y="147600"/>
            <a:ext cx="82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1268280"/>
            <a:ext cx="504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rchitekt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oos-Daten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bGIS-Applik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usbl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836640"/>
            <a:ext cx="4174920" cy="0"/>
          </a:xfrm>
          <a:prstGeom prst="line">
            <a:avLst/>
          </a:prstGeom>
          <a:ln w="9360">
            <a:solidFill>
              <a:srgbClr val="8da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7880" y="115920"/>
            <a:ext cx="43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520" y="1413000"/>
            <a:ext cx="89074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57456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i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7456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7456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7456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7456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erung des Datenflu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7456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7456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-basierte Geodaten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4248360" cy="315936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4365720"/>
            <a:ext cx="420840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adatenerfass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enabfrage / -recher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loads, Hilfese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taktadre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860560"/>
            <a:ext cx="351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9360">
            <a:solidFill>
              <a:srgbClr val="8da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18240" y="1338120"/>
            <a:ext cx="4225680" cy="2295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55720" y="1366920"/>
            <a:ext cx="3051000" cy="2276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49280" y="898560"/>
            <a:ext cx="3782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os-Datenbank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46760" y="884160"/>
            <a:ext cx="3782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‚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os-WebGIS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27640" y="4365720"/>
            <a:ext cx="533880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oosdatenvisualisie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nabf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tstellung anderer Geoda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IS-Operati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525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8120" y="10857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880" y="147600"/>
            <a:ext cx="82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9360">
            <a:solidFill>
              <a:srgbClr val="8da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architektur und Kommunik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06472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3600360" cy="1628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5640" y="105264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7561440" cy="2901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219640" y="1052640"/>
            <a:ext cx="3097440" cy="2625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ossMet‘: Nutzeroberfläc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10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9360">
            <a:solidFill>
              <a:srgbClr val="8da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1052640"/>
            <a:ext cx="1655640" cy="36036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1052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3789360"/>
            <a:ext cx="2016000" cy="36036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78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zeroberflä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56360" y="6237360"/>
            <a:ext cx="2303280" cy="36036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6443640" cy="2633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9360">
            <a:solidFill>
              <a:srgbClr val="8da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ossMet‘: Standortauswah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1701720"/>
            <a:ext cx="1728720" cy="1727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2155680" cy="2625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300720" y="4221000"/>
            <a:ext cx="1289160" cy="1943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56360" y="623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ntrale Daten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1270080"/>
            <a:ext cx="2087640" cy="863640"/>
          </a:xfrm>
          <a:prstGeom prst="wedgeRoundRectCallout">
            <a:avLst>
              <a:gd name="adj1" fmla="val -121407"/>
              <a:gd name="adj2" fmla="val 90074"/>
              <a:gd name="adj3" fmla="val 16667"/>
            </a:avLst>
          </a:prstGeom>
          <a:solidFill>
            <a:srgbClr val="c0c0c0">
              <a:alpha val="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0000" y="134136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Standorte 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km-Umkr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27280" y="3860640"/>
            <a:ext cx="649440" cy="863640"/>
          </a:xfrm>
          <a:custGeom>
            <a:avLst/>
            <a:gdLst>
              <a:gd name="textAreaLeft" fmla="*/ 216360 w 649440"/>
              <a:gd name="textAreaRight" fmla="*/ 556200 w 649440"/>
              <a:gd name="textAreaTop" fmla="*/ 497520 h 863640"/>
              <a:gd name="textAreaBottom" fmla="*/ 7398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 rot="16200000">
            <a:off x="5291280" y="4076280"/>
            <a:ext cx="863640" cy="576360"/>
          </a:xfrm>
          <a:custGeom>
            <a:avLst/>
            <a:gdLst>
              <a:gd name="textAreaLeft" fmla="*/ 288000 w 863640"/>
              <a:gd name="textAreaRight" fmla="*/ 739800 w 863640"/>
              <a:gd name="textAreaTop" fmla="*/ 331560 h 576360"/>
              <a:gd name="textAreaBottom" fmla="*/ 493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2492280"/>
            <a:ext cx="1511280" cy="792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421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rdin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40360" y="1052640"/>
            <a:ext cx="4479840" cy="5441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ossMet‘: Metadatenerfass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1906560" cy="3168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9360">
            <a:solidFill>
              <a:srgbClr val="8da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840" y="5084640"/>
            <a:ext cx="2449440" cy="36036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360" y="508464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probungs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3213000"/>
            <a:ext cx="720720" cy="432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99cc00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7346880" cy="3537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84720" y="3213000"/>
            <a:ext cx="1913040" cy="284400"/>
          </a:xfrm>
          <a:custGeom>
            <a:avLst/>
            <a:gdLst>
              <a:gd name="textAreaLeft" fmla="*/ 334800 w 1913040"/>
              <a:gd name="textAreaRight" fmla="*/ 1387080 w 1913040"/>
              <a:gd name="textAreaTop" fmla="*/ 37800 h 284400"/>
              <a:gd name="textAreaBottom" fmla="*/ 246600 h 28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ossMet‘: Datenabf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9360">
            <a:solidFill>
              <a:srgbClr val="8da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3573360"/>
            <a:ext cx="4464360" cy="36036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7040" y="3573360"/>
            <a:ext cx="45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linkung von Metadaten und Messda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76720" y="5013360"/>
            <a:ext cx="5435640" cy="1174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1187280" y="422100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2"/>
            <a:endCxn id="115" idx="1"/>
          </p:cNvCxnSpPr>
          <p:nvPr/>
        </p:nvCxnSpPr>
        <p:spPr>
          <a:xfrm flipH="1" rot="16200000">
            <a:off x="1871280" y="4196160"/>
            <a:ext cx="1080360" cy="1729800"/>
          </a:xfrm>
          <a:prstGeom prst="bent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547640" y="4941720"/>
            <a:ext cx="29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nauswah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rtie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7:47:27Z</dcterms:created>
  <dc:creator>Hochschule Vechta</dc:creator>
  <dc:description/>
  <dc:language>en-US</dc:language>
  <cp:lastModifiedBy> </cp:lastModifiedBy>
  <dcterms:modified xsi:type="dcterms:W3CDTF">2007-05-20T16:45:55Z</dcterms:modified>
  <cp:revision>166</cp:revision>
  <dc:subject/>
  <dc:title>Folie 1</dc:title>
</cp:coreProperties>
</file>