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907588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5000" y="96480"/>
            <a:ext cx="8194680" cy="685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5360" y="898560"/>
            <a:ext cx="9455040" cy="25311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5360" y="3670560"/>
            <a:ext cx="9455040" cy="25311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5000" y="96480"/>
            <a:ext cx="8194680" cy="685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5360" y="898560"/>
            <a:ext cx="4613760" cy="25311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70240" y="898560"/>
            <a:ext cx="4613760" cy="25311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5360" y="3670560"/>
            <a:ext cx="4613760" cy="25311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70240" y="3670560"/>
            <a:ext cx="4613760" cy="25311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5000" y="96480"/>
            <a:ext cx="8194680" cy="685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5360" y="898560"/>
            <a:ext cx="3044160" cy="25311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22160" y="898560"/>
            <a:ext cx="3044160" cy="25311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18960" y="898560"/>
            <a:ext cx="3044160" cy="25311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5360" y="3670560"/>
            <a:ext cx="3044160" cy="25311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22160" y="3670560"/>
            <a:ext cx="3044160" cy="25311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18960" y="3670560"/>
            <a:ext cx="3044160" cy="25311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5000" y="96480"/>
            <a:ext cx="8194680" cy="685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5360" y="898560"/>
            <a:ext cx="9455040" cy="53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5000" y="96480"/>
            <a:ext cx="8194680" cy="685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5360" y="898560"/>
            <a:ext cx="9455040" cy="53071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5000" y="96480"/>
            <a:ext cx="8194680" cy="685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5360" y="898560"/>
            <a:ext cx="4613760" cy="53071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70240" y="898560"/>
            <a:ext cx="4613760" cy="53071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5000" y="96480"/>
            <a:ext cx="8194680" cy="685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5000" y="96480"/>
            <a:ext cx="8194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5000" y="96480"/>
            <a:ext cx="8194680" cy="685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5360" y="898560"/>
            <a:ext cx="4613760" cy="25311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70240" y="898560"/>
            <a:ext cx="4613760" cy="53071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5360" y="3670560"/>
            <a:ext cx="4613760" cy="25311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5000" y="96480"/>
            <a:ext cx="8194680" cy="685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5360" y="898560"/>
            <a:ext cx="9455040" cy="53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5000" y="96480"/>
            <a:ext cx="8194680" cy="685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5360" y="898560"/>
            <a:ext cx="4613760" cy="53071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70240" y="898560"/>
            <a:ext cx="4613760" cy="25311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70240" y="3670560"/>
            <a:ext cx="4613760" cy="25311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5000" y="96480"/>
            <a:ext cx="8194680" cy="685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5360" y="898560"/>
            <a:ext cx="4613760" cy="25311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70240" y="898560"/>
            <a:ext cx="4613760" cy="25311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5360" y="3670560"/>
            <a:ext cx="9455040" cy="25311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5000" y="96480"/>
            <a:ext cx="8194680" cy="685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5360" y="898560"/>
            <a:ext cx="9455040" cy="25311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5360" y="3670560"/>
            <a:ext cx="9455040" cy="25311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5000" y="96480"/>
            <a:ext cx="8194680" cy="685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5360" y="898560"/>
            <a:ext cx="4613760" cy="25311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70240" y="898560"/>
            <a:ext cx="4613760" cy="25311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5360" y="3670560"/>
            <a:ext cx="4613760" cy="25311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70240" y="3670560"/>
            <a:ext cx="4613760" cy="25311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5000" y="96480"/>
            <a:ext cx="8194680" cy="685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5360" y="898560"/>
            <a:ext cx="3044160" cy="25311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422160" y="898560"/>
            <a:ext cx="3044160" cy="25311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18960" y="898560"/>
            <a:ext cx="3044160" cy="25311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5360" y="3670560"/>
            <a:ext cx="3044160" cy="25311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422160" y="3670560"/>
            <a:ext cx="3044160" cy="25311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618960" y="3670560"/>
            <a:ext cx="3044160" cy="25311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5000" y="96480"/>
            <a:ext cx="8194680" cy="685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5360" y="898560"/>
            <a:ext cx="9455040" cy="53071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5000" y="96480"/>
            <a:ext cx="8194680" cy="685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5360" y="898560"/>
            <a:ext cx="4613760" cy="53071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70240" y="898560"/>
            <a:ext cx="4613760" cy="53071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5000" y="96480"/>
            <a:ext cx="8194680" cy="685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5000" y="96480"/>
            <a:ext cx="8194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5000" y="96480"/>
            <a:ext cx="8194680" cy="685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5360" y="898560"/>
            <a:ext cx="4613760" cy="25311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70240" y="898560"/>
            <a:ext cx="4613760" cy="53071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5360" y="3670560"/>
            <a:ext cx="4613760" cy="25311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5000" y="96480"/>
            <a:ext cx="8194680" cy="685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5360" y="898560"/>
            <a:ext cx="4613760" cy="53071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70240" y="898560"/>
            <a:ext cx="4613760" cy="25311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70240" y="3670560"/>
            <a:ext cx="4613760" cy="25311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5000" y="96480"/>
            <a:ext cx="8194680" cy="685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5360" y="898560"/>
            <a:ext cx="4613760" cy="25311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70240" y="898560"/>
            <a:ext cx="4613760" cy="25311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5360" y="3670560"/>
            <a:ext cx="9455040" cy="25311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3240"/>
            <a:ext cx="9906120" cy="68515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5000" y="96480"/>
            <a:ext cx="8194680" cy="685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5360" y="898560"/>
            <a:ext cx="9455040" cy="53071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368280" indent="-368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306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27240" indent="-24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17560" indent="-24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24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09680" indent="-24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09680" indent="-24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25360" y="6514920"/>
            <a:ext cx="4476960" cy="18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  <a:defRPr b="1" lang="en-US" sz="1000" spc="-1" strike="noStrike">
                <a:solidFill>
                  <a:srgbClr val="96969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fld id="{5DA51906-A8CD-4B88-917D-1E4555577DC7}" type="slidenum">
              <a:rPr b="1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969696"/>
                </a:solidFill>
                <a:latin typeface="Arial"/>
              </a:rPr>
              <a:t>   </a:t>
            </a:r>
            <a:r>
              <a:rPr b="0" lang="en-US" sz="900" spc="-1" strike="noStrike">
                <a:solidFill>
                  <a:srgbClr val="969696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63360" y="6362640"/>
            <a:ext cx="1849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lnSpc>
                <a:spcPct val="100000"/>
              </a:lnSpc>
              <a:spcAft>
                <a:spcPts val="51"/>
              </a:spcAft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800" spc="-1" strike="noStrike">
                <a:solidFill>
                  <a:srgbClr val="292929"/>
                </a:solidFill>
                <a:latin typeface="Arial"/>
              </a:rPr>
              <a:t>KIT – die Kooperation v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51"/>
              </a:spcAft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800" spc="-1" strike="noStrike">
                <a:solidFill>
                  <a:srgbClr val="292929"/>
                </a:solidFill>
                <a:latin typeface="Arial"/>
              </a:rPr>
              <a:t>Forschungszentrum Karlsruhe Gmb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51"/>
              </a:spcAft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800" spc="-1" strike="noStrike">
                <a:solidFill>
                  <a:srgbClr val="292929"/>
                </a:solidFill>
                <a:latin typeface="Arial"/>
              </a:rPr>
              <a:t>und Universität Karlsruhe (TH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6608880" y="6396120"/>
            <a:ext cx="1008000" cy="376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3240"/>
            <a:ext cx="9906120" cy="6851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603840" y="6386400"/>
            <a:ext cx="957600" cy="414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1760" y="95400"/>
            <a:ext cx="8194680" cy="68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5360" y="6515280"/>
            <a:ext cx="4476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fld id="{B79263EB-B57E-42C5-9506-CEA289B44767}" type="slidenum">
              <a:rPr b="1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969696"/>
                </a:solidFill>
                <a:latin typeface="Arial"/>
              </a:rPr>
              <a:t>   </a:t>
            </a:r>
            <a:r>
              <a:rPr b="0" lang="en-US" sz="900" spc="-1" strike="noStrike">
                <a:solidFill>
                  <a:srgbClr val="969696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63360" y="6362640"/>
            <a:ext cx="1849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lnSpc>
                <a:spcPct val="100000"/>
              </a:lnSpc>
              <a:spcAft>
                <a:spcPts val="51"/>
              </a:spcAft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800" spc="-1" strike="noStrike">
                <a:solidFill>
                  <a:srgbClr val="292929"/>
                </a:solidFill>
                <a:latin typeface="Arial"/>
              </a:rPr>
              <a:t>KIT – die Kooperation v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51"/>
              </a:spcAft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800" spc="-1" strike="noStrike">
                <a:solidFill>
                  <a:srgbClr val="292929"/>
                </a:solidFill>
                <a:latin typeface="Arial"/>
              </a:rPr>
              <a:t>Forschungszentrum Karlsruhe Gmb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51"/>
              </a:spcAft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800" spc="-1" strike="noStrike">
                <a:solidFill>
                  <a:srgbClr val="292929"/>
                </a:solidFill>
                <a:latin typeface="Arial"/>
              </a:rPr>
              <a:t>und Universität Karlsruhe (TH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6608880" y="6396120"/>
            <a:ext cx="1008000" cy="3762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74"/>
              </a:spcBef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396720" indent="0" algn="ctr">
              <a:spcBef>
                <a:spcPts val="575"/>
              </a:spcBef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793800" indent="1890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90520" indent="282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587600" indent="376200" algn="ctr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5" marL="1587600" indent="3762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6" marL="1587600" indent="3762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173240" y="1253880"/>
            <a:ext cx="7912080" cy="42274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in Konzept 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zum Fachdokumenten-Management und 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zum Einsatz von InGrid</a:t>
            </a:r>
            <a:r>
              <a:rPr b="0" lang="en-US" sz="3100" spc="-1" strike="noStrike" baseline="30000">
                <a:solidFill>
                  <a:srgbClr val="000000"/>
                </a:solidFill>
                <a:latin typeface="Arial"/>
              </a:rPr>
              <a:t>®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m Umweltinformationssystem 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aden-Württemberg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. Weideman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R. Ebe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. Schlacht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spcBef>
                <a:spcPts val="524"/>
              </a:spcBef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rschungszentrum Karlsruhe, IA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774"/>
              </a:spcBef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andesanstalt für Umwelt, Messungen und Naturschutz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aden-Württemberg (LUBW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268800" y="5651640"/>
            <a:ext cx="1520640" cy="6253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39640" y="5651640"/>
            <a:ext cx="1828800" cy="6588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7915320" y="5651640"/>
            <a:ext cx="1387440" cy="6188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5691240" y="5651640"/>
            <a:ext cx="132228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25000" y="96480"/>
            <a:ext cx="8194680" cy="685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etadaten für PortalU und InGrid-BW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857840" y="1022400"/>
            <a:ext cx="4556160" cy="23889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6875640" y="2689200"/>
            <a:ext cx="661680" cy="615960"/>
          </a:xfrm>
          <a:prstGeom prst="ellipse">
            <a:avLst/>
          </a:prstGeom>
          <a:solidFill>
            <a:srgbClr val="ff99cc">
              <a:alpha val="2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5360" y="3954600"/>
            <a:ext cx="9107640" cy="22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rmAutofit/>
          </a:bodyPr>
          <a:p>
            <a:pPr marL="368280" indent="-368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inbindung von Fachdokumenten in Portal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| Rainer Weidemann | IAI | 21./22.05.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5000" y="96480"/>
            <a:ext cx="8194680" cy="8017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nzept für die Anbindung PortalU und Nutzung von InGr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5360" y="1206000"/>
            <a:ext cx="9455040" cy="49993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368280" indent="-368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e der Informationsbereitstellung für Porta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8280" indent="-368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e der derzeitigen Erschließung der Informationsque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8280" indent="-368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datenstrate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8280" indent="-368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arbeitung / Bewertung von Einsatzoptione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ür InGrid-Komponen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8280" indent="-368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wurf eines Gesamtszen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8280" indent="-368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e der Auswirkungen auf vorhandene UIS-Komponen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8577360" y="1176480"/>
            <a:ext cx="504720" cy="4903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7189920" y="1886040"/>
            <a:ext cx="504720" cy="49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| Rainer Weidemann | IAI | 21./22.05.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5000" y="96480"/>
            <a:ext cx="8194680" cy="685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etadatenstrategi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25360" y="898560"/>
            <a:ext cx="9455040" cy="53071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368280" indent="-368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Grid 1.1 löst den Umweltdatenkatalog 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8280" indent="-368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30636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isherigen UDK weiter betreib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30636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Umstellen auf InGrid 1.1 (PortalU oder eigene Installation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30636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zentralisierung der Metadatenhaltu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30636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68280" indent="-368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ie im UIS B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30636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eilweise Dezentralisierung der Metadatenhaltung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näher an den Erzeuger)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FDB ist für UDK-Metadaten zu Fachdokumenten zuständi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30636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Zusammenführung in InGri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| Rainer Weidemann | IAI | 21./22.05.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225360" y="898560"/>
            <a:ext cx="9455040" cy="53071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368280" indent="-368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Grid ist ein modulares System mit Netzschnittste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8280" indent="0">
              <a:spcBef>
                <a:spcPts val="700"/>
              </a:spcBef>
              <a:buNone/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225000" y="96480"/>
            <a:ext cx="8194680" cy="685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insatzoptionen für InGrid-Komponente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| Rainer Weidemann | IAI | 21./22.05.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619200" y="415800"/>
            <a:ext cx="8556480" cy="141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2281320" y="3092040"/>
            <a:ext cx="2731320" cy="2862360"/>
            <a:chOff x="2281320" y="3092040"/>
            <a:chExt cx="2731320" cy="2862360"/>
          </a:xfrm>
        </p:grpSpPr>
        <p:sp>
          <p:nvSpPr>
            <p:cNvPr id="217" name=""/>
            <p:cNvSpPr/>
            <p:nvPr/>
          </p:nvSpPr>
          <p:spPr>
            <a:xfrm rot="16200000">
              <a:off x="4082040" y="3729960"/>
              <a:ext cx="1568520" cy="292680"/>
            </a:xfrm>
            <a:prstGeom prst="rect">
              <a:avLst/>
            </a:prstGeom>
            <a:solidFill>
              <a:srgbClr val="ff505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3800"/>
                  <a:tab algn="l" pos="1587600"/>
                  <a:tab algn="l" pos="2381400"/>
                  <a:tab algn="l" pos="3174840"/>
                  <a:tab algn="l" pos="3968640"/>
                  <a:tab algn="l" pos="4762440"/>
                  <a:tab algn="l" pos="5556240"/>
                  <a:tab algn="l" pos="6350040"/>
                  <a:tab algn="l" pos="7143840"/>
                  <a:tab algn="l" pos="7937640"/>
                  <a:tab algn="l" pos="8731080"/>
                  <a:tab algn="l" pos="9524880"/>
                  <a:tab algn="l" pos="1031868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ECS-iPlu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281320" y="5600520"/>
              <a:ext cx="1156680" cy="3538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3800"/>
                  <a:tab algn="l" pos="1587600"/>
                  <a:tab algn="l" pos="2381400"/>
                  <a:tab algn="l" pos="3174840"/>
                  <a:tab algn="l" pos="3968640"/>
                  <a:tab algn="l" pos="4762440"/>
                  <a:tab algn="l" pos="5556240"/>
                  <a:tab algn="l" pos="6350040"/>
                  <a:tab algn="l" pos="7143840"/>
                  <a:tab algn="l" pos="7937640"/>
                  <a:tab algn="l" pos="8731080"/>
                  <a:tab algn="l" pos="9524880"/>
                  <a:tab algn="l" pos="1031868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Metadatenban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93800"/>
                  <a:tab algn="l" pos="1587600"/>
                  <a:tab algn="l" pos="2381400"/>
                  <a:tab algn="l" pos="3174840"/>
                  <a:tab algn="l" pos="3968640"/>
                  <a:tab algn="l" pos="4762440"/>
                  <a:tab algn="l" pos="5556240"/>
                  <a:tab algn="l" pos="6350040"/>
                  <a:tab algn="l" pos="7143840"/>
                  <a:tab algn="l" pos="7937640"/>
                  <a:tab algn="l" pos="8731080"/>
                  <a:tab algn="l" pos="9524880"/>
                  <a:tab algn="l" pos="1031868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(extern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2859840" y="5054040"/>
              <a:ext cx="0" cy="52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4883760" y="4661640"/>
              <a:ext cx="0" cy="392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859840" y="5054040"/>
              <a:ext cx="2023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583080" y="5597640"/>
            <a:ext cx="2457000" cy="353880"/>
            <a:chOff x="3583080" y="5597640"/>
            <a:chExt cx="2457000" cy="353880"/>
          </a:xfrm>
        </p:grpSpPr>
        <p:sp>
          <p:nvSpPr>
            <p:cNvPr id="223" name=""/>
            <p:cNvSpPr/>
            <p:nvPr/>
          </p:nvSpPr>
          <p:spPr>
            <a:xfrm>
              <a:off x="4883760" y="5597640"/>
              <a:ext cx="1156320" cy="3538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3800"/>
                  <a:tab algn="l" pos="1587600"/>
                  <a:tab algn="l" pos="2381400"/>
                  <a:tab algn="l" pos="3174840"/>
                  <a:tab algn="l" pos="3968640"/>
                  <a:tab algn="l" pos="4762440"/>
                  <a:tab algn="l" pos="5556240"/>
                  <a:tab algn="l" pos="6350040"/>
                  <a:tab algn="l" pos="7143840"/>
                  <a:tab algn="l" pos="7937640"/>
                  <a:tab algn="l" pos="8731080"/>
                  <a:tab algn="l" pos="9524880"/>
                  <a:tab algn="l" pos="10318680"/>
                </a:tabLst>
              </a:pPr>
              <a:r>
                <a:rPr b="1" lang="de-DE" sz="900" spc="-1" strike="noStrike">
                  <a:solidFill>
                    <a:srgbClr val="ffffff"/>
                  </a:solidFill>
                  <a:latin typeface="Arial"/>
                </a:rPr>
                <a:t>Forschungs-D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93800"/>
                  <a:tab algn="l" pos="1587600"/>
                  <a:tab algn="l" pos="2381400"/>
                  <a:tab algn="l" pos="3174840"/>
                  <a:tab algn="l" pos="3968640"/>
                  <a:tab algn="l" pos="4762440"/>
                  <a:tab algn="l" pos="5556240"/>
                  <a:tab algn="l" pos="6350040"/>
                  <a:tab algn="l" pos="7143840"/>
                  <a:tab algn="l" pos="7937640"/>
                  <a:tab algn="l" pos="8731080"/>
                  <a:tab algn="l" pos="9524880"/>
                  <a:tab algn="l" pos="10318680"/>
                </a:tabLst>
              </a:pPr>
              <a:r>
                <a:rPr b="1" lang="de-DE" sz="900" spc="-1" strike="noStrike">
                  <a:solidFill>
                    <a:srgbClr val="ffffff"/>
                  </a:solidFill>
                  <a:latin typeface="Arial"/>
                </a:rPr>
                <a:t>(extern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83080" y="5597640"/>
              <a:ext cx="1156320" cy="3538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3800"/>
                  <a:tab algn="l" pos="1587600"/>
                  <a:tab algn="l" pos="2381400"/>
                  <a:tab algn="l" pos="3174840"/>
                  <a:tab algn="l" pos="3968640"/>
                  <a:tab algn="l" pos="4762440"/>
                  <a:tab algn="l" pos="5556240"/>
                  <a:tab algn="l" pos="6350040"/>
                  <a:tab algn="l" pos="7143840"/>
                  <a:tab algn="l" pos="7937640"/>
                  <a:tab algn="l" pos="8731080"/>
                  <a:tab algn="l" pos="9524880"/>
                  <a:tab algn="l" pos="1031868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Fachdatenban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93800"/>
                  <a:tab algn="l" pos="1587600"/>
                  <a:tab algn="l" pos="2381400"/>
                  <a:tab algn="l" pos="3174840"/>
                  <a:tab algn="l" pos="3968640"/>
                  <a:tab algn="l" pos="4762440"/>
                  <a:tab algn="l" pos="5556240"/>
                  <a:tab algn="l" pos="6350040"/>
                  <a:tab algn="l" pos="7143840"/>
                  <a:tab algn="l" pos="7937640"/>
                  <a:tab algn="l" pos="8731080"/>
                  <a:tab algn="l" pos="9524880"/>
                  <a:tab algn="l" pos="1031868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(extern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220560" y="3092400"/>
            <a:ext cx="2658960" cy="2484000"/>
            <a:chOff x="3220560" y="3092400"/>
            <a:chExt cx="2658960" cy="2484000"/>
          </a:xfrm>
        </p:grpSpPr>
        <p:sp>
          <p:nvSpPr>
            <p:cNvPr id="226" name=""/>
            <p:cNvSpPr/>
            <p:nvPr/>
          </p:nvSpPr>
          <p:spPr>
            <a:xfrm rot="16200000">
              <a:off x="4948920" y="3729960"/>
              <a:ext cx="1568160" cy="2926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3800"/>
                  <a:tab algn="l" pos="1587600"/>
                  <a:tab algn="l" pos="2381400"/>
                  <a:tab algn="l" pos="3174840"/>
                  <a:tab algn="l" pos="3968640"/>
                  <a:tab algn="l" pos="4762440"/>
                  <a:tab algn="l" pos="5556240"/>
                  <a:tab algn="l" pos="6350040"/>
                  <a:tab algn="l" pos="7143840"/>
                  <a:tab algn="l" pos="7937640"/>
                  <a:tab algn="l" pos="8731080"/>
                  <a:tab algn="l" pos="9524880"/>
                  <a:tab algn="l" pos="1031868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DSC-iPlu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5750640" y="4661280"/>
              <a:ext cx="0" cy="914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4449600" y="5315040"/>
              <a:ext cx="1301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4449600" y="5315040"/>
              <a:ext cx="0" cy="261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3220560" y="5315040"/>
              <a:ext cx="1228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3220920" y="5315040"/>
              <a:ext cx="0" cy="261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1054080" y="1069920"/>
            <a:ext cx="3468240" cy="1397160"/>
            <a:chOff x="1054080" y="1069920"/>
            <a:chExt cx="3468240" cy="1397160"/>
          </a:xfrm>
        </p:grpSpPr>
        <p:sp>
          <p:nvSpPr>
            <p:cNvPr id="233" name=""/>
            <p:cNvSpPr/>
            <p:nvPr/>
          </p:nvSpPr>
          <p:spPr>
            <a:xfrm>
              <a:off x="1054080" y="2113200"/>
              <a:ext cx="1156320" cy="3538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3800"/>
                  <a:tab algn="l" pos="1587600"/>
                  <a:tab algn="l" pos="2381400"/>
                  <a:tab algn="l" pos="3174840"/>
                  <a:tab algn="l" pos="3968640"/>
                  <a:tab algn="l" pos="4762440"/>
                  <a:tab algn="l" pos="5556240"/>
                  <a:tab algn="l" pos="6350040"/>
                  <a:tab algn="l" pos="7143840"/>
                  <a:tab algn="l" pos="7937640"/>
                  <a:tab algn="l" pos="8731080"/>
                  <a:tab algn="l" pos="9524880"/>
                  <a:tab algn="l" pos="1031868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WM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93800"/>
                  <a:tab algn="l" pos="1587600"/>
                  <a:tab algn="l" pos="2381400"/>
                  <a:tab algn="l" pos="3174840"/>
                  <a:tab algn="l" pos="3968640"/>
                  <a:tab algn="l" pos="4762440"/>
                  <a:tab algn="l" pos="5556240"/>
                  <a:tab algn="l" pos="6350040"/>
                  <a:tab algn="l" pos="7143840"/>
                  <a:tab algn="l" pos="7937640"/>
                  <a:tab algn="l" pos="8731080"/>
                  <a:tab algn="l" pos="9524880"/>
                  <a:tab algn="l" pos="1031868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(extern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438720" y="1069920"/>
              <a:ext cx="1083600" cy="23184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3800"/>
                  <a:tab algn="l" pos="1587600"/>
                  <a:tab algn="l" pos="2381400"/>
                  <a:tab algn="l" pos="3174840"/>
                  <a:tab algn="l" pos="3968640"/>
                  <a:tab algn="l" pos="4762440"/>
                  <a:tab algn="l" pos="5556240"/>
                  <a:tab algn="l" pos="6350040"/>
                  <a:tab algn="l" pos="7143840"/>
                  <a:tab algn="l" pos="7937640"/>
                  <a:tab algn="l" pos="8731080"/>
                  <a:tab algn="l" pos="9524880"/>
                  <a:tab algn="l" pos="1031868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WMS-View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1631880" y="1330200"/>
              <a:ext cx="2312640" cy="717480"/>
              <a:chOff x="1631880" y="1330200"/>
              <a:chExt cx="2312640" cy="717480"/>
            </a:xfrm>
          </p:grpSpPr>
          <p:sp>
            <p:nvSpPr>
              <p:cNvPr id="236" name=""/>
              <p:cNvSpPr/>
              <p:nvPr/>
            </p:nvSpPr>
            <p:spPr>
              <a:xfrm flipV="1">
                <a:off x="1631880" y="1656720"/>
                <a:ext cx="0" cy="390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V="1">
                <a:off x="3944520" y="1330200"/>
                <a:ext cx="0" cy="52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631880" y="1852200"/>
                <a:ext cx="2312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1054080" y="1330560"/>
              <a:ext cx="1156320" cy="3538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3800"/>
                  <a:tab algn="l" pos="1587600"/>
                  <a:tab algn="l" pos="2381400"/>
                  <a:tab algn="l" pos="3174840"/>
                  <a:tab algn="l" pos="3968640"/>
                  <a:tab algn="l" pos="4762440"/>
                  <a:tab algn="l" pos="5556240"/>
                  <a:tab algn="l" pos="6350040"/>
                  <a:tab algn="l" pos="7143840"/>
                  <a:tab algn="l" pos="7937640"/>
                  <a:tab algn="l" pos="8731080"/>
                  <a:tab algn="l" pos="9524880"/>
                  <a:tab algn="l" pos="1031868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WM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93800"/>
                  <a:tab algn="l" pos="1587600"/>
                  <a:tab algn="l" pos="2381400"/>
                  <a:tab algn="l" pos="3174840"/>
                  <a:tab algn="l" pos="3968640"/>
                  <a:tab algn="l" pos="4762440"/>
                  <a:tab algn="l" pos="5556240"/>
                  <a:tab algn="l" pos="6350040"/>
                  <a:tab algn="l" pos="7143840"/>
                  <a:tab algn="l" pos="7937640"/>
                  <a:tab algn="l" pos="8731080"/>
                  <a:tab algn="l" pos="9524880"/>
                  <a:tab algn="l" pos="1031868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Portal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1198440" y="2963880"/>
            <a:ext cx="2022480" cy="914400"/>
            <a:chOff x="1198440" y="2963880"/>
            <a:chExt cx="2022480" cy="914400"/>
          </a:xfrm>
        </p:grpSpPr>
        <p:sp>
          <p:nvSpPr>
            <p:cNvPr id="241" name=""/>
            <p:cNvSpPr/>
            <p:nvPr/>
          </p:nvSpPr>
          <p:spPr>
            <a:xfrm>
              <a:off x="1198440" y="2963880"/>
              <a:ext cx="2022480" cy="914400"/>
            </a:xfrm>
            <a:prstGeom prst="flowChartMagneticDisk">
              <a:avLst/>
            </a:prstGeom>
            <a:solidFill>
              <a:srgbClr val="0073a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21456600">
              <a:off x="2282040" y="3290400"/>
              <a:ext cx="866880" cy="456840"/>
            </a:xfrm>
            <a:prstGeom prst="flowChartMagneticDisk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270440" y="3290400"/>
              <a:ext cx="866880" cy="456840"/>
            </a:xfrm>
            <a:prstGeom prst="flowChartMagneticDisk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271880" y="3486240"/>
              <a:ext cx="86688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93800"/>
                  <a:tab algn="l" pos="1587600"/>
                  <a:tab algn="l" pos="2381400"/>
                  <a:tab algn="l" pos="3174840"/>
                  <a:tab algn="l" pos="3968640"/>
                  <a:tab algn="l" pos="4762440"/>
                  <a:tab algn="l" pos="5556240"/>
                  <a:tab algn="l" pos="6350040"/>
                  <a:tab algn="l" pos="7143840"/>
                  <a:tab algn="l" pos="7937640"/>
                  <a:tab algn="l" pos="8731080"/>
                  <a:tab algn="l" pos="9524880"/>
                  <a:tab algn="l" pos="1031868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Portal-D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283120" y="3486240"/>
              <a:ext cx="86688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93800"/>
                  <a:tab algn="l" pos="1587600"/>
                  <a:tab algn="l" pos="2381400"/>
                  <a:tab algn="l" pos="3174840"/>
                  <a:tab algn="l" pos="3968640"/>
                  <a:tab algn="l" pos="4762440"/>
                  <a:tab algn="l" pos="5556240"/>
                  <a:tab algn="l" pos="6350040"/>
                  <a:tab algn="l" pos="7143840"/>
                  <a:tab algn="l" pos="7937640"/>
                  <a:tab algn="l" pos="8731080"/>
                  <a:tab algn="l" pos="9524880"/>
                  <a:tab algn="l" pos="1031868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UDK-D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981000" y="3087360"/>
            <a:ext cx="3598560" cy="2867040"/>
            <a:chOff x="981000" y="3087360"/>
            <a:chExt cx="3598560" cy="2867040"/>
          </a:xfrm>
        </p:grpSpPr>
        <p:sp>
          <p:nvSpPr>
            <p:cNvPr id="247" name=""/>
            <p:cNvSpPr/>
            <p:nvPr/>
          </p:nvSpPr>
          <p:spPr>
            <a:xfrm rot="16200000">
              <a:off x="3649320" y="3724920"/>
              <a:ext cx="1567800" cy="292680"/>
            </a:xfrm>
            <a:prstGeom prst="rect">
              <a:avLst/>
            </a:prstGeom>
            <a:solidFill>
              <a:srgbClr val="ff505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3800"/>
                  <a:tab algn="l" pos="1587600"/>
                  <a:tab algn="l" pos="2381400"/>
                  <a:tab algn="l" pos="3174840"/>
                  <a:tab algn="l" pos="3968640"/>
                  <a:tab algn="l" pos="4762440"/>
                  <a:tab algn="l" pos="5556240"/>
                  <a:tab algn="l" pos="6350040"/>
                  <a:tab algn="l" pos="7143840"/>
                  <a:tab algn="l" pos="7937640"/>
                  <a:tab algn="l" pos="8731080"/>
                  <a:tab algn="l" pos="9524880"/>
                  <a:tab algn="l" pos="1031868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CSW-iPlu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981000" y="5600520"/>
              <a:ext cx="1156680" cy="3538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3800"/>
                  <a:tab algn="l" pos="1587600"/>
                  <a:tab algn="l" pos="2381400"/>
                  <a:tab algn="l" pos="3174840"/>
                  <a:tab algn="l" pos="3968640"/>
                  <a:tab algn="l" pos="4762440"/>
                  <a:tab algn="l" pos="5556240"/>
                  <a:tab algn="l" pos="6350040"/>
                  <a:tab algn="l" pos="7143840"/>
                  <a:tab algn="l" pos="7937640"/>
                  <a:tab algn="l" pos="8731080"/>
                  <a:tab algn="l" pos="9524880"/>
                  <a:tab algn="l" pos="1031868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CS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93800"/>
                  <a:tab algn="l" pos="1587600"/>
                  <a:tab algn="l" pos="2381400"/>
                  <a:tab algn="l" pos="3174840"/>
                  <a:tab algn="l" pos="3968640"/>
                  <a:tab algn="l" pos="4762440"/>
                  <a:tab algn="l" pos="5556240"/>
                  <a:tab algn="l" pos="6350040"/>
                  <a:tab algn="l" pos="7143840"/>
                  <a:tab algn="l" pos="7937640"/>
                  <a:tab algn="l" pos="8731080"/>
                  <a:tab algn="l" pos="9524880"/>
                  <a:tab algn="l" pos="1031868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(extern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1631520" y="4923720"/>
              <a:ext cx="0" cy="653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4450680" y="4662360"/>
              <a:ext cx="0" cy="261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631520" y="4924080"/>
              <a:ext cx="2819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4016520" y="3092400"/>
            <a:ext cx="1429560" cy="2484000"/>
            <a:chOff x="4016520" y="3092400"/>
            <a:chExt cx="1429560" cy="2484000"/>
          </a:xfrm>
        </p:grpSpPr>
        <p:sp>
          <p:nvSpPr>
            <p:cNvPr id="253" name=""/>
            <p:cNvSpPr/>
            <p:nvPr/>
          </p:nvSpPr>
          <p:spPr>
            <a:xfrm rot="16200000">
              <a:off x="4515480" y="3729960"/>
              <a:ext cx="1568160" cy="292680"/>
            </a:xfrm>
            <a:prstGeom prst="rect">
              <a:avLst/>
            </a:prstGeom>
            <a:solidFill>
              <a:srgbClr val="ff505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3800"/>
                  <a:tab algn="l" pos="1587600"/>
                  <a:tab algn="l" pos="2381400"/>
                  <a:tab algn="l" pos="3174840"/>
                  <a:tab algn="l" pos="3968640"/>
                  <a:tab algn="l" pos="4762440"/>
                  <a:tab algn="l" pos="5556240"/>
                  <a:tab algn="l" pos="6350040"/>
                  <a:tab algn="l" pos="7143840"/>
                  <a:tab algn="l" pos="7937640"/>
                  <a:tab algn="l" pos="8731080"/>
                  <a:tab algn="l" pos="9524880"/>
                  <a:tab algn="l" pos="1031868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2k-iPlu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5317200" y="5184360"/>
              <a:ext cx="0" cy="392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4016520" y="5184360"/>
              <a:ext cx="0" cy="392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5317200" y="4661640"/>
              <a:ext cx="0" cy="52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016520" y="5184720"/>
              <a:ext cx="1300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6019920" y="3092400"/>
            <a:ext cx="1537920" cy="2839320"/>
            <a:chOff x="6019920" y="3092400"/>
            <a:chExt cx="1537920" cy="2839320"/>
          </a:xfrm>
        </p:grpSpPr>
        <p:sp>
          <p:nvSpPr>
            <p:cNvPr id="259" name=""/>
            <p:cNvSpPr/>
            <p:nvPr/>
          </p:nvSpPr>
          <p:spPr>
            <a:xfrm rot="16200000">
              <a:off x="5382000" y="3729960"/>
              <a:ext cx="1568160" cy="292680"/>
            </a:xfrm>
            <a:prstGeom prst="rect">
              <a:avLst/>
            </a:prstGeom>
            <a:solidFill>
              <a:srgbClr val="ff505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3800"/>
                  <a:tab algn="l" pos="1587600"/>
                  <a:tab algn="l" pos="2381400"/>
                  <a:tab algn="l" pos="3174840"/>
                  <a:tab algn="l" pos="3968640"/>
                  <a:tab algn="l" pos="4762440"/>
                  <a:tab algn="l" pos="5556240"/>
                  <a:tab algn="l" pos="6350040"/>
                  <a:tab algn="l" pos="7143840"/>
                  <a:tab algn="l" pos="7937640"/>
                  <a:tab algn="l" pos="8731080"/>
                  <a:tab algn="l" pos="9524880"/>
                  <a:tab algn="l" pos="1031868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FPN-iPlu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183720" y="5577840"/>
              <a:ext cx="1374120" cy="3538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3800"/>
                  <a:tab algn="l" pos="1587600"/>
                  <a:tab algn="l" pos="2381400"/>
                  <a:tab algn="l" pos="3174840"/>
                  <a:tab algn="l" pos="3968640"/>
                  <a:tab algn="l" pos="4762440"/>
                  <a:tab algn="l" pos="5556240"/>
                  <a:tab algn="l" pos="6350040"/>
                  <a:tab algn="l" pos="7143840"/>
                  <a:tab algn="l" pos="7937640"/>
                  <a:tab algn="l" pos="8731080"/>
                  <a:tab algn="l" pos="9524880"/>
                  <a:tab algn="l" pos="1031868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Forschungsporta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93800"/>
                  <a:tab algn="l" pos="1587600"/>
                  <a:tab algn="l" pos="2381400"/>
                  <a:tab algn="l" pos="3174840"/>
                  <a:tab algn="l" pos="3968640"/>
                  <a:tab algn="l" pos="4762440"/>
                  <a:tab algn="l" pos="5556240"/>
                  <a:tab algn="l" pos="6350040"/>
                  <a:tab algn="l" pos="7143840"/>
                  <a:tab algn="l" pos="7937640"/>
                  <a:tab algn="l" pos="8731080"/>
                  <a:tab algn="l" pos="9524880"/>
                  <a:tab algn="l" pos="1031868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(extern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6183720" y="4661280"/>
              <a:ext cx="0" cy="653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6183360" y="5315040"/>
              <a:ext cx="723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6906960" y="5315040"/>
              <a:ext cx="0" cy="261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6453360" y="3093840"/>
            <a:ext cx="2404440" cy="2837880"/>
            <a:chOff x="6453360" y="3093840"/>
            <a:chExt cx="2404440" cy="2837880"/>
          </a:xfrm>
        </p:grpSpPr>
        <p:sp>
          <p:nvSpPr>
            <p:cNvPr id="265" name=""/>
            <p:cNvSpPr/>
            <p:nvPr/>
          </p:nvSpPr>
          <p:spPr>
            <a:xfrm flipV="1">
              <a:off x="6617160" y="4662000"/>
              <a:ext cx="0" cy="52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6453360" y="3093840"/>
              <a:ext cx="2404440" cy="2837880"/>
              <a:chOff x="6453360" y="3093840"/>
              <a:chExt cx="2404440" cy="2837880"/>
            </a:xfrm>
          </p:grpSpPr>
          <p:sp>
            <p:nvSpPr>
              <p:cNvPr id="267" name=""/>
              <p:cNvSpPr/>
              <p:nvPr/>
            </p:nvSpPr>
            <p:spPr>
              <a:xfrm rot="16200000">
                <a:off x="5815800" y="3731400"/>
                <a:ext cx="1567800" cy="292680"/>
              </a:xfrm>
              <a:prstGeom prst="rect">
                <a:avLst/>
              </a:prstGeom>
              <a:solidFill>
                <a:srgbClr val="33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93800"/>
                    <a:tab algn="l" pos="1587600"/>
                    <a:tab algn="l" pos="2381400"/>
                    <a:tab algn="l" pos="3174840"/>
                    <a:tab algn="l" pos="3968640"/>
                    <a:tab algn="l" pos="4762440"/>
                    <a:tab algn="l" pos="5556240"/>
                    <a:tab algn="l" pos="6350040"/>
                    <a:tab algn="l" pos="7143840"/>
                    <a:tab algn="l" pos="7937640"/>
                    <a:tab algn="l" pos="8731080"/>
                    <a:tab algn="l" pos="9524880"/>
                    <a:tab algn="l" pos="10318680"/>
                  </a:tabLst>
                </a:pPr>
                <a:r>
                  <a:rPr b="1" lang="de-DE" sz="1400" spc="-1" strike="noStrike">
                    <a:solidFill>
                      <a:srgbClr val="ffffff"/>
                    </a:solidFill>
                    <a:latin typeface="Arial"/>
                  </a:rPr>
                  <a:t>SNS-iPlu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701480" y="5577840"/>
                <a:ext cx="1156320" cy="3538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93800"/>
                    <a:tab algn="l" pos="1587600"/>
                    <a:tab algn="l" pos="2381400"/>
                    <a:tab algn="l" pos="3174840"/>
                    <a:tab algn="l" pos="3968640"/>
                    <a:tab algn="l" pos="4762440"/>
                    <a:tab algn="l" pos="5556240"/>
                    <a:tab algn="l" pos="6350040"/>
                    <a:tab algn="l" pos="7143840"/>
                    <a:tab algn="l" pos="7937640"/>
                    <a:tab algn="l" pos="8731080"/>
                    <a:tab algn="l" pos="9524880"/>
                    <a:tab algn="l" pos="1031868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SN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93800"/>
                    <a:tab algn="l" pos="1587600"/>
                    <a:tab algn="l" pos="2381400"/>
                    <a:tab algn="l" pos="3174840"/>
                    <a:tab algn="l" pos="3968640"/>
                    <a:tab algn="l" pos="4762440"/>
                    <a:tab algn="l" pos="5556240"/>
                    <a:tab algn="l" pos="6350040"/>
                    <a:tab algn="l" pos="7143840"/>
                    <a:tab algn="l" pos="7937640"/>
                    <a:tab algn="l" pos="8731080"/>
                    <a:tab algn="l" pos="9524880"/>
                    <a:tab algn="l" pos="1031868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(extern)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6617160" y="5184720"/>
                <a:ext cx="1734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V="1">
                <a:off x="8352000" y="5184360"/>
                <a:ext cx="0" cy="32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1" name=""/>
          <p:cNvGrpSpPr/>
          <p:nvPr/>
        </p:nvGrpSpPr>
        <p:grpSpPr>
          <a:xfrm>
            <a:off x="6888240" y="3094200"/>
            <a:ext cx="2185560" cy="1958400"/>
            <a:chOff x="6888240" y="3094200"/>
            <a:chExt cx="2185560" cy="1958400"/>
          </a:xfrm>
        </p:grpSpPr>
        <p:sp>
          <p:nvSpPr>
            <p:cNvPr id="272" name=""/>
            <p:cNvSpPr/>
            <p:nvPr/>
          </p:nvSpPr>
          <p:spPr>
            <a:xfrm rot="16200000">
              <a:off x="6251040" y="3731040"/>
              <a:ext cx="1566720" cy="2926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3800"/>
                  <a:tab algn="l" pos="1587600"/>
                  <a:tab algn="l" pos="2381400"/>
                  <a:tab algn="l" pos="3174840"/>
                  <a:tab algn="l" pos="3968640"/>
                  <a:tab algn="l" pos="4762440"/>
                  <a:tab algn="l" pos="5556240"/>
                  <a:tab algn="l" pos="6350040"/>
                  <a:tab algn="l" pos="7143840"/>
                  <a:tab algn="l" pos="7937640"/>
                  <a:tab algn="l" pos="8731080"/>
                  <a:tab algn="l" pos="9524880"/>
                  <a:tab algn="l" pos="1031868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SE-iPlu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8279640" y="4269240"/>
              <a:ext cx="794160" cy="783360"/>
              <a:chOff x="8279640" y="4269240"/>
              <a:chExt cx="794160" cy="783360"/>
            </a:xfrm>
          </p:grpSpPr>
          <p:sp>
            <p:nvSpPr>
              <p:cNvPr id="274" name=""/>
              <p:cNvSpPr/>
              <p:nvPr/>
            </p:nvSpPr>
            <p:spPr>
              <a:xfrm>
                <a:off x="8279640" y="4269240"/>
                <a:ext cx="794160" cy="783360"/>
              </a:xfrm>
              <a:prstGeom prst="flowChartMultidocument">
                <a:avLst/>
              </a:prstGeom>
              <a:solidFill>
                <a:srgbClr val="c5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8279640" y="4465080"/>
                <a:ext cx="649800" cy="44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93800"/>
                    <a:tab algn="l" pos="1587600"/>
                    <a:tab algn="l" pos="2381400"/>
                    <a:tab algn="l" pos="3174840"/>
                    <a:tab algn="l" pos="3968640"/>
                    <a:tab algn="l" pos="4762440"/>
                    <a:tab algn="l" pos="5556240"/>
                    <a:tab algn="l" pos="6350040"/>
                    <a:tab algn="l" pos="7143840"/>
                    <a:tab algn="l" pos="7937640"/>
                    <a:tab algn="l" pos="8731080"/>
                    <a:tab algn="l" pos="9524880"/>
                    <a:tab algn="l" pos="103186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HTT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93800"/>
                    <a:tab algn="l" pos="1587600"/>
                    <a:tab algn="l" pos="2381400"/>
                    <a:tab algn="l" pos="3174840"/>
                    <a:tab algn="l" pos="3968640"/>
                    <a:tab algn="l" pos="4762440"/>
                    <a:tab algn="l" pos="5556240"/>
                    <a:tab algn="l" pos="6350040"/>
                    <a:tab algn="l" pos="7143840"/>
                    <a:tab algn="l" pos="7937640"/>
                    <a:tab algn="l" pos="8731080"/>
                    <a:tab algn="l" pos="9524880"/>
                    <a:tab algn="l" pos="103186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6" name=""/>
            <p:cNvSpPr/>
            <p:nvPr/>
          </p:nvSpPr>
          <p:spPr>
            <a:xfrm flipV="1">
              <a:off x="7051680" y="4660920"/>
              <a:ext cx="0" cy="19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7051680" y="4857120"/>
              <a:ext cx="1227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2425680" y="3092400"/>
            <a:ext cx="1720440" cy="1699920"/>
            <a:chOff x="2425680" y="3092400"/>
            <a:chExt cx="1720440" cy="1699920"/>
          </a:xfrm>
        </p:grpSpPr>
        <p:sp>
          <p:nvSpPr>
            <p:cNvPr id="279" name=""/>
            <p:cNvSpPr/>
            <p:nvPr/>
          </p:nvSpPr>
          <p:spPr>
            <a:xfrm flipH="1">
              <a:off x="3003840" y="4400640"/>
              <a:ext cx="867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16200000">
              <a:off x="3215520" y="3729960"/>
              <a:ext cx="1568160" cy="2926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3800"/>
                  <a:tab algn="l" pos="1587600"/>
                  <a:tab algn="l" pos="2381400"/>
                  <a:tab algn="l" pos="3174840"/>
                  <a:tab algn="l" pos="3968640"/>
                  <a:tab algn="l" pos="4762440"/>
                  <a:tab algn="l" pos="5556240"/>
                  <a:tab algn="l" pos="6350040"/>
                  <a:tab algn="l" pos="7143840"/>
                  <a:tab algn="l" pos="7937640"/>
                  <a:tab algn="l" pos="8731080"/>
                  <a:tab algn="l" pos="9524880"/>
                  <a:tab algn="l" pos="1031868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UDKdb-iPlu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1" name=""/>
            <p:cNvGrpSpPr/>
            <p:nvPr/>
          </p:nvGrpSpPr>
          <p:grpSpPr>
            <a:xfrm>
              <a:off x="2425680" y="4204440"/>
              <a:ext cx="650520" cy="587880"/>
              <a:chOff x="2425680" y="4204440"/>
              <a:chExt cx="650520" cy="587880"/>
            </a:xfrm>
          </p:grpSpPr>
          <p:sp>
            <p:nvSpPr>
              <p:cNvPr id="282" name=""/>
              <p:cNvSpPr/>
              <p:nvPr/>
            </p:nvSpPr>
            <p:spPr>
              <a:xfrm>
                <a:off x="2497680" y="4204440"/>
                <a:ext cx="505800" cy="587880"/>
              </a:xfrm>
              <a:prstGeom prst="foldedCorner">
                <a:avLst>
                  <a:gd name="adj" fmla="val 12500"/>
                </a:avLst>
              </a:prstGeom>
              <a:solidFill>
                <a:srgbClr val="c5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425680" y="4335120"/>
                <a:ext cx="6505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93800"/>
                    <a:tab algn="l" pos="1587600"/>
                    <a:tab algn="l" pos="2381400"/>
                    <a:tab algn="l" pos="3174840"/>
                    <a:tab algn="l" pos="3968640"/>
                    <a:tab algn="l" pos="4762440"/>
                    <a:tab algn="l" pos="5556240"/>
                    <a:tab algn="l" pos="6350040"/>
                    <a:tab algn="l" pos="7143840"/>
                    <a:tab algn="l" pos="7937640"/>
                    <a:tab algn="l" pos="8731080"/>
                    <a:tab algn="l" pos="9524880"/>
                    <a:tab algn="l" pos="103186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4" name=""/>
            <p:cNvSpPr/>
            <p:nvPr/>
          </p:nvSpPr>
          <p:spPr>
            <a:xfrm flipV="1">
              <a:off x="2714400" y="374688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3365640" y="2701800"/>
            <a:ext cx="4336560" cy="784440"/>
            <a:chOff x="3365640" y="2701800"/>
            <a:chExt cx="4336560" cy="784440"/>
          </a:xfrm>
        </p:grpSpPr>
        <p:sp>
          <p:nvSpPr>
            <p:cNvPr id="286" name=""/>
            <p:cNvSpPr/>
            <p:nvPr/>
          </p:nvSpPr>
          <p:spPr>
            <a:xfrm>
              <a:off x="3365640" y="2701800"/>
              <a:ext cx="320040" cy="78444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690360" y="2701800"/>
              <a:ext cx="3696120" cy="32292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3800"/>
                  <a:tab algn="l" pos="1587600"/>
                  <a:tab algn="l" pos="2381400"/>
                  <a:tab algn="l" pos="3174840"/>
                  <a:tab algn="l" pos="3968640"/>
                  <a:tab algn="l" pos="4762440"/>
                  <a:tab algn="l" pos="5556240"/>
                  <a:tab algn="l" pos="6350040"/>
                  <a:tab algn="l" pos="7143840"/>
                  <a:tab algn="l" pos="7937640"/>
                  <a:tab algn="l" pos="8731080"/>
                  <a:tab algn="l" pos="9524880"/>
                  <a:tab algn="l" pos="1031868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Arial"/>
                </a:rPr>
                <a:t>iB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382160" y="2701800"/>
              <a:ext cx="320040" cy="78444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5460840" y="1135080"/>
            <a:ext cx="2457360" cy="1472400"/>
            <a:chOff x="5460840" y="1135080"/>
            <a:chExt cx="2457360" cy="1472400"/>
          </a:xfrm>
        </p:grpSpPr>
        <p:sp>
          <p:nvSpPr>
            <p:cNvPr id="290" name=""/>
            <p:cNvSpPr/>
            <p:nvPr/>
          </p:nvSpPr>
          <p:spPr>
            <a:xfrm flipV="1">
              <a:off x="7195680" y="1330920"/>
              <a:ext cx="0" cy="71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460840" y="2375640"/>
              <a:ext cx="742320" cy="23184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3800"/>
                  <a:tab algn="l" pos="1587600"/>
                  <a:tab algn="l" pos="2381400"/>
                  <a:tab algn="l" pos="3174840"/>
                  <a:tab algn="l" pos="3968640"/>
                  <a:tab algn="l" pos="4762440"/>
                  <a:tab algn="l" pos="5556240"/>
                  <a:tab algn="l" pos="6350040"/>
                  <a:tab algn="l" pos="7143840"/>
                  <a:tab algn="l" pos="7937640"/>
                  <a:tab algn="l" pos="8731080"/>
                  <a:tab algn="l" pos="9524880"/>
                  <a:tab algn="l" pos="1031868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CS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545160" y="1135080"/>
              <a:ext cx="1373040" cy="2318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3800"/>
                  <a:tab algn="l" pos="1587600"/>
                  <a:tab algn="l" pos="2381400"/>
                  <a:tab algn="l" pos="3174840"/>
                  <a:tab algn="l" pos="3968640"/>
                  <a:tab algn="l" pos="4762440"/>
                  <a:tab algn="l" pos="5556240"/>
                  <a:tab algn="l" pos="6350040"/>
                  <a:tab algn="l" pos="7143840"/>
                  <a:tab algn="l" pos="7937640"/>
                  <a:tab algn="l" pos="8731080"/>
                  <a:tab algn="l" pos="9524880"/>
                  <a:tab algn="l" pos="1031868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GeoMis.Bun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894280" y="2049480"/>
              <a:ext cx="1301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5894280" y="2049120"/>
              <a:ext cx="0" cy="261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5425920" y="4792680"/>
            <a:ext cx="649440" cy="457200"/>
            <a:chOff x="5425920" y="4792680"/>
            <a:chExt cx="649440" cy="457200"/>
          </a:xfrm>
        </p:grpSpPr>
        <p:sp>
          <p:nvSpPr>
            <p:cNvPr id="296" name=""/>
            <p:cNvSpPr/>
            <p:nvPr/>
          </p:nvSpPr>
          <p:spPr>
            <a:xfrm>
              <a:off x="5497920" y="4792680"/>
              <a:ext cx="504720" cy="457200"/>
            </a:xfrm>
            <a:prstGeom prst="foldedCorner">
              <a:avLst>
                <a:gd name="adj" fmla="val 12500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425920" y="4874040"/>
              <a:ext cx="64944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793800"/>
                  <a:tab algn="l" pos="1587600"/>
                  <a:tab algn="l" pos="2381400"/>
                  <a:tab algn="l" pos="3174840"/>
                  <a:tab algn="l" pos="3968640"/>
                  <a:tab algn="l" pos="4762440"/>
                  <a:tab algn="l" pos="5556240"/>
                  <a:tab algn="l" pos="6350040"/>
                  <a:tab algn="l" pos="7143840"/>
                  <a:tab algn="l" pos="7937640"/>
                  <a:tab algn="l" pos="8731080"/>
                  <a:tab algn="l" pos="9524880"/>
                  <a:tab algn="l" pos="10318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1703520" y="743040"/>
            <a:ext cx="3468240" cy="2612160"/>
            <a:chOff x="1703520" y="743040"/>
            <a:chExt cx="3468240" cy="2612160"/>
          </a:xfrm>
        </p:grpSpPr>
        <p:sp>
          <p:nvSpPr>
            <p:cNvPr id="299" name=""/>
            <p:cNvSpPr/>
            <p:nvPr/>
          </p:nvSpPr>
          <p:spPr>
            <a:xfrm flipV="1">
              <a:off x="4738320" y="1069560"/>
              <a:ext cx="0" cy="848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0" name=""/>
            <p:cNvGrpSpPr/>
            <p:nvPr/>
          </p:nvGrpSpPr>
          <p:grpSpPr>
            <a:xfrm>
              <a:off x="1703520" y="743040"/>
              <a:ext cx="3468240" cy="2612160"/>
              <a:chOff x="1703520" y="743040"/>
              <a:chExt cx="3468240" cy="2612160"/>
            </a:xfrm>
          </p:grpSpPr>
          <p:sp>
            <p:nvSpPr>
              <p:cNvPr id="301" name=""/>
              <p:cNvSpPr/>
              <p:nvPr/>
            </p:nvSpPr>
            <p:spPr>
              <a:xfrm>
                <a:off x="3510000" y="1918800"/>
                <a:ext cx="1228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654360" y="2376000"/>
                <a:ext cx="669600" cy="231840"/>
              </a:xfrm>
              <a:prstGeom prst="rect">
                <a:avLst/>
              </a:prstGeom>
              <a:solidFill>
                <a:srgbClr val="0099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93800"/>
                    <a:tab algn="l" pos="1587600"/>
                    <a:tab algn="l" pos="2381400"/>
                    <a:tab algn="l" pos="3174840"/>
                    <a:tab algn="l" pos="3968640"/>
                    <a:tab algn="l" pos="4762440"/>
                    <a:tab algn="l" pos="5556240"/>
                    <a:tab algn="l" pos="6350040"/>
                    <a:tab algn="l" pos="7143840"/>
                    <a:tab algn="l" pos="7937640"/>
                    <a:tab algn="l" pos="8731080"/>
                    <a:tab algn="l" pos="9524880"/>
                    <a:tab algn="l" pos="1031868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Porta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365280" y="743040"/>
                <a:ext cx="1806480" cy="322920"/>
              </a:xfrm>
              <a:prstGeom prst="rect">
                <a:avLst/>
              </a:prstGeom>
              <a:solidFill>
                <a:srgbClr val="0099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93800"/>
                    <a:tab algn="l" pos="1587600"/>
                    <a:tab algn="l" pos="2381400"/>
                    <a:tab algn="l" pos="3174840"/>
                    <a:tab algn="l" pos="3968640"/>
                    <a:tab algn="l" pos="4762440"/>
                    <a:tab algn="l" pos="5556240"/>
                    <a:tab algn="l" pos="6350040"/>
                    <a:tab algn="l" pos="7143840"/>
                    <a:tab algn="l" pos="7937640"/>
                    <a:tab algn="l" pos="8731080"/>
                    <a:tab algn="l" pos="9524880"/>
                    <a:tab algn="l" pos="1031868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Port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703520" y="2571840"/>
                <a:ext cx="1806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V="1">
                <a:off x="1703520" y="2571480"/>
                <a:ext cx="0" cy="783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510000" y="1918800"/>
                <a:ext cx="0" cy="653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V="1">
                <a:off x="4955040" y="1069560"/>
                <a:ext cx="0" cy="10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232520" y="2114640"/>
                <a:ext cx="722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V="1">
                <a:off x="4232520" y="2114640"/>
                <a:ext cx="0" cy="19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0" name=""/>
          <p:cNvGrpSpPr/>
          <p:nvPr/>
        </p:nvGrpSpPr>
        <p:grpSpPr>
          <a:xfrm>
            <a:off x="4522680" y="1395360"/>
            <a:ext cx="1733760" cy="1210320"/>
            <a:chOff x="4522680" y="1395360"/>
            <a:chExt cx="1733760" cy="1210320"/>
          </a:xfrm>
        </p:grpSpPr>
        <p:sp>
          <p:nvSpPr>
            <p:cNvPr id="311" name=""/>
            <p:cNvSpPr/>
            <p:nvPr/>
          </p:nvSpPr>
          <p:spPr>
            <a:xfrm>
              <a:off x="5100480" y="2113560"/>
              <a:ext cx="433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4522680" y="1395360"/>
              <a:ext cx="1733760" cy="1210320"/>
              <a:chOff x="4522680" y="1395360"/>
              <a:chExt cx="1733760" cy="1210320"/>
            </a:xfrm>
          </p:grpSpPr>
          <p:sp>
            <p:nvSpPr>
              <p:cNvPr id="313" name=""/>
              <p:cNvSpPr/>
              <p:nvPr/>
            </p:nvSpPr>
            <p:spPr>
              <a:xfrm>
                <a:off x="4522680" y="2373840"/>
                <a:ext cx="741960" cy="231840"/>
              </a:xfrm>
              <a:prstGeom prst="rect">
                <a:avLst/>
              </a:prstGeom>
              <a:solidFill>
                <a:srgbClr val="0099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93800"/>
                    <a:tab algn="l" pos="1587600"/>
                    <a:tab algn="l" pos="2381400"/>
                    <a:tab algn="l" pos="3174840"/>
                    <a:tab algn="l" pos="3968640"/>
                    <a:tab algn="l" pos="4762440"/>
                    <a:tab algn="l" pos="5556240"/>
                    <a:tab algn="l" pos="6350040"/>
                    <a:tab algn="l" pos="7143840"/>
                    <a:tab algn="l" pos="7937640"/>
                    <a:tab algn="l" pos="8731080"/>
                    <a:tab algn="l" pos="9524880"/>
                    <a:tab algn="l" pos="1031868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EC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V="1">
                <a:off x="5533920" y="1656360"/>
                <a:ext cx="0" cy="45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00480" y="1395360"/>
                <a:ext cx="1155960" cy="4910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93800"/>
                    <a:tab algn="l" pos="1587600"/>
                    <a:tab algn="l" pos="2381400"/>
                    <a:tab algn="l" pos="3174840"/>
                    <a:tab algn="l" pos="3968640"/>
                    <a:tab algn="l" pos="4762440"/>
                    <a:tab algn="l" pos="5556240"/>
                    <a:tab algn="l" pos="6350040"/>
                    <a:tab algn="l" pos="7143840"/>
                    <a:tab algn="l" pos="7937640"/>
                    <a:tab algn="l" pos="8731080"/>
                    <a:tab algn="l" pos="9524880"/>
                    <a:tab algn="l" pos="1031868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Metadaten-System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93800"/>
                    <a:tab algn="l" pos="1587600"/>
                    <a:tab algn="l" pos="2381400"/>
                    <a:tab algn="l" pos="3174840"/>
                    <a:tab algn="l" pos="3968640"/>
                    <a:tab algn="l" pos="4762440"/>
                    <a:tab algn="l" pos="5556240"/>
                    <a:tab algn="l" pos="6350040"/>
                    <a:tab algn="l" pos="7143840"/>
                    <a:tab algn="l" pos="7937640"/>
                    <a:tab algn="l" pos="8731080"/>
                    <a:tab algn="l" pos="9524880"/>
                    <a:tab algn="l" pos="1031868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(extern)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V="1">
                <a:off x="5100480" y="2113560"/>
                <a:ext cx="0" cy="19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7" name=""/>
          <p:cNvGrpSpPr/>
          <p:nvPr/>
        </p:nvGrpSpPr>
        <p:grpSpPr>
          <a:xfrm>
            <a:off x="6400800" y="1592280"/>
            <a:ext cx="2746080" cy="1015200"/>
            <a:chOff x="6400800" y="1592280"/>
            <a:chExt cx="2746080" cy="1015200"/>
          </a:xfrm>
        </p:grpSpPr>
        <p:sp>
          <p:nvSpPr>
            <p:cNvPr id="318" name=""/>
            <p:cNvSpPr/>
            <p:nvPr/>
          </p:nvSpPr>
          <p:spPr>
            <a:xfrm flipV="1">
              <a:off x="8424360" y="1983960"/>
              <a:ext cx="0" cy="19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9" name=""/>
            <p:cNvGrpSpPr/>
            <p:nvPr/>
          </p:nvGrpSpPr>
          <p:grpSpPr>
            <a:xfrm>
              <a:off x="6400800" y="1592280"/>
              <a:ext cx="2746080" cy="1015200"/>
              <a:chOff x="6400800" y="1592280"/>
              <a:chExt cx="2746080" cy="1015200"/>
            </a:xfrm>
          </p:grpSpPr>
          <p:sp>
            <p:nvSpPr>
              <p:cNvPr id="320" name=""/>
              <p:cNvSpPr/>
              <p:nvPr/>
            </p:nvSpPr>
            <p:spPr>
              <a:xfrm>
                <a:off x="6400800" y="2375640"/>
                <a:ext cx="1156320" cy="231840"/>
              </a:xfrm>
              <a:prstGeom prst="rect">
                <a:avLst/>
              </a:prstGeom>
              <a:solidFill>
                <a:srgbClr val="0099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93800"/>
                    <a:tab algn="l" pos="1587600"/>
                    <a:tab algn="l" pos="2381400"/>
                    <a:tab algn="l" pos="3174840"/>
                    <a:tab algn="l" pos="3968640"/>
                    <a:tab algn="l" pos="4762440"/>
                    <a:tab algn="l" pos="5556240"/>
                    <a:tab algn="l" pos="6350040"/>
                    <a:tab algn="l" pos="7143840"/>
                    <a:tab algn="l" pos="7937640"/>
                    <a:tab algn="l" pos="8731080"/>
                    <a:tab algn="l" pos="9524880"/>
                    <a:tab algn="l" pos="10318680"/>
                  </a:tabLst>
                </a:pPr>
                <a:r>
                  <a:rPr b="1" lang="de-DE" sz="1000" spc="-1" strike="noStrike">
                    <a:solidFill>
                      <a:srgbClr val="ffffff"/>
                    </a:solidFill>
                    <a:latin typeface="Arial"/>
                  </a:rPr>
                  <a:t>OpenSearc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773840" y="1592280"/>
                <a:ext cx="1373040" cy="38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93800"/>
                    <a:tab algn="l" pos="1587600"/>
                    <a:tab algn="l" pos="2381400"/>
                    <a:tab algn="l" pos="3174840"/>
                    <a:tab algn="l" pos="3968640"/>
                    <a:tab algn="l" pos="4762440"/>
                    <a:tab algn="l" pos="5556240"/>
                    <a:tab algn="l" pos="6350040"/>
                    <a:tab algn="l" pos="7143840"/>
                    <a:tab algn="l" pos="7937640"/>
                    <a:tab algn="l" pos="8731080"/>
                    <a:tab algn="l" pos="9524880"/>
                    <a:tab algn="l" pos="10318680"/>
                  </a:tabLst>
                </a:pPr>
                <a:r>
                  <a:rPr b="1" lang="de-DE" sz="1000" spc="-1" strike="noStrike">
                    <a:solidFill>
                      <a:srgbClr val="ffffff"/>
                    </a:solidFill>
                    <a:latin typeface="Arial"/>
                  </a:rPr>
                  <a:t>MetaGer.de</a:t>
                </a:r>
                <a:br>
                  <a:rPr sz="1000"/>
                </a:br>
                <a:r>
                  <a:rPr b="1" lang="de-DE" sz="1000" spc="-1" strike="noStrike">
                    <a:solidFill>
                      <a:srgbClr val="ffffff"/>
                    </a:solidFill>
                    <a:latin typeface="Arial"/>
                  </a:rPr>
                  <a:t>lokale Portale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123320" y="2179800"/>
                <a:ext cx="130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V="1">
                <a:off x="7123320" y="2179800"/>
                <a:ext cx="0" cy="1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4" name=""/>
          <p:cNvSpPr/>
          <p:nvPr/>
        </p:nvSpPr>
        <p:spPr>
          <a:xfrm>
            <a:off x="7387200" y="6081840"/>
            <a:ext cx="224352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Koordinierungsstelle PortalU,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420040" y="157320"/>
            <a:ext cx="1260360" cy="61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| Rainer Weidemann | IAI | 21./22.05.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25000" y="96480"/>
            <a:ext cx="8194680" cy="685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de-DE" sz="3100" spc="-1" strike="noStrike">
                <a:solidFill>
                  <a:srgbClr val="000000"/>
                </a:solidFill>
                <a:latin typeface="Arial"/>
              </a:rPr>
              <a:t>InGrid-Software - Grundprinzip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2392200" y="1360440"/>
            <a:ext cx="2241720" cy="731880"/>
            <a:chOff x="2392200" y="1360440"/>
            <a:chExt cx="2241720" cy="731880"/>
          </a:xfrm>
        </p:grpSpPr>
        <p:sp>
          <p:nvSpPr>
            <p:cNvPr id="328" name=""/>
            <p:cNvSpPr/>
            <p:nvPr/>
          </p:nvSpPr>
          <p:spPr>
            <a:xfrm>
              <a:off x="2392200" y="1360440"/>
              <a:ext cx="2241720" cy="731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93800"/>
                  <a:tab algn="l" pos="1587600"/>
                  <a:tab algn="l" pos="2381400"/>
                  <a:tab algn="l" pos="3174840"/>
                  <a:tab algn="l" pos="3968640"/>
                  <a:tab algn="l" pos="4762440"/>
                  <a:tab algn="l" pos="5556240"/>
                  <a:tab algn="l" pos="6350040"/>
                  <a:tab algn="l" pos="7143840"/>
                  <a:tab algn="l" pos="7937640"/>
                  <a:tab algn="l" pos="8731080"/>
                  <a:tab algn="l" pos="9524880"/>
                  <a:tab algn="l" pos="103186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Gri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802240" y="1590120"/>
              <a:ext cx="1183320" cy="493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3800"/>
                  <a:tab algn="l" pos="1587600"/>
                  <a:tab algn="l" pos="2381400"/>
                  <a:tab algn="l" pos="3174840"/>
                  <a:tab algn="l" pos="3968640"/>
                  <a:tab algn="l" pos="4762440"/>
                  <a:tab algn="l" pos="5556240"/>
                  <a:tab algn="l" pos="6350040"/>
                  <a:tab algn="l" pos="7143840"/>
                  <a:tab algn="l" pos="7937640"/>
                  <a:tab algn="l" pos="8731080"/>
                  <a:tab algn="l" pos="9524880"/>
                  <a:tab algn="l" pos="1031868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iBu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3926880" y="1577880"/>
            <a:ext cx="438480" cy="555480"/>
            <a:chOff x="3926880" y="1577880"/>
            <a:chExt cx="438480" cy="555480"/>
          </a:xfrm>
        </p:grpSpPr>
        <p:sp>
          <p:nvSpPr>
            <p:cNvPr id="331" name=""/>
            <p:cNvSpPr/>
            <p:nvPr/>
          </p:nvSpPr>
          <p:spPr>
            <a:xfrm flipH="1" rot="10800000">
              <a:off x="3926880" y="1578960"/>
              <a:ext cx="3110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3800"/>
                  <a:tab algn="l" pos="1587600"/>
                  <a:tab algn="l" pos="2381400"/>
                  <a:tab algn="l" pos="3174840"/>
                  <a:tab algn="l" pos="3968640"/>
                  <a:tab algn="l" pos="4762440"/>
                  <a:tab algn="l" pos="5556240"/>
                  <a:tab algn="l" pos="6350040"/>
                  <a:tab algn="l" pos="7143840"/>
                  <a:tab algn="l" pos="7937640"/>
                  <a:tab algn="l" pos="8731080"/>
                  <a:tab algn="l" pos="9524880"/>
                  <a:tab algn="l" pos="103186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p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990240" y="1636200"/>
              <a:ext cx="31572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rot="10800000">
              <a:off x="4054320" y="1577880"/>
              <a:ext cx="3110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3800"/>
                  <a:tab algn="l" pos="1587600"/>
                  <a:tab algn="l" pos="2381400"/>
                  <a:tab algn="l" pos="3174840"/>
                  <a:tab algn="l" pos="3968640"/>
                  <a:tab algn="l" pos="4762440"/>
                  <a:tab algn="l" pos="5556240"/>
                  <a:tab algn="l" pos="6350040"/>
                  <a:tab algn="l" pos="7143840"/>
                  <a:tab algn="l" pos="7937640"/>
                  <a:tab algn="l" pos="8731080"/>
                  <a:tab algn="l" pos="9524880"/>
                  <a:tab algn="l" pos="1031868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Searc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2476440" y="1231920"/>
            <a:ext cx="945720" cy="311040"/>
            <a:chOff x="2476440" y="1231920"/>
            <a:chExt cx="945720" cy="311040"/>
          </a:xfrm>
        </p:grpSpPr>
        <p:sp>
          <p:nvSpPr>
            <p:cNvPr id="335" name=""/>
            <p:cNvSpPr/>
            <p:nvPr/>
          </p:nvSpPr>
          <p:spPr>
            <a:xfrm>
              <a:off x="2476440" y="1297080"/>
              <a:ext cx="930600" cy="1846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 rot="16200000">
              <a:off x="2794320" y="915120"/>
              <a:ext cx="311040" cy="9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3800"/>
                  <a:tab algn="l" pos="1587600"/>
                  <a:tab algn="l" pos="2381400"/>
                  <a:tab algn="l" pos="3174840"/>
                  <a:tab algn="l" pos="3968640"/>
                  <a:tab algn="l" pos="4762440"/>
                  <a:tab algn="l" pos="5556240"/>
                  <a:tab algn="l" pos="6350040"/>
                  <a:tab algn="l" pos="7143840"/>
                  <a:tab algn="l" pos="7937640"/>
                  <a:tab algn="l" pos="8731080"/>
                  <a:tab algn="l" pos="9524880"/>
                  <a:tab algn="l" pos="103186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ortal-Modu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3376080" y="2071800"/>
            <a:ext cx="1103760" cy="3299760"/>
            <a:chOff x="3376080" y="2071800"/>
            <a:chExt cx="1103760" cy="3299760"/>
          </a:xfrm>
        </p:grpSpPr>
        <p:sp>
          <p:nvSpPr>
            <p:cNvPr id="338" name=""/>
            <p:cNvSpPr/>
            <p:nvPr/>
          </p:nvSpPr>
          <p:spPr>
            <a:xfrm flipH="1" flipV="1">
              <a:off x="3376080" y="2071800"/>
              <a:ext cx="661320" cy="27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59760" y="4848120"/>
              <a:ext cx="820080" cy="3114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3800"/>
                  <a:tab algn="l" pos="1587600"/>
                  <a:tab algn="l" pos="2381400"/>
                  <a:tab algn="l" pos="3174840"/>
                  <a:tab algn="l" pos="3968640"/>
                  <a:tab algn="l" pos="4762440"/>
                  <a:tab algn="l" pos="5556240"/>
                  <a:tab algn="l" pos="6350040"/>
                  <a:tab algn="l" pos="7143840"/>
                  <a:tab algn="l" pos="7937640"/>
                  <a:tab algn="l" pos="8731080"/>
                  <a:tab algn="l" pos="9524880"/>
                  <a:tab algn="l" pos="1031868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iPlu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3376440" y="5156640"/>
              <a:ext cx="661320" cy="21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2557440" y="2101680"/>
            <a:ext cx="1331640" cy="3641400"/>
            <a:chOff x="2557440" y="2101680"/>
            <a:chExt cx="1331640" cy="3641400"/>
          </a:xfrm>
        </p:grpSpPr>
        <p:sp>
          <p:nvSpPr>
            <p:cNvPr id="342" name=""/>
            <p:cNvSpPr/>
            <p:nvPr/>
          </p:nvSpPr>
          <p:spPr>
            <a:xfrm>
              <a:off x="2557440" y="2255040"/>
              <a:ext cx="819360" cy="3114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3800"/>
                  <a:tab algn="l" pos="1587600"/>
                  <a:tab algn="l" pos="2381400"/>
                  <a:tab algn="l" pos="3174840"/>
                  <a:tab algn="l" pos="3968640"/>
                  <a:tab algn="l" pos="4762440"/>
                  <a:tab algn="l" pos="5556240"/>
                  <a:tab algn="l" pos="6350040"/>
                  <a:tab algn="l" pos="7143840"/>
                  <a:tab algn="l" pos="7937640"/>
                  <a:tab algn="l" pos="8731080"/>
                  <a:tab algn="l" pos="9524880"/>
                  <a:tab algn="l" pos="1031868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iPlu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2998800" y="2101680"/>
              <a:ext cx="377640" cy="15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864160" y="5373360"/>
              <a:ext cx="1024920" cy="369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3800"/>
                  <a:tab algn="l" pos="1587600"/>
                  <a:tab algn="l" pos="2381400"/>
                  <a:tab algn="l" pos="3174840"/>
                  <a:tab algn="l" pos="3968640"/>
                  <a:tab algn="l" pos="4762440"/>
                  <a:tab algn="l" pos="5556240"/>
                  <a:tab algn="l" pos="6350040"/>
                  <a:tab algn="l" pos="7143840"/>
                  <a:tab algn="l" pos="7937640"/>
                  <a:tab algn="l" pos="8731080"/>
                  <a:tab algn="l" pos="9524880"/>
                  <a:tab algn="l" pos="103186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achsystem / 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atenquel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2998440" y="2563920"/>
              <a:ext cx="377640" cy="284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3471840" y="1330200"/>
            <a:ext cx="383040" cy="311040"/>
            <a:chOff x="3471840" y="1330200"/>
            <a:chExt cx="383040" cy="311040"/>
          </a:xfrm>
        </p:grpSpPr>
        <p:sp>
          <p:nvSpPr>
            <p:cNvPr id="347" name=""/>
            <p:cNvSpPr/>
            <p:nvPr/>
          </p:nvSpPr>
          <p:spPr>
            <a:xfrm flipH="1" rot="16200000">
              <a:off x="3507480" y="1294200"/>
              <a:ext cx="311040" cy="3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3800"/>
                  <a:tab algn="l" pos="1587600"/>
                  <a:tab algn="l" pos="2381400"/>
                  <a:tab algn="l" pos="3174840"/>
                  <a:tab algn="l" pos="3968640"/>
                  <a:tab algn="l" pos="4762440"/>
                  <a:tab algn="l" pos="5556240"/>
                  <a:tab algn="l" pos="6350040"/>
                  <a:tab algn="l" pos="7143840"/>
                  <a:tab algn="l" pos="7937640"/>
                  <a:tab algn="l" pos="8731080"/>
                  <a:tab algn="l" pos="9524880"/>
                  <a:tab algn="l" pos="103186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C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471840" y="1396800"/>
              <a:ext cx="376920" cy="184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2367720" y="1549080"/>
            <a:ext cx="438480" cy="555120"/>
            <a:chOff x="2367720" y="1549080"/>
            <a:chExt cx="438480" cy="555120"/>
          </a:xfrm>
        </p:grpSpPr>
        <p:sp>
          <p:nvSpPr>
            <p:cNvPr id="350" name=""/>
            <p:cNvSpPr/>
            <p:nvPr/>
          </p:nvSpPr>
          <p:spPr>
            <a:xfrm flipH="1" rot="10800000">
              <a:off x="2367720" y="1550160"/>
              <a:ext cx="311040" cy="5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3800"/>
                  <a:tab algn="l" pos="1587600"/>
                  <a:tab algn="l" pos="2381400"/>
                  <a:tab algn="l" pos="3174840"/>
                  <a:tab algn="l" pos="3968640"/>
                  <a:tab algn="l" pos="4762440"/>
                  <a:tab algn="l" pos="5556240"/>
                  <a:tab algn="l" pos="6350040"/>
                  <a:tab algn="l" pos="7143840"/>
                  <a:tab algn="l" pos="7937640"/>
                  <a:tab algn="l" pos="8731080"/>
                  <a:tab algn="l" pos="9524880"/>
                  <a:tab algn="l" pos="103186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UDK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431080" y="1607760"/>
              <a:ext cx="3157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 rot="10800000">
              <a:off x="2495160" y="1549080"/>
              <a:ext cx="311040" cy="5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3800"/>
                  <a:tab algn="l" pos="1587600"/>
                  <a:tab algn="l" pos="2381400"/>
                  <a:tab algn="l" pos="3174840"/>
                  <a:tab algn="l" pos="3968640"/>
                  <a:tab algn="l" pos="4762440"/>
                  <a:tab algn="l" pos="5556240"/>
                  <a:tab algn="l" pos="6350040"/>
                  <a:tab algn="l" pos="7143840"/>
                  <a:tab algn="l" pos="7937640"/>
                  <a:tab algn="l" pos="8731080"/>
                  <a:tab algn="l" pos="9524880"/>
                  <a:tab algn="l" pos="103186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4038480" y="2467080"/>
            <a:ext cx="3767400" cy="2380680"/>
            <a:chOff x="4038480" y="2467080"/>
            <a:chExt cx="3767400" cy="2380680"/>
          </a:xfrm>
        </p:grpSpPr>
        <p:grpSp>
          <p:nvGrpSpPr>
            <p:cNvPr id="354" name=""/>
            <p:cNvGrpSpPr/>
            <p:nvPr/>
          </p:nvGrpSpPr>
          <p:grpSpPr>
            <a:xfrm>
              <a:off x="5561280" y="2596320"/>
              <a:ext cx="2239920" cy="731880"/>
              <a:chOff x="5561280" y="2596320"/>
              <a:chExt cx="2239920" cy="731880"/>
            </a:xfrm>
          </p:grpSpPr>
          <p:sp>
            <p:nvSpPr>
              <p:cNvPr id="355" name=""/>
              <p:cNvSpPr/>
              <p:nvPr/>
            </p:nvSpPr>
            <p:spPr>
              <a:xfrm>
                <a:off x="5561280" y="2596320"/>
                <a:ext cx="2239920" cy="731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93800"/>
                    <a:tab algn="l" pos="1587600"/>
                    <a:tab algn="l" pos="2381400"/>
                    <a:tab algn="l" pos="3174840"/>
                    <a:tab algn="l" pos="3968640"/>
                    <a:tab algn="l" pos="4762440"/>
                    <a:tab algn="l" pos="5556240"/>
                    <a:tab algn="l" pos="6350040"/>
                    <a:tab algn="l" pos="7143840"/>
                    <a:tab algn="l" pos="7937640"/>
                    <a:tab algn="l" pos="8731080"/>
                    <a:tab algn="l" pos="9524880"/>
                    <a:tab algn="l" pos="1031868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Portal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970960" y="2826000"/>
                <a:ext cx="1182240" cy="4939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93800"/>
                    <a:tab algn="l" pos="1587600"/>
                    <a:tab algn="l" pos="2381400"/>
                    <a:tab algn="l" pos="3174840"/>
                    <a:tab algn="l" pos="3968640"/>
                    <a:tab algn="l" pos="4762440"/>
                    <a:tab algn="l" pos="5556240"/>
                    <a:tab algn="l" pos="6350040"/>
                    <a:tab algn="l" pos="7143840"/>
                    <a:tab algn="l" pos="7937640"/>
                    <a:tab algn="l" pos="8731080"/>
                    <a:tab algn="l" pos="9524880"/>
                    <a:tab algn="l" pos="10318680"/>
                  </a:tabLst>
                </a:pPr>
                <a:r>
                  <a:rPr b="1" lang="de-DE" sz="1000" spc="-1" strike="noStrike">
                    <a:solidFill>
                      <a:srgbClr val="000000"/>
                    </a:solidFill>
                    <a:latin typeface="Arial"/>
                  </a:rPr>
                  <a:t>iBu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7095600" y="2810880"/>
              <a:ext cx="436680" cy="556920"/>
              <a:chOff x="7095600" y="2810880"/>
              <a:chExt cx="436680" cy="556920"/>
            </a:xfrm>
          </p:grpSpPr>
          <p:sp>
            <p:nvSpPr>
              <p:cNvPr id="358" name=""/>
              <p:cNvSpPr/>
              <p:nvPr/>
            </p:nvSpPr>
            <p:spPr>
              <a:xfrm flipH="1" rot="10800000">
                <a:off x="7095600" y="2813040"/>
                <a:ext cx="311040" cy="55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 vert="eaVer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93800"/>
                    <a:tab algn="l" pos="1587600"/>
                    <a:tab algn="l" pos="2381400"/>
                    <a:tab algn="l" pos="3174840"/>
                    <a:tab algn="l" pos="3968640"/>
                    <a:tab algn="l" pos="4762440"/>
                    <a:tab algn="l" pos="5556240"/>
                    <a:tab algn="l" pos="6350040"/>
                    <a:tab algn="l" pos="7143840"/>
                    <a:tab algn="l" pos="7937640"/>
                    <a:tab algn="l" pos="8731080"/>
                    <a:tab algn="l" pos="9524880"/>
                    <a:tab algn="l" pos="1031868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Ope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7158240" y="2871000"/>
                <a:ext cx="315000" cy="432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H="1" rot="10800000">
                <a:off x="7221240" y="2810880"/>
                <a:ext cx="311040" cy="55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 vert="eaVer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93800"/>
                    <a:tab algn="l" pos="1587600"/>
                    <a:tab algn="l" pos="2381400"/>
                    <a:tab algn="l" pos="3174840"/>
                    <a:tab algn="l" pos="3968640"/>
                    <a:tab algn="l" pos="4762440"/>
                    <a:tab algn="l" pos="5556240"/>
                    <a:tab algn="l" pos="6350040"/>
                    <a:tab algn="l" pos="7143840"/>
                    <a:tab algn="l" pos="7937640"/>
                    <a:tab algn="l" pos="8731080"/>
                    <a:tab algn="l" pos="9524880"/>
                    <a:tab algn="l" pos="10318680"/>
                  </a:tabLst>
                </a:pPr>
                <a:r>
                  <a:rPr b="1" lang="de-DE" sz="1000" spc="-1" strike="noStrike">
                    <a:solidFill>
                      <a:srgbClr val="000000"/>
                    </a:solidFill>
                    <a:latin typeface="Arial"/>
                  </a:rPr>
                  <a:t>Searc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5644800" y="2467080"/>
              <a:ext cx="946080" cy="311040"/>
              <a:chOff x="5644800" y="2467080"/>
              <a:chExt cx="946080" cy="311040"/>
            </a:xfrm>
          </p:grpSpPr>
          <p:sp>
            <p:nvSpPr>
              <p:cNvPr id="362" name=""/>
              <p:cNvSpPr/>
              <p:nvPr/>
            </p:nvSpPr>
            <p:spPr>
              <a:xfrm>
                <a:off x="5644800" y="2532240"/>
                <a:ext cx="930600" cy="1846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rot="16200000">
                <a:off x="5962320" y="2149560"/>
                <a:ext cx="311040" cy="9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 vert="eaVer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93800"/>
                    <a:tab algn="l" pos="1587600"/>
                    <a:tab algn="l" pos="2381400"/>
                    <a:tab algn="l" pos="3174840"/>
                    <a:tab algn="l" pos="3968640"/>
                    <a:tab algn="l" pos="4762440"/>
                    <a:tab algn="l" pos="5556240"/>
                    <a:tab algn="l" pos="6350040"/>
                    <a:tab algn="l" pos="7143840"/>
                    <a:tab algn="l" pos="7937640"/>
                    <a:tab algn="l" pos="8731080"/>
                    <a:tab algn="l" pos="9524880"/>
                    <a:tab algn="l" pos="1031868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Portal-Modu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4" name=""/>
            <p:cNvGrpSpPr/>
            <p:nvPr/>
          </p:nvGrpSpPr>
          <p:grpSpPr>
            <a:xfrm>
              <a:off x="6639840" y="2566080"/>
              <a:ext cx="384120" cy="311040"/>
              <a:chOff x="6639840" y="2566080"/>
              <a:chExt cx="384120" cy="311040"/>
            </a:xfrm>
          </p:grpSpPr>
          <p:sp>
            <p:nvSpPr>
              <p:cNvPr id="365" name=""/>
              <p:cNvSpPr/>
              <p:nvPr/>
            </p:nvSpPr>
            <p:spPr>
              <a:xfrm flipH="1" rot="16200000">
                <a:off x="6676920" y="2530080"/>
                <a:ext cx="311040" cy="38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 vert="eaVer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93800"/>
                    <a:tab algn="l" pos="1587600"/>
                    <a:tab algn="l" pos="2381400"/>
                    <a:tab algn="l" pos="3174840"/>
                    <a:tab algn="l" pos="3968640"/>
                    <a:tab algn="l" pos="4762440"/>
                    <a:tab algn="l" pos="5556240"/>
                    <a:tab algn="l" pos="6350040"/>
                    <a:tab algn="l" pos="7143840"/>
                    <a:tab algn="l" pos="7937640"/>
                    <a:tab algn="l" pos="8731080"/>
                    <a:tab algn="l" pos="9524880"/>
                    <a:tab algn="l" pos="1031868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EC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639840" y="2632680"/>
                <a:ext cx="377280" cy="184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5536080" y="2783880"/>
              <a:ext cx="436680" cy="556200"/>
              <a:chOff x="5536080" y="2783880"/>
              <a:chExt cx="436680" cy="556200"/>
            </a:xfrm>
          </p:grpSpPr>
          <p:sp>
            <p:nvSpPr>
              <p:cNvPr id="368" name=""/>
              <p:cNvSpPr/>
              <p:nvPr/>
            </p:nvSpPr>
            <p:spPr>
              <a:xfrm flipH="1" rot="10800000">
                <a:off x="5536080" y="2784960"/>
                <a:ext cx="311040" cy="55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 vert="eaVer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93800"/>
                    <a:tab algn="l" pos="1587600"/>
                    <a:tab algn="l" pos="2381400"/>
                    <a:tab algn="l" pos="3174840"/>
                    <a:tab algn="l" pos="3968640"/>
                    <a:tab algn="l" pos="4762440"/>
                    <a:tab algn="l" pos="5556240"/>
                    <a:tab algn="l" pos="6350040"/>
                    <a:tab algn="l" pos="7143840"/>
                    <a:tab algn="l" pos="7937640"/>
                    <a:tab algn="l" pos="8731080"/>
                    <a:tab algn="l" pos="9524880"/>
                    <a:tab algn="l" pos="1031868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UDK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598720" y="2842200"/>
                <a:ext cx="315000" cy="432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H="1" rot="10800000">
                <a:off x="5661720" y="2783880"/>
                <a:ext cx="311040" cy="55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 vert="eaVer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93800"/>
                    <a:tab algn="l" pos="1587600"/>
                    <a:tab algn="l" pos="2381400"/>
                    <a:tab algn="l" pos="3174840"/>
                    <a:tab algn="l" pos="3968640"/>
                    <a:tab algn="l" pos="4762440"/>
                    <a:tab algn="l" pos="5556240"/>
                    <a:tab algn="l" pos="6350040"/>
                    <a:tab algn="l" pos="7143840"/>
                    <a:tab algn="l" pos="7937640"/>
                    <a:tab algn="l" pos="8731080"/>
                    <a:tab algn="l" pos="9524880"/>
                    <a:tab algn="l" pos="1031868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7080480" y="2560680"/>
              <a:ext cx="725400" cy="331920"/>
              <a:chOff x="7080480" y="2560680"/>
              <a:chExt cx="725400" cy="331920"/>
            </a:xfrm>
          </p:grpSpPr>
          <p:sp>
            <p:nvSpPr>
              <p:cNvPr id="372" name=""/>
              <p:cNvSpPr/>
              <p:nvPr/>
            </p:nvSpPr>
            <p:spPr>
              <a:xfrm>
                <a:off x="7080480" y="2625480"/>
                <a:ext cx="713880" cy="18504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H="1" rot="16200000">
                <a:off x="7277040" y="2364120"/>
                <a:ext cx="331920" cy="72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 vert="eaVer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93800"/>
                    <a:tab algn="l" pos="1587600"/>
                    <a:tab algn="l" pos="2381400"/>
                    <a:tab algn="l" pos="3174840"/>
                    <a:tab algn="l" pos="3968640"/>
                    <a:tab algn="l" pos="4762440"/>
                    <a:tab algn="l" pos="5556240"/>
                    <a:tab algn="l" pos="6350040"/>
                    <a:tab algn="l" pos="7143840"/>
                    <a:tab algn="l" pos="7937640"/>
                    <a:tab algn="l" pos="8731080"/>
                    <a:tab algn="l" pos="9524880"/>
                    <a:tab algn="l" pos="10318680"/>
                  </a:tabLst>
                </a:pPr>
                <a:r>
                  <a:rPr b="1" lang="de-DE" sz="1000" spc="-1" strike="noStrike">
                    <a:solidFill>
                      <a:srgbClr val="000000"/>
                    </a:solidFill>
                    <a:latin typeface="Arial"/>
                  </a:rPr>
                  <a:t>InGrid</a:t>
                </a:r>
                <a:r>
                  <a:rPr b="1" lang="de-DE" sz="1000" spc="-1" strike="noStrike" baseline="-25000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4" name=""/>
            <p:cNvSpPr/>
            <p:nvPr/>
          </p:nvSpPr>
          <p:spPr>
            <a:xfrm flipV="1">
              <a:off x="4038480" y="3336480"/>
              <a:ext cx="2458080" cy="151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| Rainer Weidemann | IAI | 21./22.05.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225360" y="898560"/>
            <a:ext cx="9455040" cy="53071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368280" indent="0">
              <a:spcBef>
                <a:spcPts val="700"/>
              </a:spcBef>
              <a:buNone/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8280" indent="-368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omponenten wurden separat analysiert und bewertet, um die Anzahl möglicher Szenarien zu vermind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8280" indent="-368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omponent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30636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Benutzeroberfläche / Portal Modu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30636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iBu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30636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Metadatenverwaltu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30636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Volltextsuch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30636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Forschungsprojek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30636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WMS-Diens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30636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Katalog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title"/>
          </p:nvPr>
        </p:nvSpPr>
        <p:spPr>
          <a:xfrm>
            <a:off x="225000" y="96480"/>
            <a:ext cx="8194680" cy="685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insatzoptionen für InGrid-Komponente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952880" y="3521160"/>
            <a:ext cx="127080" cy="123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4979880" y="3274920"/>
            <a:ext cx="3598560" cy="1866960"/>
            <a:chOff x="4979880" y="3274920"/>
            <a:chExt cx="3598560" cy="1866960"/>
          </a:xfrm>
        </p:grpSpPr>
        <p:sp>
          <p:nvSpPr>
            <p:cNvPr id="379" name=""/>
            <p:cNvSpPr/>
            <p:nvPr/>
          </p:nvSpPr>
          <p:spPr>
            <a:xfrm>
              <a:off x="6814080" y="3274920"/>
              <a:ext cx="944640" cy="2926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93800"/>
                  <a:tab algn="l" pos="1587600"/>
                  <a:tab algn="l" pos="2381400"/>
                  <a:tab algn="l" pos="3174840"/>
                  <a:tab algn="l" pos="3968640"/>
                  <a:tab algn="l" pos="4762440"/>
                  <a:tab algn="l" pos="5556240"/>
                  <a:tab algn="l" pos="6350040"/>
                  <a:tab algn="l" pos="7143840"/>
                  <a:tab algn="l" pos="7937640"/>
                  <a:tab algn="l" pos="8731080"/>
                  <a:tab algn="l" pos="9524880"/>
                  <a:tab algn="l" pos="1031868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kein iB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971040" y="3799080"/>
              <a:ext cx="1511640" cy="2926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93800"/>
                  <a:tab algn="l" pos="1587600"/>
                  <a:tab algn="l" pos="2381400"/>
                  <a:tab algn="l" pos="3174840"/>
                  <a:tab algn="l" pos="3968640"/>
                  <a:tab algn="l" pos="4762440"/>
                  <a:tab algn="l" pos="5556240"/>
                  <a:tab algn="l" pos="6350040"/>
                  <a:tab algn="l" pos="7143840"/>
                  <a:tab algn="l" pos="7937640"/>
                  <a:tab algn="l" pos="8731080"/>
                  <a:tab algn="l" pos="9524880"/>
                  <a:tab algn="l" pos="1031868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iBus von Portal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528960" y="4301640"/>
              <a:ext cx="2049480" cy="2926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93800"/>
                  <a:tab algn="l" pos="1587600"/>
                  <a:tab algn="l" pos="2381400"/>
                  <a:tab algn="l" pos="3174840"/>
                  <a:tab algn="l" pos="3968640"/>
                  <a:tab algn="l" pos="4762440"/>
                  <a:tab algn="l" pos="5556240"/>
                  <a:tab algn="l" pos="6350040"/>
                  <a:tab algn="l" pos="7143840"/>
                  <a:tab algn="l" pos="7937640"/>
                  <a:tab algn="l" pos="8731080"/>
                  <a:tab algn="l" pos="9524880"/>
                  <a:tab algn="l" pos="1031868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eigene iBus-Install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150960" y="4849200"/>
              <a:ext cx="2395800" cy="2926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93800"/>
                  <a:tab algn="l" pos="1587600"/>
                  <a:tab algn="l" pos="2381400"/>
                  <a:tab algn="l" pos="3174840"/>
                  <a:tab algn="l" pos="3968640"/>
                  <a:tab algn="l" pos="4762440"/>
                  <a:tab algn="l" pos="5556240"/>
                  <a:tab algn="l" pos="6350040"/>
                  <a:tab algn="l" pos="7143840"/>
                  <a:tab algn="l" pos="7937640"/>
                  <a:tab algn="l" pos="8731080"/>
                  <a:tab algn="l" pos="9524880"/>
                  <a:tab algn="l" pos="1031868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mehrere iBus-Installation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5079960" y="3429000"/>
              <a:ext cx="1732320" cy="12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079960" y="3582720"/>
              <a:ext cx="1890720" cy="40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079960" y="3614040"/>
              <a:ext cx="1449000" cy="83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979880" y="3614040"/>
              <a:ext cx="1171080" cy="14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| Rainer Weidemann | IAI | 21./22.05.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25000" y="96480"/>
            <a:ext cx="8194680" cy="685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lternative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318960" y="1360440"/>
            <a:ext cx="9263160" cy="441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| Rainer Weidemann | IAI | 21./22.05.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25360" y="96480"/>
            <a:ext cx="8290080" cy="685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insatz von InGrid im UIS BW (Volltextsuche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0" y="909720"/>
            <a:ext cx="9648720" cy="5371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| Rainer Weidemann | IAI | 21./22.05.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5360" y="96480"/>
            <a:ext cx="8290080" cy="685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insatz von InGrid im UIS BW (Volltextsuche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909720"/>
            <a:ext cx="9648720" cy="537192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200160" y="2205000"/>
            <a:ext cx="3565440" cy="226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rmAutofit/>
          </a:bodyPr>
          <a:p>
            <a:pPr marL="368280" indent="-368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gene InGrid-Insta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8280" indent="-368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97040" indent="-30636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Unterschiedliche Inhalt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97040" indent="-30636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Ranking beeinflussba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97040" indent="-30636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Unmittelbarer Zugriff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97040" indent="-30636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952880" y="2708280"/>
            <a:ext cx="2448000" cy="1260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| Rainer Weidemann | IAI | 21./22.05.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5000" y="96480"/>
            <a:ext cx="8194680" cy="685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Übersich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5360" y="1052640"/>
            <a:ext cx="9455040" cy="51530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368280" indent="-368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hem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30636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Gesamtkonzept für die übergreifende Suche im Umweltinformationssystem Baden-Württemberg (UIS BW) </a:t>
            </a:r>
            <a:br>
              <a:rPr sz="2300"/>
            </a:b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mit Schwerpunkt text-basierte Information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68280" indent="-368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30636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Große Anzahl an Fachsystemen mit unterschiedlichen Inhalt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30636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Inhalte teilweise in Datenbanken und Content-Management-Systemen „versteckt“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30636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Unterschiedliche, sich überschneidende Suchräum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30636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Mehrfachindizierung von Datenquell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30636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Einbindung von Informationen in PortalU</a:t>
            </a:r>
            <a:r>
              <a:rPr b="0" lang="de-DE" sz="2300" spc="-1" strike="noStrike" baseline="30000">
                <a:solidFill>
                  <a:srgbClr val="000000"/>
                </a:solidFill>
                <a:latin typeface="Arial"/>
              </a:rPr>
              <a:t>®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| Rainer Weidemann | IAI | 21./22.05.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25360" y="96480"/>
            <a:ext cx="8290080" cy="685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insatz von InGrid im UIS BW (Volltextsuche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0" y="909720"/>
            <a:ext cx="9648720" cy="53719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200160" y="2205000"/>
            <a:ext cx="3528720" cy="32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rmAutofit/>
          </a:bodyPr>
          <a:p>
            <a:pPr marL="368280" indent="-368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parates Portal über OpenSearch-Schnittst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8280" indent="-368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97040" indent="-30636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Landeslayout möglich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97040" indent="-30636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Flexibler (Oberfläche, Funktionalität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68280" indent="-368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97040" indent="-306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ersonalisierung feh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97040" indent="-306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artenbasierte Su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716880" y="2960640"/>
            <a:ext cx="2160360" cy="936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| Rainer Weidemann | IAI | 21./22.05.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25360" y="96480"/>
            <a:ext cx="8290080" cy="685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insatz von InGrid im UIS BW (Volltextsuche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0" y="909720"/>
            <a:ext cx="9648720" cy="537192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200160" y="2205000"/>
            <a:ext cx="4105080" cy="20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rmAutofit/>
          </a:bodyPr>
          <a:p>
            <a:pPr marL="368280" indent="-368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ehrere Crawler für Volltextsuche (SE-iPlug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8280" indent="-368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97040" indent="-30636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Mehrere Suchebenen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97040" indent="-30636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Erhaltung der Funktionalität durch Modifikation der iPlug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639800" y="5157720"/>
            <a:ext cx="1009800" cy="503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140520" y="4473720"/>
            <a:ext cx="1009440" cy="502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016520" y="5121360"/>
            <a:ext cx="1009440" cy="503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329600" y="2997360"/>
            <a:ext cx="1763640" cy="2303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| Rainer Weidemann | IAI | 21./22.05.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25360" y="96480"/>
            <a:ext cx="8290080" cy="685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insatz von InGrid im UIS BW (Volltextsuche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0" y="909720"/>
            <a:ext cx="9648720" cy="53719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200160" y="2205000"/>
            <a:ext cx="3673440" cy="13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rmAutofit/>
          </a:bodyPr>
          <a:p>
            <a:pPr marL="368280" indent="-368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ächste Generation des Umweltportals Baden-Württemberg (UINBW 2.0) basiert auf In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881600" y="2673360"/>
            <a:ext cx="4140000" cy="1295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| Rainer Weidemann | IAI | 21./22.05.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25000" y="96480"/>
            <a:ext cx="8194680" cy="685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insatz von InGrid im UIS BW (Metadaten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382680" y="747720"/>
            <a:ext cx="9329760" cy="5532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| Rainer Weidemann | IAI | 21./22.05.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" descr=""/>
          <p:cNvPicPr/>
          <p:nvPr/>
        </p:nvPicPr>
        <p:blipFill>
          <a:blip r:embed="rId1"/>
          <a:srcRect l="0" t="0" r="0" b="7883"/>
          <a:stretch/>
        </p:blipFill>
        <p:spPr>
          <a:xfrm>
            <a:off x="1641600" y="463680"/>
            <a:ext cx="6605640" cy="574200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141120" y="4292640"/>
            <a:ext cx="2163960" cy="925560"/>
          </a:xfrm>
          <a:prstGeom prst="wedgeRoundRectCallout">
            <a:avLst>
              <a:gd name="adj1" fmla="val 103305"/>
              <a:gd name="adj2" fmla="val -65439"/>
              <a:gd name="adj3" fmla="val 16667"/>
            </a:avLst>
          </a:prstGeom>
          <a:solidFill>
            <a:srgbClr val="008080">
              <a:alpha val="7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inke“ Ergebnislist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040520" y="2560680"/>
            <a:ext cx="2163960" cy="925560"/>
          </a:xfrm>
          <a:prstGeom prst="wedgeRoundRectCallout">
            <a:avLst>
              <a:gd name="adj1" fmla="val -50000"/>
              <a:gd name="adj2" fmla="val 83087"/>
              <a:gd name="adj3" fmla="val 16667"/>
            </a:avLst>
          </a:prstGeom>
          <a:solidFill>
            <a:srgbClr val="008080">
              <a:alpha val="7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chte“ Ergebnislist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| Rainer Weidemann | IAI | 21./22.05.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25000" y="96480"/>
            <a:ext cx="8194680" cy="685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insatz von InGrid im UIS BW (Metadaten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382680" y="747720"/>
            <a:ext cx="9329760" cy="553248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884160" y="4724280"/>
            <a:ext cx="1009800" cy="503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800520" y="3608280"/>
            <a:ext cx="1009440" cy="503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284880" y="4616280"/>
            <a:ext cx="1009800" cy="503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492880" y="1989000"/>
            <a:ext cx="1009440" cy="503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00160" y="1773360"/>
            <a:ext cx="3852720" cy="21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rmAutofit/>
          </a:bodyPr>
          <a:p>
            <a:pPr marL="368280" indent="-368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teilte Pflege der UDK-Metada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8280" indent="-368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usammenführung i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Grid-B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8280" indent="-368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schluss an PortalU über ESC-iPlug (rechte Lis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276880" y="2924280"/>
            <a:ext cx="1763640" cy="720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| Rainer Weidemann | IAI | 21./22.05.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25000" y="96480"/>
            <a:ext cx="8194680" cy="685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insatz von InGrid im UIS BW (Metadaten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382680" y="747720"/>
            <a:ext cx="9329760" cy="553248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884160" y="4724280"/>
            <a:ext cx="1009800" cy="503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00520" y="1628640"/>
            <a:ext cx="539640" cy="2016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800520" y="3608280"/>
            <a:ext cx="1009440" cy="503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284880" y="4616280"/>
            <a:ext cx="1009800" cy="503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1820520" y="1628640"/>
            <a:ext cx="1979640" cy="3313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00160" y="2313000"/>
            <a:ext cx="3816360" cy="11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rmAutofit/>
          </a:bodyPr>
          <a:p>
            <a:pPr marL="368280" indent="-368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ernative: Direkte Anbindung der Metadaten an PortalU (linke Lis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800520" y="1628640"/>
            <a:ext cx="1547640" cy="158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08520" y="3573360"/>
            <a:ext cx="1081080" cy="1079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746680" y="1844640"/>
            <a:ext cx="58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| Rainer Weidemann | IAI | 21./22.05.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25000" y="96480"/>
            <a:ext cx="8194680" cy="685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insatz von InGrid im UIS BW (Metadaten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382680" y="747720"/>
            <a:ext cx="9329760" cy="553248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3187800" y="4473720"/>
            <a:ext cx="1009440" cy="502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00160" y="2205000"/>
            <a:ext cx="3348000" cy="7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rmAutofit/>
          </a:bodyPr>
          <a:p>
            <a:pPr marL="368280" indent="-368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zielle Metadaten für Forschungsprojek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| Rainer Weidemann | IAI | 21./22.05.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25000" y="96480"/>
            <a:ext cx="8194680" cy="685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tand und weiteres Vorgehe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225360" y="898560"/>
            <a:ext cx="9455040" cy="53071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368280" indent="0">
              <a:spcBef>
                <a:spcPts val="700"/>
              </a:spcBef>
              <a:buNone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8280" indent="-368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achdokumenten-Browser: Entwicklung begon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8280" indent="-368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onzept InGrid-BW fert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8280" indent="-368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ntsprechendes Konzept für Sachsen-Anhalt fert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8280" indent="0">
              <a:spcBef>
                <a:spcPts val="700"/>
              </a:spcBef>
              <a:buNone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8280" indent="-368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estinstallation und Evaluierung der InGrid-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8280" indent="-368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rstellung eines Gesamtkonzepts für UIN 2.0 auf Bas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30636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Einzeluntersuchung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30636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Evaluieru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68280" indent="-368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ginn der Realisierung Ende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| Rainer Weidemann | IAI | 21./22.05.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5000" y="96480"/>
            <a:ext cx="8194680" cy="685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otivation, Ziel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5360" y="898560"/>
            <a:ext cx="9455040" cy="54007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368280" indent="-368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mfassende Erschließung vorhandener Inhal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8280" indent="-368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ktivierung „versteckter“ Informati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8280" indent="-368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alisierung verschiedener Suchebenen ohne Mehrfachindizierung (PortalU, UINBW, 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8280" indent="-368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beziehung unterschiedlicher Informationsarte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30636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Informationsseiten (Webseiten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30636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Fachdokumen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30636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UDK-Objekte und –Adress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30636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Metadaten zu Forschungsprojekt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30636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Karten / WMS-Diens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30636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Sachdat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8280" indent="-368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utzung der InGrid</a:t>
            </a:r>
            <a:r>
              <a:rPr b="0" lang="de-DE" sz="2400" spc="-1" strike="noStrike" baseline="30000">
                <a:solidFill>
                  <a:srgbClr val="000000"/>
                </a:solidFill>
                <a:latin typeface="Arial"/>
              </a:rPr>
              <a:t>®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Software für die nächste Generation des Umweltinformationsnetzes Baden-Württember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| Rainer Weidemann | IAI | 21./22.05.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5000" y="96480"/>
            <a:ext cx="8194680" cy="685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Vorgehensweise Konzepterstellung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5360" y="836640"/>
            <a:ext cx="9455040" cy="54928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368280" indent="-368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op-Dow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30636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Konzept für die Anbindung PortalU und Nutzung von InGrid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227240" indent="-244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alyse der Informationsbereitstellung für PortalU und UINB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27240" indent="-244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alyse der derzeitigen Erschließung der Informationsquel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27240" indent="-244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etadatenstrate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27240" indent="-244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rarbeitung / Bewertung von Einsatzoptionen für InGrid-Komponen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27240" indent="-244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ntwurf eines Gesamtszen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27240" indent="-244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alyse der Auswirkungen auf vorhandene UIS-Komponent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8280" indent="-368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ottom-Up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30636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Optimierung der Schnittstellen zu PortalU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227240" indent="-2444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ggregation bestimmter Inha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27240" indent="-2444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rgänzen von Metadat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27240" indent="-2444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rukturelle Anpassung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30636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Zwischenebene kann auch für andere Zwecke genutzt werd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30636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Beispiel: Konzept Fachdokumentenmanagement für UIS BW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| Rainer Weidemann | IAI | 21./22.05.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990960" y="1224000"/>
            <a:ext cx="1905120" cy="6858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5000" y="96480"/>
            <a:ext cx="8194680" cy="685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ist ein Fachdoku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739800" y="2325600"/>
            <a:ext cx="3867120" cy="1524240"/>
            <a:chOff x="739800" y="2325600"/>
            <a:chExt cx="3867120" cy="1524240"/>
          </a:xfrm>
        </p:grpSpPr>
        <p:sp>
          <p:nvSpPr>
            <p:cNvPr id="99" name=""/>
            <p:cNvSpPr/>
            <p:nvPr/>
          </p:nvSpPr>
          <p:spPr>
            <a:xfrm>
              <a:off x="739800" y="2325600"/>
              <a:ext cx="3867120" cy="152424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918440" y="2492280"/>
              <a:ext cx="143640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etadaten, z.B.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 Tit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 Au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 Abstra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 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343480" y="2319480"/>
            <a:ext cx="3933720" cy="1523880"/>
            <a:chOff x="5343480" y="2319480"/>
            <a:chExt cx="3933720" cy="1523880"/>
          </a:xfrm>
        </p:grpSpPr>
        <p:sp>
          <p:nvSpPr>
            <p:cNvPr id="102" name=""/>
            <p:cNvSpPr/>
            <p:nvPr/>
          </p:nvSpPr>
          <p:spPr>
            <a:xfrm>
              <a:off x="5343480" y="2319480"/>
              <a:ext cx="3867120" cy="15238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736320" y="2435400"/>
              <a:ext cx="2540880" cy="137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Dokument-Datei(en), z.B.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- PD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Helvetic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Office-Format (.doc, .xls, …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Helvetic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Grafik (.tif, .jpeg, .gif, …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Helvetic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udio- / Videoforma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- 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5518080" y="2435040"/>
              <a:ext cx="952560" cy="1280880"/>
              <a:chOff x="5518080" y="2435040"/>
              <a:chExt cx="952560" cy="1280880"/>
            </a:xfrm>
          </p:grpSpPr>
          <p:sp>
            <p:nvSpPr>
              <p:cNvPr id="105" name=""/>
              <p:cNvSpPr/>
              <p:nvPr/>
            </p:nvSpPr>
            <p:spPr>
              <a:xfrm flipV="1">
                <a:off x="5727600" y="2434680"/>
                <a:ext cx="743040" cy="1074600"/>
              </a:xfrm>
              <a:prstGeom prst="foldedCorner">
                <a:avLst>
                  <a:gd name="adj" fmla="val 29958"/>
                </a:avLst>
              </a:prstGeom>
              <a:solidFill>
                <a:srgbClr val="c1ffef"/>
              </a:solidFill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V="1">
                <a:off x="5616360" y="2530440"/>
                <a:ext cx="743040" cy="1074960"/>
              </a:xfrm>
              <a:prstGeom prst="foldedCorner">
                <a:avLst>
                  <a:gd name="adj" fmla="val 29958"/>
                </a:avLst>
              </a:prstGeom>
              <a:solidFill>
                <a:srgbClr val="c1ffef"/>
              </a:solidFill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V="1">
                <a:off x="5518080" y="2640960"/>
                <a:ext cx="743040" cy="1074600"/>
              </a:xfrm>
              <a:prstGeom prst="foldedCorner">
                <a:avLst>
                  <a:gd name="adj" fmla="val 29958"/>
                </a:avLst>
              </a:prstGeom>
              <a:solidFill>
                <a:srgbClr val="0099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8" name=""/>
          <p:cNvSpPr/>
          <p:nvPr/>
        </p:nvSpPr>
        <p:spPr>
          <a:xfrm>
            <a:off x="4100400" y="1376280"/>
            <a:ext cx="1692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hdoku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38680" y="1809720"/>
            <a:ext cx="450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38680" y="2733840"/>
            <a:ext cx="450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505400">
            <a:off x="1476000" y="2250720"/>
            <a:ext cx="2173320" cy="157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0" t="0" r="0" b="28071"/>
          <a:stretch/>
        </p:blipFill>
        <p:spPr>
          <a:xfrm>
            <a:off x="2386080" y="4038480"/>
            <a:ext cx="3076560" cy="1797120"/>
          </a:xfrm>
          <a:prstGeom prst="rect">
            <a:avLst/>
          </a:prstGeom>
          <a:ln w="0">
            <a:noFill/>
          </a:ln>
        </p:spPr>
      </p:pic>
      <p:cxnSp>
        <p:nvCxnSpPr>
          <p:cNvPr id="113" name=""/>
          <p:cNvCxnSpPr>
            <a:stCxn id="111" idx="6"/>
            <a:endCxn id="112" idx="0"/>
          </p:cNvCxnSpPr>
          <p:nvPr/>
        </p:nvCxnSpPr>
        <p:spPr>
          <a:xfrm>
            <a:off x="3546360" y="3499920"/>
            <a:ext cx="378720" cy="53892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3664800" y="5016600"/>
            <a:ext cx="1742760" cy="7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tadaten-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schreibungsse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MDB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stCxn id="114" idx="3"/>
            <a:endCxn id="107" idx="0"/>
          </p:cNvCxnSpPr>
          <p:nvPr/>
        </p:nvCxnSpPr>
        <p:spPr>
          <a:xfrm flipV="1">
            <a:off x="5402160" y="3717360"/>
            <a:ext cx="488160" cy="166428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| Rainer Weidemann | IAI | 21./22.05.2007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"/>
          <p:cNvGrpSpPr/>
          <p:nvPr/>
        </p:nvGrpSpPr>
        <p:grpSpPr>
          <a:xfrm>
            <a:off x="7031160" y="4673520"/>
            <a:ext cx="1885680" cy="1000080"/>
            <a:chOff x="7031160" y="4673520"/>
            <a:chExt cx="1885680" cy="1000080"/>
          </a:xfrm>
        </p:grpSpPr>
        <p:sp>
          <p:nvSpPr>
            <p:cNvPr id="117" name=""/>
            <p:cNvSpPr/>
            <p:nvPr/>
          </p:nvSpPr>
          <p:spPr>
            <a:xfrm>
              <a:off x="7031160" y="4673520"/>
              <a:ext cx="1885680" cy="100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Fachsystem</a:t>
              </a:r>
              <a:r>
                <a:rPr b="1" lang="de-DE" sz="1400" spc="-1" strike="noStrike" baseline="-25000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7181280" y="5234040"/>
              <a:ext cx="1538280" cy="365040"/>
              <a:chOff x="7181280" y="5234040"/>
              <a:chExt cx="1538280" cy="365040"/>
            </a:xfrm>
          </p:grpSpPr>
          <p:sp>
            <p:nvSpPr>
              <p:cNvPr id="119" name=""/>
              <p:cNvSpPr/>
              <p:nvPr/>
            </p:nvSpPr>
            <p:spPr>
              <a:xfrm>
                <a:off x="7272720" y="5234040"/>
                <a:ext cx="1446840" cy="30492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Fachdokumen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181280" y="5294160"/>
                <a:ext cx="1446840" cy="30492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Fachdokumen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"/>
          <p:cNvSpPr/>
          <p:nvPr/>
        </p:nvSpPr>
        <p:spPr>
          <a:xfrm>
            <a:off x="6896160" y="5349960"/>
            <a:ext cx="2114640" cy="36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5000" y="96480"/>
            <a:ext cx="8194680" cy="685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Übergreifender Zugriff auf Fachdokum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021440" y="1111320"/>
            <a:ext cx="1886040" cy="1000080"/>
            <a:chOff x="7021440" y="1111320"/>
            <a:chExt cx="1886040" cy="1000080"/>
          </a:xfrm>
        </p:grpSpPr>
        <p:sp>
          <p:nvSpPr>
            <p:cNvPr id="124" name=""/>
            <p:cNvSpPr/>
            <p:nvPr/>
          </p:nvSpPr>
          <p:spPr>
            <a:xfrm>
              <a:off x="7021440" y="1111320"/>
              <a:ext cx="1886040" cy="100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faWeb-ne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7171920" y="1671840"/>
              <a:ext cx="1539000" cy="365040"/>
              <a:chOff x="7171920" y="1671840"/>
              <a:chExt cx="1539000" cy="365040"/>
            </a:xfrm>
          </p:grpSpPr>
          <p:sp>
            <p:nvSpPr>
              <p:cNvPr id="126" name=""/>
              <p:cNvSpPr/>
              <p:nvPr/>
            </p:nvSpPr>
            <p:spPr>
              <a:xfrm>
                <a:off x="7264080" y="1671840"/>
                <a:ext cx="1446840" cy="30492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Fachdokumen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171920" y="1731960"/>
                <a:ext cx="1446840" cy="30492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Fachdokumen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7020000" y="5397480"/>
            <a:ext cx="1887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960" y="1882800"/>
            <a:ext cx="4249800" cy="2104920"/>
          </a:xfrm>
          <a:prstGeom prst="rect">
            <a:avLst/>
          </a:prstGeom>
          <a:solidFill>
            <a:srgbClr val="ffccff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chdokumenten-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owser (FD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90640" y="2481120"/>
            <a:ext cx="1790640" cy="868680"/>
          </a:xfrm>
          <a:prstGeom prst="can">
            <a:avLst>
              <a:gd name="adj" fmla="val 25000"/>
            </a:avLst>
          </a:prstGeom>
          <a:solidFill>
            <a:srgbClr val="ffccff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a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nkl. UDK-Metadat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7027920" y="2300400"/>
            <a:ext cx="1886040" cy="1000080"/>
            <a:chOff x="7027920" y="2300400"/>
            <a:chExt cx="1886040" cy="1000080"/>
          </a:xfrm>
        </p:grpSpPr>
        <p:sp>
          <p:nvSpPr>
            <p:cNvPr id="132" name=""/>
            <p:cNvSpPr/>
            <p:nvPr/>
          </p:nvSpPr>
          <p:spPr>
            <a:xfrm>
              <a:off x="7027920" y="2300400"/>
              <a:ext cx="1886040" cy="100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LUBW-Sho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7178400" y="2860920"/>
              <a:ext cx="1539000" cy="365040"/>
              <a:chOff x="7178400" y="2860920"/>
              <a:chExt cx="1539000" cy="365040"/>
            </a:xfrm>
          </p:grpSpPr>
          <p:sp>
            <p:nvSpPr>
              <p:cNvPr id="134" name=""/>
              <p:cNvSpPr/>
              <p:nvPr/>
            </p:nvSpPr>
            <p:spPr>
              <a:xfrm>
                <a:off x="7270560" y="2860920"/>
                <a:ext cx="1446840" cy="30492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Fachdokumen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178400" y="2921040"/>
                <a:ext cx="1446840" cy="30492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Fachdokumen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6" name=""/>
          <p:cNvGrpSpPr/>
          <p:nvPr/>
        </p:nvGrpSpPr>
        <p:grpSpPr>
          <a:xfrm>
            <a:off x="7031160" y="3495600"/>
            <a:ext cx="1885680" cy="1000080"/>
            <a:chOff x="7031160" y="3495600"/>
            <a:chExt cx="1885680" cy="1000080"/>
          </a:xfrm>
        </p:grpSpPr>
        <p:sp>
          <p:nvSpPr>
            <p:cNvPr id="137" name=""/>
            <p:cNvSpPr/>
            <p:nvPr/>
          </p:nvSpPr>
          <p:spPr>
            <a:xfrm>
              <a:off x="7031160" y="3495600"/>
              <a:ext cx="1885680" cy="100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Fachsystem</a:t>
              </a:r>
              <a:r>
                <a:rPr b="1" lang="de-DE" sz="1400" spc="-1" strike="noStrike" baseline="-25000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7181280" y="4056120"/>
              <a:ext cx="1538280" cy="365040"/>
              <a:chOff x="7181280" y="4056120"/>
              <a:chExt cx="1538280" cy="365040"/>
            </a:xfrm>
          </p:grpSpPr>
          <p:sp>
            <p:nvSpPr>
              <p:cNvPr id="139" name=""/>
              <p:cNvSpPr/>
              <p:nvPr/>
            </p:nvSpPr>
            <p:spPr>
              <a:xfrm>
                <a:off x="7272720" y="4056120"/>
                <a:ext cx="1446840" cy="30492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Fachdokumen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181280" y="4116240"/>
                <a:ext cx="1446840" cy="30492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Fachdokumen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1" name=""/>
          <p:cNvGrpSpPr/>
          <p:nvPr/>
        </p:nvGrpSpPr>
        <p:grpSpPr>
          <a:xfrm>
            <a:off x="3581280" y="1414440"/>
            <a:ext cx="3491280" cy="4057200"/>
            <a:chOff x="3581280" y="1414440"/>
            <a:chExt cx="3491280" cy="4057200"/>
          </a:xfrm>
        </p:grpSpPr>
        <p:grpSp>
          <p:nvGrpSpPr>
            <p:cNvPr id="142" name=""/>
            <p:cNvGrpSpPr/>
            <p:nvPr/>
          </p:nvGrpSpPr>
          <p:grpSpPr>
            <a:xfrm>
              <a:off x="6315120" y="1414440"/>
              <a:ext cx="738720" cy="456840"/>
              <a:chOff x="6315120" y="1414440"/>
              <a:chExt cx="738720" cy="456840"/>
            </a:xfrm>
          </p:grpSpPr>
          <p:sp>
            <p:nvSpPr>
              <p:cNvPr id="143" name=""/>
              <p:cNvSpPr/>
              <p:nvPr/>
            </p:nvSpPr>
            <p:spPr>
              <a:xfrm flipH="1">
                <a:off x="6315120" y="1645560"/>
                <a:ext cx="704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oval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324480" y="1414440"/>
                <a:ext cx="72936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Web-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6311880" y="2536920"/>
              <a:ext cx="738360" cy="456840"/>
              <a:chOff x="6311880" y="2536920"/>
              <a:chExt cx="738360" cy="456840"/>
            </a:xfrm>
          </p:grpSpPr>
          <p:sp>
            <p:nvSpPr>
              <p:cNvPr id="146" name=""/>
              <p:cNvSpPr/>
              <p:nvPr/>
            </p:nvSpPr>
            <p:spPr>
              <a:xfrm flipH="1">
                <a:off x="6311880" y="2767320"/>
                <a:ext cx="7063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oval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320880" y="2536920"/>
                <a:ext cx="72936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Web-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 flipV="1">
              <a:off x="4973760" y="1663200"/>
              <a:ext cx="1274760" cy="125748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4973760" y="2766960"/>
              <a:ext cx="1271520" cy="15552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973760" y="2889360"/>
              <a:ext cx="1315800" cy="233496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 flipV="1">
              <a:off x="3581280" y="2909880"/>
              <a:ext cx="1392480" cy="936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6318000" y="3798720"/>
              <a:ext cx="738360" cy="456840"/>
              <a:chOff x="6318000" y="3798720"/>
              <a:chExt cx="738360" cy="456840"/>
            </a:xfrm>
          </p:grpSpPr>
          <p:sp>
            <p:nvSpPr>
              <p:cNvPr id="153" name=""/>
              <p:cNvSpPr/>
              <p:nvPr/>
            </p:nvSpPr>
            <p:spPr>
              <a:xfrm flipH="1">
                <a:off x="6318000" y="4029120"/>
                <a:ext cx="704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oval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327000" y="3798720"/>
                <a:ext cx="72936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Web-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6333840" y="5014800"/>
              <a:ext cx="738720" cy="456840"/>
              <a:chOff x="6333840" y="5014800"/>
              <a:chExt cx="738720" cy="456840"/>
            </a:xfrm>
          </p:grpSpPr>
          <p:sp>
            <p:nvSpPr>
              <p:cNvPr id="156" name=""/>
              <p:cNvSpPr/>
              <p:nvPr/>
            </p:nvSpPr>
            <p:spPr>
              <a:xfrm flipH="1">
                <a:off x="6333840" y="5245920"/>
                <a:ext cx="705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oval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343200" y="5014800"/>
                <a:ext cx="72936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Web-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4973760" y="2909880"/>
              <a:ext cx="1277640" cy="112068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1544040" y="3371760"/>
            <a:ext cx="1252080" cy="1855080"/>
            <a:chOff x="1544040" y="3371760"/>
            <a:chExt cx="1252080" cy="1855080"/>
          </a:xfrm>
        </p:grpSpPr>
        <p:sp>
          <p:nvSpPr>
            <p:cNvPr id="160" name=""/>
            <p:cNvSpPr/>
            <p:nvPr/>
          </p:nvSpPr>
          <p:spPr>
            <a:xfrm>
              <a:off x="1544040" y="4587480"/>
              <a:ext cx="1252080" cy="63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ebServic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ür Navigation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nd Suc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84480" y="3978000"/>
              <a:ext cx="0" cy="428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2184480" y="3371760"/>
              <a:ext cx="472320" cy="6188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2658960" y="3357720"/>
            <a:ext cx="2649240" cy="1869840"/>
            <a:chOff x="2658960" y="3357720"/>
            <a:chExt cx="2649240" cy="1869840"/>
          </a:xfrm>
        </p:grpSpPr>
        <p:sp>
          <p:nvSpPr>
            <p:cNvPr id="164" name=""/>
            <p:cNvSpPr/>
            <p:nvPr/>
          </p:nvSpPr>
          <p:spPr>
            <a:xfrm>
              <a:off x="4124880" y="4588200"/>
              <a:ext cx="1183320" cy="63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etadaten fü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ortalU und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Grid-B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730760" y="3979440"/>
              <a:ext cx="0" cy="428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58960" y="3357720"/>
              <a:ext cx="2062440" cy="6278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226080" y="3357720"/>
            <a:ext cx="2451600" cy="1869840"/>
            <a:chOff x="226080" y="3357720"/>
            <a:chExt cx="2451600" cy="1869840"/>
          </a:xfrm>
        </p:grpSpPr>
        <p:sp>
          <p:nvSpPr>
            <p:cNvPr id="168" name=""/>
            <p:cNvSpPr/>
            <p:nvPr/>
          </p:nvSpPr>
          <p:spPr>
            <a:xfrm>
              <a:off x="910080" y="3979440"/>
              <a:ext cx="0" cy="428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910080" y="3357720"/>
              <a:ext cx="1767600" cy="6184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26080" y="4588200"/>
              <a:ext cx="1353960" cy="63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inheitlich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Zugriff au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achdokumen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2643120" y="3349800"/>
            <a:ext cx="1481040" cy="1877040"/>
            <a:chOff x="2643120" y="3349800"/>
            <a:chExt cx="1481040" cy="1877040"/>
          </a:xfrm>
        </p:grpSpPr>
        <p:sp>
          <p:nvSpPr>
            <p:cNvPr id="172" name=""/>
            <p:cNvSpPr/>
            <p:nvPr/>
          </p:nvSpPr>
          <p:spPr>
            <a:xfrm>
              <a:off x="3458160" y="3978000"/>
              <a:ext cx="0" cy="428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43120" y="3349800"/>
              <a:ext cx="815040" cy="6472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768760" y="4587480"/>
              <a:ext cx="1355400" cy="63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chnittstel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ür Internet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uchmaschin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| Rainer Weidemann | IAI | 21./22.05.2007</a:t>
            </a: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5000" y="96480"/>
            <a:ext cx="8194680" cy="685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inheitlicher Zugriff auf Fachdokument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857840" y="1022400"/>
            <a:ext cx="4556160" cy="23889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4889520" y="2689200"/>
            <a:ext cx="662040" cy="615960"/>
          </a:xfrm>
          <a:prstGeom prst="ellipse">
            <a:avLst/>
          </a:prstGeom>
          <a:solidFill>
            <a:srgbClr val="ff99cc">
              <a:alpha val="2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5360" y="3460680"/>
            <a:ext cx="9107640" cy="27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rmAutofit/>
          </a:bodyPr>
          <a:p>
            <a:pPr marL="368280" indent="-368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trale, transparente, permanente UR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8280" indent="-368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isierte Sicht auf Fachdoku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558440" y="4570560"/>
            <a:ext cx="7396200" cy="1604880"/>
            <a:chOff x="1558440" y="4570560"/>
            <a:chExt cx="7396200" cy="1604880"/>
          </a:xfrm>
        </p:grpSpPr>
        <p:sp>
          <p:nvSpPr>
            <p:cNvPr id="180" name=""/>
            <p:cNvSpPr/>
            <p:nvPr/>
          </p:nvSpPr>
          <p:spPr>
            <a:xfrm>
              <a:off x="7189920" y="4570560"/>
              <a:ext cx="1764720" cy="16048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219120" y="4570560"/>
              <a:ext cx="3246480" cy="1604880"/>
            </a:xfrm>
            <a:prstGeom prst="rect">
              <a:avLst/>
            </a:prstGeom>
            <a:solidFill>
              <a:srgbClr val="ffccff">
                <a:alpha val="50000"/>
              </a:srgbClr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470760" y="5434920"/>
              <a:ext cx="1071360" cy="555480"/>
            </a:xfrm>
            <a:prstGeom prst="can">
              <a:avLst>
                <a:gd name="adj" fmla="val 25000"/>
              </a:avLst>
            </a:prstGeom>
            <a:solidFill>
              <a:srgbClr val="ffccff">
                <a:alpha val="50000"/>
              </a:srgbClr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588400" y="4910760"/>
              <a:ext cx="2237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5708520" y="5342400"/>
              <a:ext cx="458280" cy="678960"/>
            </a:xfrm>
            <a:prstGeom prst="foldedCorner">
              <a:avLst>
                <a:gd name="adj" fmla="val 29958"/>
              </a:avLst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b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3800"/>
                  <a:tab algn="l" pos="1587600"/>
                  <a:tab algn="l" pos="2381400"/>
                  <a:tab algn="l" pos="3174840"/>
                  <a:tab algn="l" pos="3968640"/>
                  <a:tab algn="l" pos="4762440"/>
                  <a:tab algn="l" pos="5556240"/>
                  <a:tab algn="l" pos="6350040"/>
                  <a:tab algn="l" pos="7143840"/>
                  <a:tab algn="l" pos="7937640"/>
                  <a:tab algn="l" pos="8731080"/>
                  <a:tab algn="l" pos="9524880"/>
                  <a:tab algn="l" pos="103186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DB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8261640" y="5342400"/>
              <a:ext cx="458280" cy="678960"/>
            </a:xfrm>
            <a:prstGeom prst="foldedCorner">
              <a:avLst>
                <a:gd name="adj" fmla="val 29958"/>
              </a:avLst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7316280" y="4694400"/>
              <a:ext cx="458280" cy="678960"/>
            </a:xfrm>
            <a:prstGeom prst="foldedCorner">
              <a:avLst>
                <a:gd name="adj" fmla="val 29958"/>
              </a:avLst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b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3800"/>
                  <a:tab algn="l" pos="1587600"/>
                  <a:tab algn="l" pos="2381400"/>
                  <a:tab algn="l" pos="3174840"/>
                  <a:tab algn="l" pos="3968640"/>
                  <a:tab algn="l" pos="4762440"/>
                  <a:tab algn="l" pos="5556240"/>
                  <a:tab algn="l" pos="6350040"/>
                  <a:tab algn="l" pos="7143840"/>
                  <a:tab algn="l" pos="7937640"/>
                  <a:tab algn="l" pos="8731080"/>
                  <a:tab algn="l" pos="9524880"/>
                  <a:tab algn="l" pos="103186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DB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825800" y="4755600"/>
              <a:ext cx="568440" cy="308880"/>
            </a:xfrm>
            <a:prstGeom prst="hexagon">
              <a:avLst>
                <a:gd name="adj" fmla="val 46008"/>
                <a:gd name="vf" fmla="val 115470"/>
              </a:avLst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4510440" y="5003280"/>
              <a:ext cx="409680" cy="4626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574520" y="5682600"/>
              <a:ext cx="11336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394600" y="4910760"/>
              <a:ext cx="195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267880" y="5064480"/>
              <a:ext cx="566640" cy="27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991840" y="5712480"/>
              <a:ext cx="226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662240" y="5033520"/>
              <a:ext cx="630720" cy="52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558440" y="4663080"/>
              <a:ext cx="129456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3800"/>
                  <a:tab algn="l" pos="1587600"/>
                  <a:tab algn="l" pos="2381400"/>
                  <a:tab algn="l" pos="3174840"/>
                  <a:tab algn="l" pos="3968640"/>
                  <a:tab algn="l" pos="4762440"/>
                  <a:tab algn="l" pos="5556240"/>
                  <a:tab algn="l" pos="6350040"/>
                  <a:tab algn="l" pos="7143840"/>
                  <a:tab algn="l" pos="7937640"/>
                  <a:tab algn="l" pos="8731080"/>
                  <a:tab algn="l" pos="9524880"/>
                  <a:tab algn="l" pos="10318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achdokument-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R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| Rainer Weidemann | IAI | 21./22.05.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5000" y="96480"/>
            <a:ext cx="8194680" cy="685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ebServices für Navigation und Such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857840" y="1022400"/>
            <a:ext cx="4556160" cy="238896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549760" y="2689200"/>
            <a:ext cx="663840" cy="615960"/>
          </a:xfrm>
          <a:prstGeom prst="ellipse">
            <a:avLst/>
          </a:prstGeom>
          <a:solidFill>
            <a:srgbClr val="ff99cc">
              <a:alpha val="2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7280" y="3954600"/>
            <a:ext cx="91090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rmAutofit/>
          </a:bodyPr>
          <a:p>
            <a:pPr marL="368280" indent="-368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reitstellung fachsystemübergreifender Navigationsstrukturen (z.B. Themenzuga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8280" indent="-368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hebene FDB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97040" indent="-30636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chen nach Fachdokumente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97040" indent="-30636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Keine eigene Indizierung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| Rainer Weidemann | IAI | 21./22.05.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5000" y="96480"/>
            <a:ext cx="8194680" cy="685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chnittstellen für Internet-Suchmaschine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857840" y="1022400"/>
            <a:ext cx="4556160" cy="238896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6213600" y="2689200"/>
            <a:ext cx="663480" cy="615960"/>
          </a:xfrm>
          <a:prstGeom prst="ellipse">
            <a:avLst/>
          </a:prstGeom>
          <a:solidFill>
            <a:srgbClr val="ff99cc">
              <a:alpha val="2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93680" y="3954600"/>
            <a:ext cx="910764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rmAutofit/>
          </a:bodyPr>
          <a:p>
            <a:pPr marL="368280" indent="-368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reitstellung von XML-Sitema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97040" indent="-30636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Möglichkeit, einer Suchmaschine die zu indizierenden Seiten bekanntzugeben, ohne dass diese vollständig verlinkt sin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| Rainer Weidemann | IAI | 21./22.05.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12:09:08Z</dcterms:created>
  <dc:creator>Rainer Weidemann</dc:creator>
  <dc:description/>
  <dc:language>en-US</dc:language>
  <cp:lastModifiedBy>Rainer Weidemann</cp:lastModifiedBy>
  <dcterms:modified xsi:type="dcterms:W3CDTF">2007-05-14T06:32:37Z</dcterms:modified>
  <cp:revision>28</cp:revision>
  <dc:subject/>
  <dc:title>Folie 1</dc:title>
</cp:coreProperties>
</file>