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9752013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E2D5-8DF5-42AB-AAD8-D565BCDE8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20" y="371160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7F7E-2AB3-4AA6-A2AD-ED207A2BA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2788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41C6-FFB0-4D18-A8FB-6FB46EFA4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180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504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892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180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504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A21F-E295-4E29-A77F-880D44E9B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38320" y="139320"/>
            <a:ext cx="4570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6360-CC4E-4C95-938D-38DD793EA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788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20" y="371160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788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180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5040" y="107964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892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180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5040" y="3711600"/>
            <a:ext cx="27453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3870-37F2-466B-8DDA-C563B9AAD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9AF8-8729-48F3-B5DA-3574A31C9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532B-88BF-441F-8242-7B6D6E3E9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38320" y="139320"/>
            <a:ext cx="4570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E327-C177-4CC0-8031-1E8EB9251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515D-3EF5-495F-98A4-95A917113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27880" y="371160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DA22-07DC-4AF2-B9D1-D25BF16A4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1079640"/>
            <a:ext cx="4160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8920" y="3711600"/>
            <a:ext cx="8526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A141-876F-4936-B2D0-2C6FA673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185" b="0"/>
          <a:stretch/>
        </p:blipFill>
        <p:spPr>
          <a:xfrm>
            <a:off x="0" y="6597720"/>
            <a:ext cx="9910800" cy="287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185" b="0"/>
          <a:stretch/>
        </p:blipFill>
        <p:spPr>
          <a:xfrm>
            <a:off x="-3240" y="-6480"/>
            <a:ext cx="991548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375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209520">
              <a:spcAft>
                <a:spcPts val="1375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37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37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37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4203720" y="6391440"/>
            <a:ext cx="37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Condat AG, Berlin 20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991360" y="6391440"/>
            <a:ext cx="74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A86-C2DB-43E2-BFB7-21A28BEAE6F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800" y="6391440"/>
            <a:ext cx="31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9043920" y="139680"/>
            <a:ext cx="601560" cy="574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14280" y="6391440"/>
            <a:ext cx="372960" cy="457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7240" y="6392880"/>
            <a:ext cx="37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essisches Landesamt für Umwelt und Geolo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0" b="7680"/>
          <a:stretch/>
        </p:blipFill>
        <p:spPr>
          <a:xfrm>
            <a:off x="-73080" y="-85680"/>
            <a:ext cx="10066320" cy="69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980480" y="626256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We make IT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berlinbrande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406080" y="6324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4960" y="6021360"/>
            <a:ext cx="7545600" cy="0"/>
          </a:xfrm>
          <a:prstGeom prst="line">
            <a:avLst/>
          </a:prstGeom>
          <a:ln w="9360">
            <a:solidFill>
              <a:srgbClr val="9fba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87480" y="6021360"/>
            <a:ext cx="1440000" cy="0"/>
          </a:xfrm>
          <a:prstGeom prst="line">
            <a:avLst/>
          </a:prstGeom>
          <a:ln w="9360">
            <a:solidFill>
              <a:srgbClr val="9fba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43920" y="139680"/>
            <a:ext cx="601560" cy="574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spcAft>
                <a:spcPts val="1125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38080" algn="ctr">
              <a:spcAft>
                <a:spcPts val="6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76880" y="3573360"/>
            <a:ext cx="5400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zentrale EKVO-Datenerfassung per Rich-Client-Anwendung</a:t>
            </a:r>
            <a:br>
              <a:rPr sz="14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aktische Erfahrungen mit Offline-Datenbank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000" spc="-1" strike="noStrike">
                <a:solidFill>
                  <a:srgbClr val="ec870e"/>
                </a:solidFill>
                <a:latin typeface="Arial"/>
              </a:rPr>
              <a:t>Workshop Umweltdatenbank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000" spc="-1" strike="noStrike">
                <a:solidFill>
                  <a:srgbClr val="ec870e"/>
                </a:solidFill>
                <a:latin typeface="Arial"/>
              </a:rPr>
              <a:t>Tilman Fischer, </a:t>
            </a:r>
            <a:r>
              <a:rPr b="1" lang="de-DE" sz="2000" spc="-1" strike="noStrike" u="sng">
                <a:solidFill>
                  <a:srgbClr val="ec870e"/>
                </a:solidFill>
                <a:uFillTx/>
                <a:latin typeface="Arial"/>
              </a:rPr>
              <a:t>Ingo Mohr</a:t>
            </a:r>
            <a:r>
              <a:rPr b="1" lang="de-DE" sz="2000" spc="-1" strike="noStrike">
                <a:solidFill>
                  <a:srgbClr val="ec870e"/>
                </a:solidFill>
                <a:latin typeface="Arial"/>
              </a:rPr>
              <a:t>, Wolfgang Müller, Jo van Nouhuys, Hubertus Pf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75800" y="14842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fbad3"/>
                </a:solidFill>
                <a:latin typeface="Arial"/>
              </a:rPr>
              <a:t>IT aus Berl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84520" y="44280"/>
            <a:ext cx="547920" cy="67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32440" y="128520"/>
            <a:ext cx="2405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ssisches Landesamt für Umwelt und Ge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wendung für Berichterst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38280" y="985680"/>
            <a:ext cx="7338960" cy="550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1246-9A77-4A10-8707-BAD3184BB0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hanwendung für Behö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41360" y="907920"/>
            <a:ext cx="7572600" cy="560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5EA1-F3BA-4597-9D23-72F96E8C6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-Grundstruk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73920" y="2397240"/>
            <a:ext cx="2981880" cy="1008720"/>
          </a:xfrm>
          <a:prstGeom prst="rect">
            <a:avLst/>
          </a:prstGeom>
          <a:solidFill>
            <a:srgbClr val="5886b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objekt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ob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00920" y="2205000"/>
            <a:ext cx="2382840" cy="398880"/>
          </a:xfrm>
          <a:prstGeom prst="rect">
            <a:avLst/>
          </a:prstGeom>
          <a:solidFill>
            <a:srgbClr val="5886b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rflä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5960" y="3201840"/>
            <a:ext cx="2372400" cy="398880"/>
          </a:xfrm>
          <a:prstGeom prst="rect">
            <a:avLst/>
          </a:prstGeom>
          <a:solidFill>
            <a:srgbClr val="5886b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log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05320" y="1073160"/>
            <a:ext cx="91440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8280" y="5229360"/>
            <a:ext cx="1224000" cy="1079280"/>
          </a:xfrm>
          <a:prstGeom prst="flowChartMagneticDisk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97560" y="5373720"/>
            <a:ext cx="1439640" cy="792000"/>
          </a:xfrm>
          <a:prstGeom prst="flowChartMagneticDisk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SQL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52880" y="3933720"/>
            <a:ext cx="1620720" cy="971640"/>
          </a:xfrm>
          <a:prstGeom prst="rect">
            <a:avLst/>
          </a:prstGeom>
          <a:solidFill>
            <a:srgbClr val="9fbad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4640" y="4390920"/>
            <a:ext cx="1355760" cy="398880"/>
          </a:xfrm>
          <a:prstGeom prst="rect">
            <a:avLst/>
          </a:prstGeom>
          <a:solidFill>
            <a:srgbClr val="9fbad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21" idx="2"/>
            <a:endCxn id="219" idx="2"/>
          </p:cNvCxnSpPr>
          <p:nvPr/>
        </p:nvCxnSpPr>
        <p:spPr>
          <a:xfrm flipH="1" rot="16200000">
            <a:off x="4693320" y="4965840"/>
            <a:ext cx="973800" cy="63576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21" idx="2"/>
            <a:endCxn id="218" idx="4"/>
          </p:cNvCxnSpPr>
          <p:nvPr/>
        </p:nvCxnSpPr>
        <p:spPr>
          <a:xfrm rot="5400000">
            <a:off x="4046400" y="4952880"/>
            <a:ext cx="972360" cy="66060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4" idx="2"/>
            <a:endCxn id="220" idx="0"/>
          </p:cNvCxnSpPr>
          <p:nvPr/>
        </p:nvCxnSpPr>
        <p:spPr>
          <a:xfrm rot="5400000">
            <a:off x="4603680" y="3672360"/>
            <a:ext cx="521280" cy="2520"/>
          </a:xfrm>
          <a:prstGeom prst="curvedConnector5">
            <a:avLst>
              <a:gd name="adj1" fmla="val 49965"/>
              <a:gd name="adj2" fmla="val 50000"/>
              <a:gd name="adj3" fmla="val 49965"/>
            </a:avLst>
          </a:prstGeom>
          <a:ln w="28440">
            <a:solidFill>
              <a:srgbClr val="000000"/>
            </a:solidFill>
            <a:miter/>
          </a:ln>
        </p:spPr>
      </p:cxn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8880" y="2349360"/>
            <a:ext cx="1871640" cy="190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0160" y="1682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L-Modell der Geschäftsob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68520" y="2708280"/>
            <a:ext cx="766800" cy="417600"/>
          </a:xfrm>
          <a:prstGeom prst="rightArrow">
            <a:avLst>
              <a:gd name="adj1" fmla="val 50000"/>
              <a:gd name="adj2" fmla="val 459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627440" y="1831320"/>
            <a:ext cx="468360" cy="417600"/>
          </a:xfrm>
          <a:prstGeom prst="rightArrow">
            <a:avLst>
              <a:gd name="adj1" fmla="val 49815"/>
              <a:gd name="adj2" fmla="val 69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5" idx="1"/>
            <a:endCxn id="214" idx="3"/>
          </p:cNvCxnSpPr>
          <p:nvPr/>
        </p:nvCxnSpPr>
        <p:spPr>
          <a:xfrm flipH="1">
            <a:off x="6357960" y="2408400"/>
            <a:ext cx="64332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0" name=""/>
          <p:cNvCxnSpPr>
            <a:stCxn id="216" idx="1"/>
            <a:endCxn id="214" idx="3"/>
          </p:cNvCxnSpPr>
          <p:nvPr/>
        </p:nvCxnSpPr>
        <p:spPr>
          <a:xfrm flipH="1" flipV="1">
            <a:off x="6357960" y="2904480"/>
            <a:ext cx="6433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1" name=""/>
          <p:cNvCxnSpPr>
            <a:stCxn id="215" idx="2"/>
            <a:endCxn id="216" idx="0"/>
          </p:cNvCxnSpPr>
          <p:nvPr/>
        </p:nvCxnSpPr>
        <p:spPr>
          <a:xfrm>
            <a:off x="8192880" y="261144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2" name=""/>
          <p:cNvSpPr/>
          <p:nvPr/>
        </p:nvSpPr>
        <p:spPr>
          <a:xfrm>
            <a:off x="7040160" y="55879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Berichte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56246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ehö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14B2-BDD9-4B8C-B2C8-C33EEDB5F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MF – Eclipse Modelling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86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assen, Attribute, Assoziationen, K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8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kte Beschreibung von Objek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8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or gener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80000"/>
              </a:lnSpc>
              <a:spcAft>
                <a:spcPts val="876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-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80000"/>
              </a:lnSpc>
              <a:spcAft>
                <a:spcPts val="876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fä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80000"/>
              </a:lnSpc>
              <a:spcAft>
                <a:spcPts val="876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8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 im Programm verfüg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80000"/>
              </a:lnSpc>
              <a:spcAft>
                <a:spcPts val="876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sche Algorithm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8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/XMI als Serialisierungs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cheffiziente Implementation eines Kerns des MOF (Meta Object Facility) der OMG  (Object Management Grou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clipse selbst an vielen Stellen verwend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07040" y="1413000"/>
            <a:ext cx="1528560" cy="1295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094520" y="180324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goU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Modell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67800" y="3432600"/>
            <a:ext cx="1607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F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2720" y="2811600"/>
            <a:ext cx="21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o2E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Konver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0600" y="2781360"/>
            <a:ext cx="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91320" y="2889360"/>
            <a:ext cx="358560" cy="323280"/>
            <a:chOff x="5791320" y="2889360"/>
            <a:chExt cx="358560" cy="323280"/>
          </a:xfrm>
        </p:grpSpPr>
        <p:sp>
          <p:nvSpPr>
            <p:cNvPr id="242" name=""/>
            <p:cNvSpPr/>
            <p:nvPr/>
          </p:nvSpPr>
          <p:spPr>
            <a:xfrm>
              <a:off x="5802480" y="3018600"/>
              <a:ext cx="51480" cy="3780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91320" y="3075120"/>
              <a:ext cx="57240" cy="2808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01040" y="3123000"/>
              <a:ext cx="61560" cy="2520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35960" y="3153960"/>
              <a:ext cx="57600" cy="3492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62600" y="3153960"/>
              <a:ext cx="41760" cy="252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72320" y="3186360"/>
              <a:ext cx="50040" cy="237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2120" y="3170880"/>
              <a:ext cx="47520" cy="3924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0480" y="3170880"/>
              <a:ext cx="52920" cy="2088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1080" y="3190320"/>
              <a:ext cx="53280" cy="22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66640" y="316656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74920" y="3160800"/>
              <a:ext cx="38880" cy="266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9040" y="307512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6160" y="3072240"/>
              <a:ext cx="3060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3280" y="306972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0400" y="306540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98960" y="306072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97520" y="305676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6080" y="3052440"/>
              <a:ext cx="3060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6080" y="304704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96080" y="304272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7520" y="303696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97520" y="3033000"/>
              <a:ext cx="30600" cy="2772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98960" y="302724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1840" y="3022920"/>
              <a:ext cx="30600" cy="291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03280" y="3018600"/>
              <a:ext cx="30600" cy="295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06160" y="3014640"/>
              <a:ext cx="30600" cy="29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09040" y="301032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13000" y="300636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17320" y="300348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21640" y="29988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25600" y="299628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29920" y="29934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35680" y="299196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0000" y="298908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5400" y="298908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0800" y="298800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56560" y="298800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2320" y="298656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67720" y="298656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73480" y="2988000"/>
              <a:ext cx="29520" cy="2772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77440" y="2989080"/>
              <a:ext cx="3096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81760" y="298908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87520" y="2991960"/>
              <a:ext cx="27720" cy="28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90400" y="2993400"/>
              <a:ext cx="2952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4720" y="2996280"/>
              <a:ext cx="29160" cy="29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63760" y="2893680"/>
              <a:ext cx="34920" cy="478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2440" y="2892240"/>
              <a:ext cx="25200" cy="518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67080" y="2911680"/>
              <a:ext cx="32400" cy="532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080" y="2970720"/>
              <a:ext cx="29160" cy="478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080" y="2952360"/>
              <a:ext cx="40320" cy="4644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03800" y="2938680"/>
              <a:ext cx="30960" cy="435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1280" y="3025800"/>
              <a:ext cx="24840" cy="40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03800" y="3011760"/>
              <a:ext cx="46080" cy="40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7560" y="2993400"/>
              <a:ext cx="21960" cy="4644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06960" y="3169440"/>
              <a:ext cx="44640" cy="28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25320" y="3139920"/>
              <a:ext cx="28080" cy="5040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28200" y="3125520"/>
              <a:ext cx="46080" cy="363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50520" y="3125520"/>
              <a:ext cx="47520" cy="2664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72840" y="3113280"/>
              <a:ext cx="40320" cy="3924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77160" y="309348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77160" y="3076560"/>
              <a:ext cx="33840" cy="403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6880" y="3070800"/>
              <a:ext cx="50400" cy="309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4960" y="3052440"/>
              <a:ext cx="29520" cy="435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2889360"/>
              <a:ext cx="337680" cy="30564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941360" y="4536000"/>
            <a:ext cx="2059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v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11680" y="5985000"/>
            <a:ext cx="719280" cy="468360"/>
          </a:xfrm>
          <a:prstGeom prst="flowChartMagneticDisk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78280" y="97488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ere Werkzeugk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70600" y="5300640"/>
            <a:ext cx="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70600" y="3860640"/>
            <a:ext cx="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91320" y="3968640"/>
            <a:ext cx="358560" cy="324000"/>
            <a:chOff x="5791320" y="3968640"/>
            <a:chExt cx="358560" cy="324000"/>
          </a:xfrm>
        </p:grpSpPr>
        <p:sp>
          <p:nvSpPr>
            <p:cNvPr id="312" name=""/>
            <p:cNvSpPr/>
            <p:nvPr/>
          </p:nvSpPr>
          <p:spPr>
            <a:xfrm>
              <a:off x="5802480" y="4098240"/>
              <a:ext cx="51480" cy="3780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4154760"/>
              <a:ext cx="57240" cy="2808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1040" y="4202640"/>
              <a:ext cx="61560" cy="2520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5960" y="4233600"/>
              <a:ext cx="57600" cy="3492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62600" y="4233600"/>
              <a:ext cx="41760" cy="252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72320" y="4266000"/>
              <a:ext cx="50040" cy="237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92120" y="4250160"/>
              <a:ext cx="47520" cy="3924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10480" y="4250160"/>
              <a:ext cx="52920" cy="2088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41080" y="4269960"/>
              <a:ext cx="53280" cy="2268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6640" y="4246200"/>
              <a:ext cx="36360" cy="4356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4920" y="4240440"/>
              <a:ext cx="38880" cy="266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09040" y="415476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06160" y="4151880"/>
              <a:ext cx="3060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3280" y="414900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0400" y="414468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98960" y="414036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97520" y="413640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96080" y="4132080"/>
              <a:ext cx="3060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96080" y="412632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96080" y="412200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97520" y="411660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97520" y="4112280"/>
              <a:ext cx="30600" cy="2772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98960" y="410652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01840" y="4102560"/>
              <a:ext cx="30600" cy="291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03280" y="4098240"/>
              <a:ext cx="30600" cy="295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06160" y="4094280"/>
              <a:ext cx="30600" cy="29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9040" y="40896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13000" y="408564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17320" y="408276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21640" y="407844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25600" y="407592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29920" y="407304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07160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000" y="406836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45400" y="406836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50800" y="406728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56560" y="406728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2320" y="406584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67720" y="406584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73480" y="4067280"/>
              <a:ext cx="29520" cy="2772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77440" y="4068360"/>
              <a:ext cx="3096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1760" y="406836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520" y="4071600"/>
              <a:ext cx="27720" cy="28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90400" y="4073040"/>
              <a:ext cx="2952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94720" y="4075920"/>
              <a:ext cx="29160" cy="29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3760" y="3972960"/>
              <a:ext cx="34920" cy="478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22440" y="3971520"/>
              <a:ext cx="25200" cy="518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67080" y="3990960"/>
              <a:ext cx="32400" cy="532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080" y="4050360"/>
              <a:ext cx="29160" cy="478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4080" y="4032000"/>
              <a:ext cx="40320" cy="4644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03800" y="4017960"/>
              <a:ext cx="30960" cy="435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01280" y="4105080"/>
              <a:ext cx="24840" cy="40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4091040"/>
              <a:ext cx="46080" cy="40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560" y="4073040"/>
              <a:ext cx="21960" cy="4644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06960" y="4248720"/>
              <a:ext cx="44640" cy="28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25320" y="4219560"/>
              <a:ext cx="28080" cy="5040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28200" y="4205160"/>
              <a:ext cx="46080" cy="363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50520" y="4205160"/>
              <a:ext cx="47520" cy="2664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72840" y="4192560"/>
              <a:ext cx="40320" cy="3924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77160" y="4173120"/>
              <a:ext cx="36360" cy="4356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77160" y="4156200"/>
              <a:ext cx="33840" cy="4068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6880" y="4150440"/>
              <a:ext cx="50400" cy="309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4960" y="4132080"/>
              <a:ext cx="29520" cy="4392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968640"/>
              <a:ext cx="337680" cy="30600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700600" y="5437440"/>
            <a:ext cx="540000" cy="307080"/>
          </a:xfrm>
          <a:prstGeom prst="rect">
            <a:avLst/>
          </a:prstGeom>
          <a:solidFill>
            <a:srgbClr val="e7e2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/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93440" y="37530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F-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Gene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93080" y="5265720"/>
            <a:ext cx="26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neo / Hiber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erbindung zu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5E67-26E9-44B1-917E-1BD956106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00160" y="981000"/>
            <a:ext cx="720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5292"/>
                </a:solidFill>
                <a:latin typeface="Arial"/>
              </a:rPr>
              <a:t>E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57960" y="873000"/>
            <a:ext cx="2664000" cy="1043280"/>
          </a:xfrm>
          <a:prstGeom prst="rect">
            <a:avLst/>
          </a:prstGeom>
          <a:solidFill>
            <a:srgbClr val="e7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e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il der Anwe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lbasierte Mas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39800" y="3249720"/>
            <a:ext cx="2413080" cy="947520"/>
          </a:xfrm>
          <a:prstGeom prst="rect">
            <a:avLst/>
          </a:prstGeom>
          <a:solidFill>
            <a:srgbClr val="9fbad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Masken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d1, Feld2, Fel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8160" y="1197000"/>
            <a:ext cx="2016360" cy="1221840"/>
          </a:xfrm>
          <a:prstGeom prst="rect">
            <a:avLst/>
          </a:prstGeom>
          <a:solidFill>
            <a:srgbClr val="9fbad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Masken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, Section, Field, Table,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38160" y="4890960"/>
            <a:ext cx="2016360" cy="1313640"/>
          </a:xfrm>
          <a:prstGeom prst="rect">
            <a:avLst/>
          </a:prstGeom>
          <a:solidFill>
            <a:srgbClr val="9fbad3"/>
          </a:solidFill>
          <a:ln w="9360">
            <a:solidFill>
              <a:srgbClr val="3a5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-objekt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92240" y="5070600"/>
            <a:ext cx="432000" cy="287280"/>
          </a:xfrm>
          <a:prstGeom prst="rect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9080" y="5213520"/>
            <a:ext cx="431640" cy="287280"/>
          </a:xfrm>
          <a:prstGeom prst="rect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1800" y="5070600"/>
            <a:ext cx="431640" cy="287280"/>
          </a:xfrm>
          <a:prstGeom prst="rect">
            <a:avLst/>
          </a:prstGeom>
          <a:solidFill>
            <a:srgbClr val="ae9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7" idx="1"/>
            <a:endCxn id="386" idx="3"/>
          </p:cNvCxnSpPr>
          <p:nvPr/>
        </p:nvCxnSpPr>
        <p:spPr>
          <a:xfrm flipH="1">
            <a:off x="3060000" y="5214600"/>
            <a:ext cx="1818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5" idx="3"/>
            <a:endCxn id="386" idx="1"/>
          </p:cNvCxnSpPr>
          <p:nvPr/>
        </p:nvCxnSpPr>
        <p:spPr>
          <a:xfrm>
            <a:off x="2423880" y="5214600"/>
            <a:ext cx="2055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5173560" y="5011560"/>
            <a:ext cx="1435320" cy="1081440"/>
          </a:xfrm>
          <a:prstGeom prst="flowChartMagneticDisk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b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1080" y="2297160"/>
            <a:ext cx="14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tor für Masken-defini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024680" y="4149720"/>
            <a:ext cx="26449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7694640" y="2658960"/>
            <a:ext cx="1922400" cy="1191240"/>
            <a:chOff x="7694640" y="2658960"/>
            <a:chExt cx="1922400" cy="1191240"/>
          </a:xfrm>
        </p:grpSpPr>
        <p:sp>
          <p:nvSpPr>
            <p:cNvPr id="394" name=""/>
            <p:cNvSpPr/>
            <p:nvPr/>
          </p:nvSpPr>
          <p:spPr>
            <a:xfrm>
              <a:off x="7694640" y="2658960"/>
              <a:ext cx="1922400" cy="1191240"/>
            </a:xfrm>
            <a:prstGeom prst="rect">
              <a:avLst/>
            </a:prstGeom>
            <a:solidFill>
              <a:srgbClr val="9fbad3"/>
            </a:solidFill>
            <a:ln w="28440">
              <a:solidFill>
                <a:srgbClr val="3a5c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d1:     Feld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d3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02640" y="2995560"/>
              <a:ext cx="627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39120" y="3272040"/>
              <a:ext cx="110664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53400" y="2995560"/>
              <a:ext cx="627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989600" y="2922480"/>
            <a:ext cx="1850760" cy="916920"/>
            <a:chOff x="4989600" y="2922480"/>
            <a:chExt cx="1850760" cy="916920"/>
          </a:xfrm>
        </p:grpSpPr>
        <p:sp>
          <p:nvSpPr>
            <p:cNvPr id="399" name=""/>
            <p:cNvSpPr/>
            <p:nvPr/>
          </p:nvSpPr>
          <p:spPr>
            <a:xfrm>
              <a:off x="4989600" y="2922480"/>
              <a:ext cx="1850760" cy="91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a5c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d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d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6280" y="2994120"/>
              <a:ext cx="842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86280" y="3274920"/>
              <a:ext cx="842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86280" y="3540240"/>
              <a:ext cx="842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978080" y="252720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e generie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73960" y="20318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epaßt: Layou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33440" y="420516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44720" y="4205160"/>
            <a:ext cx="0" cy="100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844720" y="4205160"/>
            <a:ext cx="81936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8720" y="981000"/>
            <a:ext cx="1765440" cy="10810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k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 flipH="1">
            <a:off x="434520" y="3247920"/>
            <a:ext cx="917640" cy="936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089240" y="3608280"/>
            <a:ext cx="827280" cy="0"/>
          </a:xfrm>
          <a:prstGeom prst="line">
            <a:avLst/>
          </a:prstGeom>
          <a:ln w="28440">
            <a:solidFill>
              <a:srgbClr val="971d3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307040" y="3429000"/>
            <a:ext cx="358560" cy="324000"/>
            <a:chOff x="4307040" y="3429000"/>
            <a:chExt cx="358560" cy="324000"/>
          </a:xfrm>
        </p:grpSpPr>
        <p:sp>
          <p:nvSpPr>
            <p:cNvPr id="412" name=""/>
            <p:cNvSpPr/>
            <p:nvPr/>
          </p:nvSpPr>
          <p:spPr>
            <a:xfrm>
              <a:off x="4318200" y="3558600"/>
              <a:ext cx="51480" cy="3780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07040" y="3615120"/>
              <a:ext cx="57240" cy="2808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16760" y="3663000"/>
              <a:ext cx="61560" cy="2520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51680" y="3693960"/>
              <a:ext cx="57600" cy="3492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78320" y="3693960"/>
              <a:ext cx="41760" cy="252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88040" y="3726360"/>
              <a:ext cx="50040" cy="237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07840" y="3710520"/>
              <a:ext cx="47520" cy="3924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26200" y="3710520"/>
              <a:ext cx="52920" cy="2088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56800" y="3730320"/>
              <a:ext cx="53280" cy="2268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82360" y="3706560"/>
              <a:ext cx="36360" cy="4356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90640" y="3700800"/>
              <a:ext cx="38880" cy="266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24760" y="361512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21880" y="3612240"/>
              <a:ext cx="3060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19000" y="360936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16120" y="360504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14680" y="360072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13240" y="359676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1800" y="3592440"/>
              <a:ext cx="3060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1800" y="358668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1800" y="358236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13240" y="357696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13240" y="3572640"/>
              <a:ext cx="30600" cy="2772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14680" y="356688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7560" y="3562920"/>
              <a:ext cx="30600" cy="291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19000" y="3558600"/>
              <a:ext cx="30600" cy="295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21880" y="3554640"/>
              <a:ext cx="30600" cy="29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24760" y="354996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28720" y="354600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33040" y="354312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37360" y="35388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320" y="353628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45640" y="35334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51400" y="353196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55720" y="352872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61120" y="352872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66520" y="352764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72280" y="352764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78040" y="352620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83440" y="352620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9200" y="3527640"/>
              <a:ext cx="29520" cy="2772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3160" y="3528720"/>
              <a:ext cx="3096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7480" y="352872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03240" y="3531960"/>
              <a:ext cx="27720" cy="28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06120" y="3533400"/>
              <a:ext cx="2952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10440" y="3536280"/>
              <a:ext cx="29160" cy="29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79480" y="3433320"/>
              <a:ext cx="34920" cy="478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38160" y="3431880"/>
              <a:ext cx="25200" cy="518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800" y="3451320"/>
              <a:ext cx="32400" cy="532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09800" y="3510720"/>
              <a:ext cx="29160" cy="478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09800" y="3492360"/>
              <a:ext cx="40320" cy="4644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19520" y="3478320"/>
              <a:ext cx="30960" cy="435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17000" y="3565440"/>
              <a:ext cx="24840" cy="40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19520" y="3551400"/>
              <a:ext cx="46080" cy="40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3280" y="3533400"/>
              <a:ext cx="21960" cy="4644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2680" y="3709080"/>
              <a:ext cx="44640" cy="28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41040" y="3679920"/>
              <a:ext cx="28080" cy="5040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43920" y="3665520"/>
              <a:ext cx="46080" cy="363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66240" y="3665520"/>
              <a:ext cx="47520" cy="2664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88560" y="3652920"/>
              <a:ext cx="40320" cy="3924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92880" y="3633480"/>
              <a:ext cx="36360" cy="4356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92880" y="3616560"/>
              <a:ext cx="33840" cy="4068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02600" y="3610800"/>
              <a:ext cx="50400" cy="309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30680" y="3592440"/>
              <a:ext cx="29520" cy="4392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07040" y="3429000"/>
              <a:ext cx="337680" cy="30600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 flipV="1">
            <a:off x="3800520" y="2023920"/>
            <a:ext cx="1116000" cy="1152720"/>
          </a:xfrm>
          <a:prstGeom prst="line">
            <a:avLst/>
          </a:prstGeom>
          <a:ln w="28440">
            <a:solidFill>
              <a:srgbClr val="971d3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340160" y="2276640"/>
            <a:ext cx="358920" cy="323280"/>
            <a:chOff x="4340160" y="2276640"/>
            <a:chExt cx="358920" cy="323280"/>
          </a:xfrm>
        </p:grpSpPr>
        <p:sp>
          <p:nvSpPr>
            <p:cNvPr id="478" name=""/>
            <p:cNvSpPr/>
            <p:nvPr/>
          </p:nvSpPr>
          <p:spPr>
            <a:xfrm>
              <a:off x="4351320" y="2405880"/>
              <a:ext cx="51480" cy="3780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40160" y="2462400"/>
              <a:ext cx="57600" cy="2808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49880" y="2510280"/>
              <a:ext cx="61560" cy="2520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84800" y="2541240"/>
              <a:ext cx="57600" cy="3492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11440" y="2541240"/>
              <a:ext cx="41760" cy="252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21520" y="2573640"/>
              <a:ext cx="50040" cy="237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40960" y="2558160"/>
              <a:ext cx="47520" cy="3924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59320" y="2558160"/>
              <a:ext cx="52920" cy="2088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9920" y="2577600"/>
              <a:ext cx="53280" cy="22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5480" y="255384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3760" y="2548080"/>
              <a:ext cx="38880" cy="266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7880" y="246240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55000" y="2459520"/>
              <a:ext cx="3060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52480" y="245700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49600" y="245268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48160" y="244800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46720" y="244404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45280" y="2439720"/>
              <a:ext cx="3060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45280" y="243432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45280" y="243000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46720" y="242424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46720" y="2420280"/>
              <a:ext cx="30600" cy="2772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48160" y="241452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51040" y="2410200"/>
              <a:ext cx="30600" cy="291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52480" y="2405880"/>
              <a:ext cx="30600" cy="295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55000" y="2401920"/>
              <a:ext cx="30600" cy="29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57880" y="23976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61840" y="239364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6160" y="239076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70480" y="238608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74800" y="238356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79120" y="238068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84520" y="237924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88840" y="237636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94240" y="237636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00000" y="237528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05760" y="237528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1160" y="237384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16560" y="237384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2320" y="2375280"/>
              <a:ext cx="29520" cy="2772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26640" y="2376360"/>
              <a:ext cx="3096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30960" y="237636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36360" y="2379240"/>
              <a:ext cx="27720" cy="28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39240" y="2380680"/>
              <a:ext cx="2952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43560" y="2383560"/>
              <a:ext cx="29160" cy="29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12600" y="2280960"/>
              <a:ext cx="34920" cy="478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1280" y="2279520"/>
              <a:ext cx="25200" cy="518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16280" y="2298960"/>
              <a:ext cx="32400" cy="532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3280" y="2358000"/>
              <a:ext cx="29160" cy="478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3280" y="2339640"/>
              <a:ext cx="40320" cy="4644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52640" y="2325960"/>
              <a:ext cx="30960" cy="435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50120" y="2413080"/>
              <a:ext cx="24840" cy="40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52640" y="2399040"/>
              <a:ext cx="46080" cy="40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76760" y="2380680"/>
              <a:ext cx="22320" cy="4644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56160" y="2556720"/>
              <a:ext cx="44640" cy="28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74160" y="2527200"/>
              <a:ext cx="28080" cy="5040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77040" y="2512800"/>
              <a:ext cx="46080" cy="363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9360" y="2512800"/>
              <a:ext cx="47520" cy="2664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22040" y="2500560"/>
              <a:ext cx="40320" cy="3924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26360" y="248076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26360" y="2463840"/>
              <a:ext cx="33840" cy="403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36080" y="2458080"/>
              <a:ext cx="50400" cy="309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64160" y="2439720"/>
              <a:ext cx="29520" cy="435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40160" y="2276640"/>
              <a:ext cx="338040" cy="30564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897600" y="3608280"/>
            <a:ext cx="739800" cy="0"/>
          </a:xfrm>
          <a:prstGeom prst="line">
            <a:avLst/>
          </a:prstGeom>
          <a:ln w="28440">
            <a:solidFill>
              <a:srgbClr val="971d3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 flipH="1">
            <a:off x="6897600" y="2779560"/>
            <a:ext cx="741600" cy="757440"/>
          </a:xfrm>
          <a:prstGeom prst="rect">
            <a:avLst/>
          </a:prstGeom>
          <a:ln w="0">
            <a:noFill/>
          </a:ln>
        </p:spPr>
      </p:pic>
      <p:cxnSp>
        <p:nvCxnSpPr>
          <p:cNvPr id="544" name=""/>
          <p:cNvCxnSpPr>
            <a:stCxn id="383" idx="1"/>
            <a:endCxn id="391" idx="0"/>
          </p:cNvCxnSpPr>
          <p:nvPr/>
        </p:nvCxnSpPr>
        <p:spPr>
          <a:xfrm flipV="1" rot="10800000">
            <a:off x="893160" y="1811880"/>
            <a:ext cx="945000" cy="484920"/>
          </a:xfrm>
          <a:prstGeom prst="bentConnector2">
            <a:avLst/>
          </a:prstGeom>
          <a:ln w="28440">
            <a:solidFill>
              <a:srgbClr val="971d37"/>
            </a:solidFill>
            <a:miter/>
            <a:tailEnd len="lg" type="triangle" w="lg"/>
          </a:ln>
        </p:spPr>
      </p:cxnSp>
      <p:sp>
        <p:nvSpPr>
          <p:cNvPr id="545" name=""/>
          <p:cNvSpPr/>
          <p:nvPr/>
        </p:nvSpPr>
        <p:spPr>
          <a:xfrm>
            <a:off x="3992040" y="52531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stan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"/>
          <p:cNvCxnSpPr>
            <a:stCxn id="390" idx="2"/>
            <a:endCxn id="384" idx="3"/>
          </p:cNvCxnSpPr>
          <p:nvPr/>
        </p:nvCxnSpPr>
        <p:spPr>
          <a:xfrm flipH="1" flipV="1">
            <a:off x="3854160" y="5551200"/>
            <a:ext cx="131976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547" name=""/>
          <p:cNvGrpSpPr/>
          <p:nvPr/>
        </p:nvGrpSpPr>
        <p:grpSpPr>
          <a:xfrm>
            <a:off x="1173240" y="1665360"/>
            <a:ext cx="358560" cy="323280"/>
            <a:chOff x="1173240" y="1665360"/>
            <a:chExt cx="358560" cy="323280"/>
          </a:xfrm>
        </p:grpSpPr>
        <p:sp>
          <p:nvSpPr>
            <p:cNvPr id="548" name=""/>
            <p:cNvSpPr/>
            <p:nvPr/>
          </p:nvSpPr>
          <p:spPr>
            <a:xfrm>
              <a:off x="1184400" y="1794600"/>
              <a:ext cx="51480" cy="3780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73240" y="1851120"/>
              <a:ext cx="57240" cy="2808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2960" y="1899000"/>
              <a:ext cx="61560" cy="2520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7880" y="1929960"/>
              <a:ext cx="57600" cy="3492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44520" y="1929960"/>
              <a:ext cx="41760" cy="2520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4240" y="1962360"/>
              <a:ext cx="50040" cy="237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74040" y="1946880"/>
              <a:ext cx="47520" cy="3924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92400" y="1946880"/>
              <a:ext cx="52920" cy="2088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3000" y="1966320"/>
              <a:ext cx="53280" cy="2232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48560" y="194256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56840" y="1936800"/>
              <a:ext cx="38880" cy="266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0960" y="185112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88080" y="1848240"/>
              <a:ext cx="3060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85200" y="184572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82320" y="1841400"/>
              <a:ext cx="30600" cy="266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80880" y="183672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79440" y="183276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78000" y="1828440"/>
              <a:ext cx="3060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78000" y="182304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78000" y="1818720"/>
              <a:ext cx="29160" cy="28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79440" y="1812960"/>
              <a:ext cx="2916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79440" y="1809000"/>
              <a:ext cx="30600" cy="2772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80880" y="180324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83760" y="1798920"/>
              <a:ext cx="30600" cy="291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85200" y="1794600"/>
              <a:ext cx="30600" cy="295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88080" y="1790640"/>
              <a:ext cx="30600" cy="29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0960" y="178632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94920" y="178236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99240" y="177948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03560" y="17748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07520" y="1772280"/>
              <a:ext cx="32400" cy="2916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11840" y="176940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17600" y="1767960"/>
              <a:ext cx="32040" cy="2808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21920" y="1765080"/>
              <a:ext cx="32040" cy="2952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27320" y="176508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32720" y="176400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38480" y="1764000"/>
              <a:ext cx="32040" cy="266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44240" y="1762560"/>
              <a:ext cx="32400" cy="2664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49640" y="1762560"/>
              <a:ext cx="30960" cy="28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55400" y="1764000"/>
              <a:ext cx="29520" cy="2772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59360" y="1765080"/>
              <a:ext cx="30960" cy="2664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63680" y="1765080"/>
              <a:ext cx="30960" cy="2952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69440" y="1767960"/>
              <a:ext cx="27720" cy="28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72320" y="1769400"/>
              <a:ext cx="29520" cy="2952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76640" y="1772280"/>
              <a:ext cx="29160" cy="29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45680" y="1669680"/>
              <a:ext cx="34920" cy="478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04360" y="1668240"/>
              <a:ext cx="25200" cy="518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9000" y="1687680"/>
              <a:ext cx="32400" cy="532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76000" y="1746720"/>
              <a:ext cx="29160" cy="478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76000" y="1728360"/>
              <a:ext cx="40320" cy="4644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85720" y="1714680"/>
              <a:ext cx="30960" cy="435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83200" y="1801800"/>
              <a:ext cx="24840" cy="40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85720" y="1787760"/>
              <a:ext cx="46080" cy="40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09480" y="1769400"/>
              <a:ext cx="21960" cy="4644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88880" y="1945440"/>
              <a:ext cx="44640" cy="28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07240" y="1915920"/>
              <a:ext cx="28080" cy="5040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10120" y="1901520"/>
              <a:ext cx="46080" cy="363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2440" y="1901520"/>
              <a:ext cx="47520" cy="2664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54760" y="1889280"/>
              <a:ext cx="40320" cy="3924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59080" y="1869480"/>
              <a:ext cx="36360" cy="432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9080" y="1852560"/>
              <a:ext cx="33840" cy="403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68800" y="1846800"/>
              <a:ext cx="50400" cy="309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96880" y="1828440"/>
              <a:ext cx="29520" cy="435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73240" y="1665360"/>
              <a:ext cx="337680" cy="30564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262960" y="266076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stan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"/>
          <p:cNvCxnSpPr>
            <a:stCxn id="382" idx="0"/>
            <a:endCxn id="383" idx="2"/>
          </p:cNvCxnSpPr>
          <p:nvPr/>
        </p:nvCxnSpPr>
        <p:spPr>
          <a:xfrm flipV="1">
            <a:off x="2846160" y="2426400"/>
            <a:ext cx="1080" cy="8233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614" name=""/>
          <p:cNvGrpSpPr/>
          <p:nvPr/>
        </p:nvGrpSpPr>
        <p:grpSpPr>
          <a:xfrm>
            <a:off x="7365960" y="1231920"/>
            <a:ext cx="324000" cy="252360"/>
            <a:chOff x="7365960" y="1231920"/>
            <a:chExt cx="324000" cy="252360"/>
          </a:xfrm>
        </p:grpSpPr>
        <p:sp>
          <p:nvSpPr>
            <p:cNvPr id="615" name=""/>
            <p:cNvSpPr/>
            <p:nvPr/>
          </p:nvSpPr>
          <p:spPr>
            <a:xfrm>
              <a:off x="7376040" y="1332720"/>
              <a:ext cx="46440" cy="29520"/>
            </a:xfrm>
            <a:custGeom>
              <a:avLst/>
              <a:gdLst/>
              <a:ahLst/>
              <a:rect l="l" t="t" r="r" b="b"/>
              <a:pathLst>
                <a:path w="179" h="131">
                  <a:moveTo>
                    <a:pt x="0" y="0"/>
                  </a:moveTo>
                  <a:lnTo>
                    <a:pt x="72" y="49"/>
                  </a:lnTo>
                  <a:lnTo>
                    <a:pt x="179" y="131"/>
                  </a:lnTo>
                  <a:lnTo>
                    <a:pt x="111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1376640"/>
              <a:ext cx="51840" cy="21600"/>
            </a:xfrm>
            <a:custGeom>
              <a:avLst/>
              <a:gdLst/>
              <a:ahLst/>
              <a:rect l="l" t="t" r="r" b="b"/>
              <a:pathLst>
                <a:path w="199" h="97">
                  <a:moveTo>
                    <a:pt x="0" y="0"/>
                  </a:moveTo>
                  <a:lnTo>
                    <a:pt x="92" y="19"/>
                  </a:lnTo>
                  <a:lnTo>
                    <a:pt x="199" y="97"/>
                  </a:lnTo>
                  <a:lnTo>
                    <a:pt x="1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74600" y="1414080"/>
              <a:ext cx="55440" cy="1944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19"/>
                  </a:moveTo>
                  <a:lnTo>
                    <a:pt x="102" y="0"/>
                  </a:lnTo>
                  <a:lnTo>
                    <a:pt x="213" y="72"/>
                  </a:lnTo>
                  <a:lnTo>
                    <a:pt x="116" y="8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06280" y="1438200"/>
              <a:ext cx="51840" cy="2736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0" y="53"/>
                  </a:moveTo>
                  <a:lnTo>
                    <a:pt x="92" y="0"/>
                  </a:lnTo>
                  <a:lnTo>
                    <a:pt x="199" y="73"/>
                  </a:lnTo>
                  <a:lnTo>
                    <a:pt x="107" y="12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30400" y="1438200"/>
              <a:ext cx="37800" cy="19440"/>
            </a:xfrm>
            <a:custGeom>
              <a:avLst/>
              <a:gdLst/>
              <a:ahLst/>
              <a:rect l="l" t="t" r="r" b="b"/>
              <a:pathLst>
                <a:path w="145" h="87">
                  <a:moveTo>
                    <a:pt x="0" y="0"/>
                  </a:moveTo>
                  <a:lnTo>
                    <a:pt x="44" y="20"/>
                  </a:lnTo>
                  <a:lnTo>
                    <a:pt x="145" y="87"/>
                  </a:lnTo>
                  <a:lnTo>
                    <a:pt x="107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9400" y="1463760"/>
              <a:ext cx="45360" cy="18360"/>
            </a:xfrm>
            <a:custGeom>
              <a:avLst/>
              <a:gdLst/>
              <a:ahLst/>
              <a:rect l="l" t="t" r="r" b="b"/>
              <a:pathLst>
                <a:path w="174" h="82">
                  <a:moveTo>
                    <a:pt x="0" y="0"/>
                  </a:moveTo>
                  <a:lnTo>
                    <a:pt x="68" y="19"/>
                  </a:lnTo>
                  <a:lnTo>
                    <a:pt x="174" y="82"/>
                  </a:lnTo>
                  <a:lnTo>
                    <a:pt x="11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57040" y="1451520"/>
              <a:ext cx="42840" cy="30600"/>
            </a:xfrm>
            <a:custGeom>
              <a:avLst/>
              <a:gdLst/>
              <a:ahLst/>
              <a:rect l="l" t="t" r="r" b="b"/>
              <a:pathLst>
                <a:path w="165" h="136">
                  <a:moveTo>
                    <a:pt x="0" y="73"/>
                  </a:moveTo>
                  <a:lnTo>
                    <a:pt x="63" y="0"/>
                  </a:lnTo>
                  <a:lnTo>
                    <a:pt x="165" y="68"/>
                  </a:lnTo>
                  <a:lnTo>
                    <a:pt x="106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73600" y="1451520"/>
              <a:ext cx="47880" cy="16200"/>
            </a:xfrm>
            <a:custGeom>
              <a:avLst/>
              <a:gdLst/>
              <a:ahLst/>
              <a:rect l="l" t="t" r="r" b="b"/>
              <a:pathLst>
                <a:path w="184" h="73">
                  <a:moveTo>
                    <a:pt x="0" y="0"/>
                  </a:moveTo>
                  <a:lnTo>
                    <a:pt x="82" y="5"/>
                  </a:lnTo>
                  <a:lnTo>
                    <a:pt x="184" y="73"/>
                  </a:lnTo>
                  <a:lnTo>
                    <a:pt x="102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01320" y="1466640"/>
              <a:ext cx="48240" cy="17640"/>
            </a:xfrm>
            <a:custGeom>
              <a:avLst/>
              <a:gdLst/>
              <a:ahLst/>
              <a:rect l="l" t="t" r="r" b="b"/>
              <a:pathLst>
                <a:path w="185" h="78">
                  <a:moveTo>
                    <a:pt x="0" y="15"/>
                  </a:moveTo>
                  <a:lnTo>
                    <a:pt x="88" y="0"/>
                  </a:lnTo>
                  <a:lnTo>
                    <a:pt x="185" y="68"/>
                  </a:lnTo>
                  <a:lnTo>
                    <a:pt x="102" y="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24360" y="1448280"/>
              <a:ext cx="32760" cy="33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0" y="82"/>
                  </a:moveTo>
                  <a:lnTo>
                    <a:pt x="29" y="0"/>
                  </a:lnTo>
                  <a:lnTo>
                    <a:pt x="126" y="72"/>
                  </a:lnTo>
                  <a:lnTo>
                    <a:pt x="97" y="15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31920" y="1443600"/>
              <a:ext cx="35280" cy="2052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20"/>
                  </a:moveTo>
                  <a:lnTo>
                    <a:pt x="43" y="0"/>
                  </a:lnTo>
                  <a:lnTo>
                    <a:pt x="135" y="73"/>
                  </a:lnTo>
                  <a:lnTo>
                    <a:pt x="97" y="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2160" y="1376640"/>
              <a:ext cx="28800" cy="2052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0" y="14"/>
                  </a:moveTo>
                  <a:lnTo>
                    <a:pt x="0" y="0"/>
                  </a:lnTo>
                  <a:lnTo>
                    <a:pt x="97" y="82"/>
                  </a:lnTo>
                  <a:lnTo>
                    <a:pt x="111" y="9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9640" y="1374480"/>
              <a:ext cx="27720" cy="2052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" y="10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67120" y="1372320"/>
              <a:ext cx="27360" cy="205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9" y="9"/>
                  </a:moveTo>
                  <a:lnTo>
                    <a:pt x="0" y="0"/>
                  </a:lnTo>
                  <a:lnTo>
                    <a:pt x="96" y="77"/>
                  </a:lnTo>
                  <a:lnTo>
                    <a:pt x="106" y="9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64600" y="1369080"/>
              <a:ext cx="27360" cy="205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10" y="15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6" y="92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3520" y="1365840"/>
              <a:ext cx="27720" cy="2160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97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2080" y="1362600"/>
              <a:ext cx="26280" cy="2196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5" y="14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9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0640" y="1359000"/>
              <a:ext cx="27720" cy="2196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5" y="15"/>
                  </a:moveTo>
                  <a:lnTo>
                    <a:pt x="0" y="0"/>
                  </a:lnTo>
                  <a:lnTo>
                    <a:pt x="102" y="83"/>
                  </a:lnTo>
                  <a:lnTo>
                    <a:pt x="107" y="97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60640" y="1354680"/>
              <a:ext cx="26280" cy="2304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102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0640" y="1351440"/>
              <a:ext cx="26280" cy="2196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0" y="15"/>
                  </a:moveTo>
                  <a:lnTo>
                    <a:pt x="5" y="0"/>
                  </a:lnTo>
                  <a:lnTo>
                    <a:pt x="102" y="83"/>
                  </a:lnTo>
                  <a:lnTo>
                    <a:pt x="102" y="9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2080" y="1347120"/>
              <a:ext cx="26280" cy="2304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19"/>
                  </a:moveTo>
                  <a:lnTo>
                    <a:pt x="0" y="0"/>
                  </a:lnTo>
                  <a:lnTo>
                    <a:pt x="102" y="82"/>
                  </a:lnTo>
                  <a:lnTo>
                    <a:pt x="97" y="10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62080" y="1343880"/>
              <a:ext cx="27720" cy="2160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0" y="14"/>
                  </a:moveTo>
                  <a:lnTo>
                    <a:pt x="5" y="0"/>
                  </a:lnTo>
                  <a:lnTo>
                    <a:pt x="107" y="82"/>
                  </a:lnTo>
                  <a:lnTo>
                    <a:pt x="102" y="9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63520" y="1339200"/>
              <a:ext cx="27720" cy="2304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20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102" y="10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66040" y="1336320"/>
              <a:ext cx="27360" cy="2268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0" y="14"/>
                  </a:moveTo>
                  <a:lnTo>
                    <a:pt x="5" y="0"/>
                  </a:lnTo>
                  <a:lnTo>
                    <a:pt x="106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7120" y="1332720"/>
              <a:ext cx="27360" cy="2304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0" y="15"/>
                  </a:moveTo>
                  <a:lnTo>
                    <a:pt x="9" y="0"/>
                  </a:lnTo>
                  <a:lnTo>
                    <a:pt x="106" y="87"/>
                  </a:lnTo>
                  <a:lnTo>
                    <a:pt x="101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9640" y="1329480"/>
              <a:ext cx="27720" cy="226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14"/>
                  </a:moveTo>
                  <a:lnTo>
                    <a:pt x="10" y="0"/>
                  </a:lnTo>
                  <a:lnTo>
                    <a:pt x="107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2160" y="1326240"/>
              <a:ext cx="28800" cy="2304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87"/>
                  </a:lnTo>
                  <a:lnTo>
                    <a:pt x="97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75760" y="1323000"/>
              <a:ext cx="29160" cy="2268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14"/>
                  </a:moveTo>
                  <a:lnTo>
                    <a:pt x="15" y="0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9720" y="1320840"/>
              <a:ext cx="28800" cy="2160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10"/>
                  </a:moveTo>
                  <a:lnTo>
                    <a:pt x="15" y="0"/>
                  </a:lnTo>
                  <a:lnTo>
                    <a:pt x="111" y="87"/>
                  </a:lnTo>
                  <a:lnTo>
                    <a:pt x="97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83680" y="1317240"/>
              <a:ext cx="28800" cy="2304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5"/>
                  </a:moveTo>
                  <a:lnTo>
                    <a:pt x="14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87280" y="1315440"/>
              <a:ext cx="29160" cy="2268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9"/>
                  </a:moveTo>
                  <a:lnTo>
                    <a:pt x="15" y="0"/>
                  </a:lnTo>
                  <a:lnTo>
                    <a:pt x="112" y="92"/>
                  </a:lnTo>
                  <a:lnTo>
                    <a:pt x="97" y="10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91240" y="1313280"/>
              <a:ext cx="28800" cy="2304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7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96280" y="1311840"/>
              <a:ext cx="28800" cy="2160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0" y="5"/>
                  </a:moveTo>
                  <a:lnTo>
                    <a:pt x="15" y="0"/>
                  </a:lnTo>
                  <a:lnTo>
                    <a:pt x="111" y="92"/>
                  </a:lnTo>
                  <a:lnTo>
                    <a:pt x="92" y="9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00240" y="1309680"/>
              <a:ext cx="28800" cy="23040"/>
            </a:xfrm>
            <a:custGeom>
              <a:avLst/>
              <a:gdLst/>
              <a:ahLst/>
              <a:rect l="l" t="t" r="r" b="b"/>
              <a:pathLst>
                <a:path w="111" h="102">
                  <a:moveTo>
                    <a:pt x="0" y="10"/>
                  </a:moveTo>
                  <a:lnTo>
                    <a:pt x="19" y="0"/>
                  </a:lnTo>
                  <a:lnTo>
                    <a:pt x="111" y="92"/>
                  </a:lnTo>
                  <a:lnTo>
                    <a:pt x="96" y="10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05280" y="1309680"/>
              <a:ext cx="28800" cy="2052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8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09960" y="1308960"/>
              <a:ext cx="29160" cy="205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4"/>
                  </a:moveTo>
                  <a:lnTo>
                    <a:pt x="20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15360" y="1308960"/>
              <a:ext cx="28800" cy="2052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0" y="0"/>
                  </a:moveTo>
                  <a:lnTo>
                    <a:pt x="19" y="0"/>
                  </a:lnTo>
                  <a:lnTo>
                    <a:pt x="111" y="87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20400" y="1307520"/>
              <a:ext cx="29160" cy="205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0" y="5"/>
                  </a:moveTo>
                  <a:lnTo>
                    <a:pt x="19" y="0"/>
                  </a:lnTo>
                  <a:lnTo>
                    <a:pt x="112" y="92"/>
                  </a:lnTo>
                  <a:lnTo>
                    <a:pt x="92" y="9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25440" y="1307520"/>
              <a:ext cx="27720" cy="2196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0" y="0"/>
                  </a:moveTo>
                  <a:lnTo>
                    <a:pt x="20" y="5"/>
                  </a:lnTo>
                  <a:lnTo>
                    <a:pt x="107" y="97"/>
                  </a:lnTo>
                  <a:lnTo>
                    <a:pt x="9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30480" y="1308960"/>
              <a:ext cx="26640" cy="21600"/>
            </a:xfrm>
            <a:custGeom>
              <a:avLst/>
              <a:gdLst/>
              <a:ahLst/>
              <a:rect l="l" t="t" r="r" b="b"/>
              <a:pathLst>
                <a:path w="102" h="96">
                  <a:moveTo>
                    <a:pt x="0" y="0"/>
                  </a:moveTo>
                  <a:lnTo>
                    <a:pt x="14" y="4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34080" y="1309680"/>
              <a:ext cx="27720" cy="2052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0" y="0"/>
                  </a:moveTo>
                  <a:lnTo>
                    <a:pt x="15" y="0"/>
                  </a:lnTo>
                  <a:lnTo>
                    <a:pt x="107" y="92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38040" y="1309680"/>
              <a:ext cx="27720" cy="2304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0"/>
                  </a:moveTo>
                  <a:lnTo>
                    <a:pt x="19" y="10"/>
                  </a:lnTo>
                  <a:lnTo>
                    <a:pt x="107" y="102"/>
                  </a:lnTo>
                  <a:lnTo>
                    <a:pt x="92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43080" y="1311840"/>
              <a:ext cx="25200" cy="216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10" y="5"/>
                  </a:lnTo>
                  <a:lnTo>
                    <a:pt x="97" y="97"/>
                  </a:lnTo>
                  <a:lnTo>
                    <a:pt x="88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45600" y="1313280"/>
              <a:ext cx="26640" cy="2304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5" y="10"/>
                  </a:lnTo>
                  <a:lnTo>
                    <a:pt x="102" y="102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49560" y="1315440"/>
              <a:ext cx="26280" cy="226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0"/>
                  </a:moveTo>
                  <a:lnTo>
                    <a:pt x="9" y="9"/>
                  </a:lnTo>
                  <a:lnTo>
                    <a:pt x="101" y="101"/>
                  </a:lnTo>
                  <a:lnTo>
                    <a:pt x="87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21480" y="1235160"/>
              <a:ext cx="31320" cy="370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34" y="63"/>
                  </a:moveTo>
                  <a:lnTo>
                    <a:pt x="0" y="0"/>
                  </a:lnTo>
                  <a:lnTo>
                    <a:pt x="87" y="102"/>
                  </a:lnTo>
                  <a:lnTo>
                    <a:pt x="121" y="165"/>
                  </a:lnTo>
                  <a:lnTo>
                    <a:pt x="34" y="6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4760" y="1234080"/>
              <a:ext cx="22680" cy="4032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5" y="78"/>
                  </a:moveTo>
                  <a:lnTo>
                    <a:pt x="0" y="0"/>
                  </a:lnTo>
                  <a:lnTo>
                    <a:pt x="83" y="102"/>
                  </a:lnTo>
                  <a:lnTo>
                    <a:pt x="88" y="179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5440" y="1249200"/>
              <a:ext cx="29160" cy="4140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0" y="87"/>
                  </a:moveTo>
                  <a:lnTo>
                    <a:pt x="34" y="0"/>
                  </a:lnTo>
                  <a:lnTo>
                    <a:pt x="112" y="107"/>
                  </a:lnTo>
                  <a:lnTo>
                    <a:pt x="78" y="1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9560" y="1295280"/>
              <a:ext cx="26280" cy="370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24" y="68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101" y="165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39560" y="1281240"/>
              <a:ext cx="36360" cy="3600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0" y="63"/>
                  </a:moveTo>
                  <a:lnTo>
                    <a:pt x="63" y="0"/>
                  </a:lnTo>
                  <a:lnTo>
                    <a:pt x="140" y="102"/>
                  </a:lnTo>
                  <a:lnTo>
                    <a:pt x="77" y="1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48200" y="1270080"/>
              <a:ext cx="27720" cy="3384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30" y="48"/>
                  </a:moveTo>
                  <a:lnTo>
                    <a:pt x="0" y="0"/>
                  </a:lnTo>
                  <a:lnTo>
                    <a:pt x="78" y="102"/>
                  </a:lnTo>
                  <a:lnTo>
                    <a:pt x="107" y="150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46040" y="1338120"/>
              <a:ext cx="22680" cy="3168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0" y="49"/>
                  </a:moveTo>
                  <a:lnTo>
                    <a:pt x="9" y="0"/>
                  </a:lnTo>
                  <a:lnTo>
                    <a:pt x="87" y="92"/>
                  </a:lnTo>
                  <a:lnTo>
                    <a:pt x="77" y="1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8200" y="1327320"/>
              <a:ext cx="41760" cy="316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0" y="48"/>
                  </a:moveTo>
                  <a:lnTo>
                    <a:pt x="88" y="0"/>
                  </a:lnTo>
                  <a:lnTo>
                    <a:pt x="160" y="97"/>
                  </a:lnTo>
                  <a:lnTo>
                    <a:pt x="78" y="1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69800" y="1313280"/>
              <a:ext cx="20160" cy="36000"/>
            </a:xfrm>
            <a:custGeom>
              <a:avLst/>
              <a:gdLst/>
              <a:ahLst/>
              <a:rect l="l" t="t" r="r" b="b"/>
              <a:pathLst>
                <a:path w="77" h="160">
                  <a:moveTo>
                    <a:pt x="5" y="63"/>
                  </a:moveTo>
                  <a:lnTo>
                    <a:pt x="0" y="0"/>
                  </a:lnTo>
                  <a:lnTo>
                    <a:pt x="77" y="97"/>
                  </a:lnTo>
                  <a:lnTo>
                    <a:pt x="77" y="16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60720" y="1450080"/>
              <a:ext cx="40320" cy="21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0" y="25"/>
                  </a:moveTo>
                  <a:lnTo>
                    <a:pt x="63" y="0"/>
                  </a:lnTo>
                  <a:lnTo>
                    <a:pt x="155" y="73"/>
                  </a:lnTo>
                  <a:lnTo>
                    <a:pt x="92" y="9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77280" y="1427400"/>
              <a:ext cx="25200" cy="39240"/>
            </a:xfrm>
            <a:custGeom>
              <a:avLst/>
              <a:gdLst/>
              <a:ahLst/>
              <a:rect l="l" t="t" r="r" b="b"/>
              <a:pathLst>
                <a:path w="97" h="174">
                  <a:moveTo>
                    <a:pt x="0" y="101"/>
                  </a:moveTo>
                  <a:lnTo>
                    <a:pt x="10" y="0"/>
                  </a:lnTo>
                  <a:lnTo>
                    <a:pt x="97" y="77"/>
                  </a:lnTo>
                  <a:lnTo>
                    <a:pt x="92" y="17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79800" y="1416240"/>
              <a:ext cx="41760" cy="2844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0" y="49"/>
                  </a:moveTo>
                  <a:lnTo>
                    <a:pt x="77" y="0"/>
                  </a:lnTo>
                  <a:lnTo>
                    <a:pt x="160" y="78"/>
                  </a:lnTo>
                  <a:lnTo>
                    <a:pt x="87" y="1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9960" y="1416240"/>
              <a:ext cx="42840" cy="2052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0" y="0"/>
                  </a:moveTo>
                  <a:lnTo>
                    <a:pt x="78" y="15"/>
                  </a:lnTo>
                  <a:lnTo>
                    <a:pt x="165" y="92"/>
                  </a:lnTo>
                  <a:lnTo>
                    <a:pt x="83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480" y="1406520"/>
              <a:ext cx="36360" cy="3060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58"/>
                  </a:moveTo>
                  <a:lnTo>
                    <a:pt x="63" y="0"/>
                  </a:lnTo>
                  <a:lnTo>
                    <a:pt x="140" y="82"/>
                  </a:lnTo>
                  <a:lnTo>
                    <a:pt x="87" y="13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4080" y="1391040"/>
              <a:ext cx="32760" cy="33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9" y="68"/>
                  </a:moveTo>
                  <a:lnTo>
                    <a:pt x="0" y="0"/>
                  </a:lnTo>
                  <a:lnTo>
                    <a:pt x="83" y="82"/>
                  </a:lnTo>
                  <a:lnTo>
                    <a:pt x="126" y="150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4080" y="1378080"/>
              <a:ext cx="30600" cy="3168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0" y="58"/>
                  </a:moveTo>
                  <a:lnTo>
                    <a:pt x="34" y="0"/>
                  </a:lnTo>
                  <a:lnTo>
                    <a:pt x="117" y="87"/>
                  </a:lnTo>
                  <a:lnTo>
                    <a:pt x="83" y="1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33080" y="1373400"/>
              <a:ext cx="45720" cy="2412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20"/>
                  </a:moveTo>
                  <a:lnTo>
                    <a:pt x="97" y="0"/>
                  </a:lnTo>
                  <a:lnTo>
                    <a:pt x="175" y="88"/>
                  </a:lnTo>
                  <a:lnTo>
                    <a:pt x="83" y="10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58280" y="1359000"/>
              <a:ext cx="26640" cy="3420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63"/>
                  </a:moveTo>
                  <a:lnTo>
                    <a:pt x="24" y="0"/>
                  </a:lnTo>
                  <a:lnTo>
                    <a:pt x="102" y="88"/>
                  </a:lnTo>
                  <a:lnTo>
                    <a:pt x="78" y="15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65960" y="1231920"/>
              <a:ext cx="305280" cy="238320"/>
            </a:xfrm>
            <a:custGeom>
              <a:avLst/>
              <a:gdLst/>
              <a:ahLst/>
              <a:rect l="l" t="t" r="r" b="b"/>
              <a:pathLst>
                <a:path w="1168" h="1052">
                  <a:moveTo>
                    <a:pt x="494" y="107"/>
                  </a:moveTo>
                  <a:lnTo>
                    <a:pt x="436" y="136"/>
                  </a:lnTo>
                  <a:lnTo>
                    <a:pt x="373" y="92"/>
                  </a:lnTo>
                  <a:lnTo>
                    <a:pt x="315" y="131"/>
                  </a:lnTo>
                  <a:lnTo>
                    <a:pt x="310" y="209"/>
                  </a:lnTo>
                  <a:lnTo>
                    <a:pt x="286" y="228"/>
                  </a:lnTo>
                  <a:lnTo>
                    <a:pt x="199" y="214"/>
                  </a:lnTo>
                  <a:lnTo>
                    <a:pt x="155" y="262"/>
                  </a:lnTo>
                  <a:lnTo>
                    <a:pt x="189" y="340"/>
                  </a:lnTo>
                  <a:lnTo>
                    <a:pt x="165" y="369"/>
                  </a:lnTo>
                  <a:lnTo>
                    <a:pt x="68" y="383"/>
                  </a:lnTo>
                  <a:lnTo>
                    <a:pt x="39" y="446"/>
                  </a:lnTo>
                  <a:lnTo>
                    <a:pt x="111" y="495"/>
                  </a:lnTo>
                  <a:lnTo>
                    <a:pt x="102" y="528"/>
                  </a:lnTo>
                  <a:lnTo>
                    <a:pt x="5" y="577"/>
                  </a:lnTo>
                  <a:lnTo>
                    <a:pt x="0" y="640"/>
                  </a:lnTo>
                  <a:lnTo>
                    <a:pt x="92" y="659"/>
                  </a:lnTo>
                  <a:lnTo>
                    <a:pt x="92" y="693"/>
                  </a:lnTo>
                  <a:lnTo>
                    <a:pt x="19" y="766"/>
                  </a:lnTo>
                  <a:lnTo>
                    <a:pt x="34" y="824"/>
                  </a:lnTo>
                  <a:lnTo>
                    <a:pt x="136" y="805"/>
                  </a:lnTo>
                  <a:lnTo>
                    <a:pt x="160" y="834"/>
                  </a:lnTo>
                  <a:lnTo>
                    <a:pt x="116" y="921"/>
                  </a:lnTo>
                  <a:lnTo>
                    <a:pt x="155" y="964"/>
                  </a:lnTo>
                  <a:lnTo>
                    <a:pt x="247" y="911"/>
                  </a:lnTo>
                  <a:lnTo>
                    <a:pt x="291" y="931"/>
                  </a:lnTo>
                  <a:lnTo>
                    <a:pt x="281" y="1023"/>
                  </a:lnTo>
                  <a:lnTo>
                    <a:pt x="349" y="1042"/>
                  </a:lnTo>
                  <a:lnTo>
                    <a:pt x="412" y="969"/>
                  </a:lnTo>
                  <a:lnTo>
                    <a:pt x="494" y="974"/>
                  </a:lnTo>
                  <a:lnTo>
                    <a:pt x="518" y="1052"/>
                  </a:lnTo>
                  <a:lnTo>
                    <a:pt x="606" y="1037"/>
                  </a:lnTo>
                  <a:lnTo>
                    <a:pt x="635" y="955"/>
                  </a:lnTo>
                  <a:lnTo>
                    <a:pt x="678" y="935"/>
                  </a:lnTo>
                  <a:lnTo>
                    <a:pt x="746" y="989"/>
                  </a:lnTo>
                  <a:lnTo>
                    <a:pt x="809" y="964"/>
                  </a:lnTo>
                  <a:lnTo>
                    <a:pt x="819" y="863"/>
                  </a:lnTo>
                  <a:lnTo>
                    <a:pt x="896" y="814"/>
                  </a:lnTo>
                  <a:lnTo>
                    <a:pt x="974" y="829"/>
                  </a:lnTo>
                  <a:lnTo>
                    <a:pt x="1037" y="771"/>
                  </a:lnTo>
                  <a:lnTo>
                    <a:pt x="988" y="703"/>
                  </a:lnTo>
                  <a:lnTo>
                    <a:pt x="1022" y="645"/>
                  </a:lnTo>
                  <a:lnTo>
                    <a:pt x="1119" y="625"/>
                  </a:lnTo>
                  <a:lnTo>
                    <a:pt x="1143" y="562"/>
                  </a:lnTo>
                  <a:lnTo>
                    <a:pt x="1071" y="519"/>
                  </a:lnTo>
                  <a:lnTo>
                    <a:pt x="1080" y="470"/>
                  </a:lnTo>
                  <a:lnTo>
                    <a:pt x="1168" y="422"/>
                  </a:lnTo>
                  <a:lnTo>
                    <a:pt x="1163" y="359"/>
                  </a:lnTo>
                  <a:lnTo>
                    <a:pt x="1071" y="349"/>
                  </a:lnTo>
                  <a:lnTo>
                    <a:pt x="1047" y="281"/>
                  </a:lnTo>
                  <a:lnTo>
                    <a:pt x="1110" y="218"/>
                  </a:lnTo>
                  <a:lnTo>
                    <a:pt x="1080" y="170"/>
                  </a:lnTo>
                  <a:lnTo>
                    <a:pt x="988" y="194"/>
                  </a:lnTo>
                  <a:lnTo>
                    <a:pt x="954" y="165"/>
                  </a:lnTo>
                  <a:lnTo>
                    <a:pt x="988" y="78"/>
                  </a:lnTo>
                  <a:lnTo>
                    <a:pt x="930" y="54"/>
                  </a:lnTo>
                  <a:lnTo>
                    <a:pt x="853" y="102"/>
                  </a:lnTo>
                  <a:lnTo>
                    <a:pt x="804" y="88"/>
                  </a:lnTo>
                  <a:lnTo>
                    <a:pt x="799" y="10"/>
                  </a:lnTo>
                  <a:lnTo>
                    <a:pt x="736" y="0"/>
                  </a:lnTo>
                  <a:lnTo>
                    <a:pt x="669" y="78"/>
                  </a:lnTo>
                  <a:lnTo>
                    <a:pt x="630" y="78"/>
                  </a:lnTo>
                  <a:lnTo>
                    <a:pt x="596" y="15"/>
                  </a:lnTo>
                  <a:lnTo>
                    <a:pt x="528" y="29"/>
                  </a:lnTo>
                  <a:lnTo>
                    <a:pt x="494" y="107"/>
                  </a:lnTo>
                  <a:close/>
                  <a:moveTo>
                    <a:pt x="552" y="679"/>
                  </a:moveTo>
                  <a:lnTo>
                    <a:pt x="533" y="679"/>
                  </a:lnTo>
                  <a:lnTo>
                    <a:pt x="514" y="683"/>
                  </a:lnTo>
                  <a:lnTo>
                    <a:pt x="494" y="679"/>
                  </a:lnTo>
                  <a:lnTo>
                    <a:pt x="480" y="679"/>
                  </a:lnTo>
                  <a:lnTo>
                    <a:pt x="465" y="674"/>
                  </a:lnTo>
                  <a:lnTo>
                    <a:pt x="446" y="669"/>
                  </a:lnTo>
                  <a:lnTo>
                    <a:pt x="431" y="659"/>
                  </a:lnTo>
                  <a:lnTo>
                    <a:pt x="417" y="654"/>
                  </a:lnTo>
                  <a:lnTo>
                    <a:pt x="407" y="640"/>
                  </a:lnTo>
                  <a:lnTo>
                    <a:pt x="397" y="630"/>
                  </a:lnTo>
                  <a:lnTo>
                    <a:pt x="388" y="621"/>
                  </a:lnTo>
                  <a:lnTo>
                    <a:pt x="378" y="606"/>
                  </a:lnTo>
                  <a:lnTo>
                    <a:pt x="373" y="591"/>
                  </a:lnTo>
                  <a:lnTo>
                    <a:pt x="368" y="577"/>
                  </a:lnTo>
                  <a:lnTo>
                    <a:pt x="363" y="562"/>
                  </a:lnTo>
                  <a:lnTo>
                    <a:pt x="363" y="543"/>
                  </a:lnTo>
                  <a:lnTo>
                    <a:pt x="368" y="528"/>
                  </a:lnTo>
                  <a:lnTo>
                    <a:pt x="368" y="509"/>
                  </a:lnTo>
                  <a:lnTo>
                    <a:pt x="373" y="495"/>
                  </a:lnTo>
                  <a:lnTo>
                    <a:pt x="383" y="475"/>
                  </a:lnTo>
                  <a:lnTo>
                    <a:pt x="388" y="461"/>
                  </a:lnTo>
                  <a:lnTo>
                    <a:pt x="397" y="446"/>
                  </a:lnTo>
                  <a:lnTo>
                    <a:pt x="407" y="432"/>
                  </a:lnTo>
                  <a:lnTo>
                    <a:pt x="421" y="417"/>
                  </a:lnTo>
                  <a:lnTo>
                    <a:pt x="436" y="403"/>
                  </a:lnTo>
                  <a:lnTo>
                    <a:pt x="451" y="393"/>
                  </a:lnTo>
                  <a:lnTo>
                    <a:pt x="465" y="378"/>
                  </a:lnTo>
                  <a:lnTo>
                    <a:pt x="480" y="369"/>
                  </a:lnTo>
                  <a:lnTo>
                    <a:pt x="499" y="359"/>
                  </a:lnTo>
                  <a:lnTo>
                    <a:pt x="514" y="354"/>
                  </a:lnTo>
                  <a:lnTo>
                    <a:pt x="533" y="344"/>
                  </a:lnTo>
                  <a:lnTo>
                    <a:pt x="552" y="344"/>
                  </a:lnTo>
                  <a:lnTo>
                    <a:pt x="572" y="340"/>
                  </a:lnTo>
                  <a:lnTo>
                    <a:pt x="591" y="340"/>
                  </a:lnTo>
                  <a:lnTo>
                    <a:pt x="610" y="335"/>
                  </a:lnTo>
                  <a:lnTo>
                    <a:pt x="630" y="340"/>
                  </a:lnTo>
                  <a:lnTo>
                    <a:pt x="644" y="344"/>
                  </a:lnTo>
                  <a:lnTo>
                    <a:pt x="659" y="344"/>
                  </a:lnTo>
                  <a:lnTo>
                    <a:pt x="678" y="354"/>
                  </a:lnTo>
                  <a:lnTo>
                    <a:pt x="688" y="359"/>
                  </a:lnTo>
                  <a:lnTo>
                    <a:pt x="703" y="369"/>
                  </a:lnTo>
                  <a:lnTo>
                    <a:pt x="712" y="378"/>
                  </a:lnTo>
                  <a:lnTo>
                    <a:pt x="722" y="393"/>
                  </a:lnTo>
                  <a:lnTo>
                    <a:pt x="732" y="407"/>
                  </a:lnTo>
                  <a:lnTo>
                    <a:pt x="736" y="422"/>
                  </a:lnTo>
                  <a:lnTo>
                    <a:pt x="746" y="436"/>
                  </a:lnTo>
                  <a:lnTo>
                    <a:pt x="746" y="451"/>
                  </a:lnTo>
                  <a:lnTo>
                    <a:pt x="746" y="470"/>
                  </a:lnTo>
                  <a:lnTo>
                    <a:pt x="751" y="485"/>
                  </a:lnTo>
                  <a:lnTo>
                    <a:pt x="746" y="504"/>
                  </a:lnTo>
                  <a:lnTo>
                    <a:pt x="741" y="524"/>
                  </a:lnTo>
                  <a:lnTo>
                    <a:pt x="736" y="538"/>
                  </a:lnTo>
                  <a:lnTo>
                    <a:pt x="727" y="553"/>
                  </a:lnTo>
                  <a:lnTo>
                    <a:pt x="717" y="572"/>
                  </a:lnTo>
                  <a:lnTo>
                    <a:pt x="703" y="587"/>
                  </a:lnTo>
                  <a:lnTo>
                    <a:pt x="693" y="601"/>
                  </a:lnTo>
                  <a:lnTo>
                    <a:pt x="678" y="616"/>
                  </a:lnTo>
                  <a:lnTo>
                    <a:pt x="664" y="625"/>
                  </a:lnTo>
                  <a:lnTo>
                    <a:pt x="644" y="640"/>
                  </a:lnTo>
                  <a:lnTo>
                    <a:pt x="630" y="650"/>
                  </a:lnTo>
                  <a:lnTo>
                    <a:pt x="610" y="659"/>
                  </a:lnTo>
                  <a:lnTo>
                    <a:pt x="591" y="669"/>
                  </a:lnTo>
                  <a:lnTo>
                    <a:pt x="572" y="674"/>
                  </a:lnTo>
                  <a:lnTo>
                    <a:pt x="552" y="679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400880" y="1521000"/>
            <a:ext cx="252360" cy="21564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360" y="944640"/>
            <a:ext cx="6680160" cy="5472000"/>
          </a:xfrm>
          <a:custGeom>
            <a:avLst/>
            <a:gdLst/>
            <a:ahLst/>
            <a:rect l="l" t="t" r="r" b="b"/>
            <a:pathLst>
              <a:path w="4208" h="3447">
                <a:moveTo>
                  <a:pt x="0" y="1"/>
                </a:moveTo>
                <a:lnTo>
                  <a:pt x="2553" y="0"/>
                </a:lnTo>
                <a:lnTo>
                  <a:pt x="2553" y="2359"/>
                </a:lnTo>
                <a:lnTo>
                  <a:pt x="4208" y="2359"/>
                </a:lnTo>
                <a:lnTo>
                  <a:pt x="4208" y="3447"/>
                </a:lnTo>
                <a:lnTo>
                  <a:pt x="13" y="3447"/>
                </a:lnTo>
                <a:lnTo>
                  <a:pt x="0" y="1"/>
                </a:lnTo>
                <a:close/>
              </a:path>
            </a:pathLst>
          </a:custGeom>
          <a:noFill/>
          <a:ln cap="rnd" w="38160">
            <a:solidFill>
              <a:srgbClr val="10529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8ACE-A48E-461B-8762-089AD2A1DC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tenbank für Off-Line-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86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SQL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 (ca. 600kB) und sch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e Java-Lö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nwendung integrier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Administration notwend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D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 auch Server-Mode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lständiges RDBMS, Standard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Hibernate unterstütz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/R-Mapping, Abbildung von Datenbanktabellen auf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Java-)Obj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96920" y="1079640"/>
            <a:ext cx="4187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r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endung in Open Office, JBoss Application Server, Mathematica, J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p-50 SourceForge-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-22.000 Downloads pro Monat (letzte 12 Mon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t für Entwic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Wartungs-/Konfigurationsaufw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 ist Textfile mit SQL-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87AB-6991-494E-96A4-43A5846A13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nmod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fangreiches Datenmodell für Fachanwendung (Behör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r ein Ausschnitt wird für Berichtersteller benöti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 Konfiguration wird nur ein Teil der Modellobjekte für die Datenbankaanbindung verwen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leichheit der Datenmodelle ist von Vortei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 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bbildung not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port der Objekte per XMI-Standardserialisierung von E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9D4F-176C-47C7-B453-ED83E6F1B5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 flipH="1">
            <a:off x="3514680" y="2817720"/>
            <a:ext cx="45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199040" y="1413000"/>
            <a:ext cx="33130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nübermittlung und Stammd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58920" y="4365720"/>
            <a:ext cx="8526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tragen werden nicht nur Berichte und Schlüssel der Stammdatenobjekte, sondern Stammdatenobjekte selb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Behörden-DB werden Stammdatenreferenzen auf Berichtersteller-Objekte durch Stammdatenreferenzen auf Behörden-Objekte ersetz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dundanz erlaubt Zuordnung auch in Fällen, wenn unerwartet die Stammdaten nicht synchron s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53960" y="1486080"/>
            <a:ext cx="2952720" cy="2411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086680" y="2313000"/>
            <a:ext cx="1187640" cy="973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55040" y="1089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085960" y="15573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ich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86320" y="1844640"/>
            <a:ext cx="288144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I-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68800" y="2638440"/>
            <a:ext cx="891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99360" y="2997360"/>
            <a:ext cx="1322280" cy="581400"/>
          </a:xfrm>
          <a:prstGeom prst="rect">
            <a:avLst/>
          </a:prstGeom>
          <a:solidFill>
            <a:srgbClr val="ead2d7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größ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B5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892520" y="2313000"/>
            <a:ext cx="1454760" cy="581400"/>
          </a:xfrm>
          <a:prstGeom prst="rect">
            <a:avLst/>
          </a:prstGeom>
          <a:solidFill>
            <a:srgbClr val="ead2d7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äran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, Altstadt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95" idx="3"/>
            <a:endCxn id="697" idx="1"/>
          </p:cNvCxnSpPr>
          <p:nvPr/>
        </p:nvCxnSpPr>
        <p:spPr>
          <a:xfrm flipV="1">
            <a:off x="1466640" y="2607480"/>
            <a:ext cx="4258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95" idx="3"/>
            <a:endCxn id="696" idx="1"/>
          </p:cNvCxnSpPr>
          <p:nvPr/>
        </p:nvCxnSpPr>
        <p:spPr>
          <a:xfrm>
            <a:off x="1466640" y="2827440"/>
            <a:ext cx="4258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4577400" y="2637000"/>
            <a:ext cx="891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90600" y="2889360"/>
            <a:ext cx="1322280" cy="581400"/>
          </a:xfrm>
          <a:prstGeom prst="rect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größ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B5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70800" y="2168640"/>
            <a:ext cx="1454760" cy="581400"/>
          </a:xfrm>
          <a:prstGeom prst="rect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äran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, Altstadt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3" name=""/>
          <p:cNvCxnSpPr>
            <a:stCxn id="700" idx="3"/>
            <a:endCxn id="702" idx="1"/>
          </p:cNvCxnSpPr>
          <p:nvPr/>
        </p:nvCxnSpPr>
        <p:spPr>
          <a:xfrm flipV="1">
            <a:off x="5475240" y="2463120"/>
            <a:ext cx="295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700" idx="3"/>
            <a:endCxn id="701" idx="1"/>
          </p:cNvCxnSpPr>
          <p:nvPr/>
        </p:nvCxnSpPr>
        <p:spPr>
          <a:xfrm>
            <a:off x="5475240" y="2825280"/>
            <a:ext cx="3088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8267760" y="2817720"/>
            <a:ext cx="28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807400" y="2673360"/>
            <a:ext cx="289080" cy="216000"/>
          </a:xfrm>
          <a:prstGeom prst="rect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807400" y="2925720"/>
            <a:ext cx="289080" cy="216000"/>
          </a:xfrm>
          <a:prstGeom prst="rect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5" idx="3"/>
            <a:endCxn id="706" idx="1"/>
          </p:cNvCxnSpPr>
          <p:nvPr/>
        </p:nvCxnSpPr>
        <p:spPr>
          <a:xfrm flipV="1">
            <a:off x="8556120" y="2781000"/>
            <a:ext cx="2516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5" idx="3"/>
            <a:endCxn id="707" idx="1"/>
          </p:cNvCxnSpPr>
          <p:nvPr/>
        </p:nvCxnSpPr>
        <p:spPr>
          <a:xfrm>
            <a:off x="8556120" y="2925720"/>
            <a:ext cx="25164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867D-A666-49E3-A4E3-45C46293D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skennzeichnung der übertragenen D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96920" y="1079640"/>
            <a:ext cx="4187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-28440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wendungen der Berichtersteller besitzen unterschiedliche Versionsstä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automatische Prüfung auf Version bei Versand möglich wegen loser Kopplung (Emai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e müssen neben Datenmodell-Version auch Software-Version und Stammdatenstand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4948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muss auf der Empfängerseite ggf. mit längst behobenen Fehler klarko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57240" y="3033720"/>
            <a:ext cx="1150920" cy="1008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49240" y="2133720"/>
            <a:ext cx="430200" cy="323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0880" y="1808280"/>
            <a:ext cx="430200" cy="323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65600" y="1808280"/>
            <a:ext cx="430200" cy="323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84520" y="234936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08520" y="3249720"/>
            <a:ext cx="430200" cy="323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765600" y="414972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73240" y="4834080"/>
            <a:ext cx="430200" cy="323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65240" y="490536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20880" y="458136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0520" y="378936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880" y="2960640"/>
            <a:ext cx="430200" cy="324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424160" y="411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216160" y="432900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2828880" y="4292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3260880" y="3968280"/>
            <a:ext cx="396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296880" y="3430440"/>
            <a:ext cx="46836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224160" y="2817720"/>
            <a:ext cx="32400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720520" y="2276640"/>
            <a:ext cx="2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73240" y="224172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16160" y="252900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65240" y="3141720"/>
            <a:ext cx="46656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065240" y="371592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BCBE-2F75-4E72-9DA5-82F7C1359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ichtsversand per 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ail enthält wichtige Angaben zur Identifizierung im Text und Bericht als XML-Attach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and erfolgt über Standard-Email-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Direktversand aus Anwendung her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ail-Verwaltung mit gewohntem E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ein Kommunikationsweg für Email-Verkehr gewüns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 kann man exportieren und eigenhändig vers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ruf kein Problem, außer für Outlook Extrabehandlung notwe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rastruktur bereitete einig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echende Attachment-Namen teilweise ersetzt durch generierte N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l verpackt in WINMAIL.DAT-Attachment (Outlook + Exchange-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A5D1-FDB8-4D14-AD72-99EE86A21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kontrollverordnung (EKV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-Unterstütz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8560" y="3049560"/>
            <a:ext cx="3140280" cy="1313640"/>
          </a:xfrm>
          <a:prstGeom prst="rect">
            <a:avLst/>
          </a:prstGeom>
          <a:noFill/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KVO-Mo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Fachanwe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ssis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wasseranlagen (H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2520" y="4849920"/>
            <a:ext cx="1751040" cy="131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0920" y="122868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08160" y="5184720"/>
            <a:ext cx="1800000" cy="101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418800" y="3065400"/>
            <a:ext cx="2799000" cy="1008720"/>
          </a:xfrm>
          <a:prstGeom prst="rect">
            <a:avLst/>
          </a:prstGeom>
          <a:noFill/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KVO-Anwe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Berichterfass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-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68520" y="1305000"/>
            <a:ext cx="350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spflichtige lt. EKVO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reiber von Kläran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 Kanaln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320" y="105264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s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93680" y="41878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750, später +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3720" y="10526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eru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äsid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t.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120" y="4473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zentrale Daten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06640" y="3139920"/>
            <a:ext cx="857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476600" y="4006800"/>
            <a:ext cx="495360" cy="501840"/>
          </a:xfrm>
          <a:prstGeom prst="rect">
            <a:avLst/>
          </a:prstGeom>
          <a:ln w="0">
            <a:noFill/>
          </a:ln>
        </p:spPr>
      </p:pic>
      <p:sp>
        <p:nvSpPr>
          <p:cNvPr id="107" name="Document"/>
          <p:cNvSpPr/>
          <p:nvPr/>
        </p:nvSpPr>
        <p:spPr>
          <a:xfrm>
            <a:off x="5407200" y="4043520"/>
            <a:ext cx="325440" cy="4172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08160" y="2058840"/>
            <a:ext cx="216000" cy="10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72880" y="1805040"/>
            <a:ext cx="70812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9640" y="2058840"/>
            <a:ext cx="471600" cy="10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32880" y="2311560"/>
            <a:ext cx="0" cy="75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8680" y="3346920"/>
            <a:ext cx="2338200" cy="900720"/>
          </a:xfrm>
          <a:prstGeom prst="leftArrow">
            <a:avLst>
              <a:gd name="adj1" fmla="val 44287"/>
              <a:gd name="adj2" fmla="val 38951"/>
            </a:avLst>
          </a:prstGeom>
          <a:solidFill>
            <a:srgbClr val="e7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ver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2203560"/>
            <a:ext cx="2578320" cy="1396800"/>
          </a:xfrm>
          <a:custGeom>
            <a:avLst/>
            <a:gdLst>
              <a:gd name="textAreaLeft" fmla="*/ 0 w 2578320"/>
              <a:gd name="textAreaRight" fmla="*/ 2578320 w 25783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1600" h="21600">
                <a:moveTo>
                  <a:pt x="1370" y="10751"/>
                </a:moveTo>
                <a:arcTo wR="-9430" hR="-9430" stAng="-10782137" swAng="-10824760"/>
                <a:lnTo>
                  <a:pt x="0" y="10822"/>
                </a:lnTo>
                <a:arcTo wR="10800" hR="10800" stAng="10793103" swAng="10824760"/>
                <a:lnTo>
                  <a:pt x="24300" y="10870"/>
                </a:lnTo>
                <a:lnTo>
                  <a:pt x="20897" y="14238"/>
                </a:lnTo>
                <a:lnTo>
                  <a:pt x="17530" y="10835"/>
                </a:lnTo>
                <a:close/>
              </a:path>
            </a:pathLst>
          </a:custGeom>
          <a:solidFill>
            <a:srgbClr val="e7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4840" y="194472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dat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nah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C255-2B4C-403F-9D46-6A80C682B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ktionen der Anwender (Betreiber / Berichterstell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86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v angenom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sher ca. 600 Berichte von rund 350 Betreib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gesamt ca. 550 Betrei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kommunale Kläran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äter +5000 Kleinkläran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Ds wurden verschic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st aber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trägerversand wird genu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 bei Internet-Anschlu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96920" y="1079640"/>
            <a:ext cx="4187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üns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verwaltung für Beri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90000"/>
              </a:lnSpc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reiber und Behö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ntrale Datenbank für mehrere Be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und Import von Ber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hrere Berichte versenden statt Einzelver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nübernahme aus Vorj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rwartete Re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Fehlern versuchen zu leben statt sie zu mel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lnSpc>
                <a:spcPct val="90000"/>
              </a:lnSpc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hler melden muss einfach s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8663-50D8-4457-9BFD-253E9C2F3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ich Client statt Web-Anwend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86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ichte auch ohne Internet-Anbindung elektronisch liefer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 bleiben beim Betreiber bis er sie versend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nd muß weniger Infrastruktur berei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keit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ndbreit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stungsfähigkeit, Nutzerverwaltung, Datensich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hr direkt reagierende 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96920" y="1079640"/>
            <a:ext cx="4187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eilung des Program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er sehr einf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date per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teil: unterschiedlich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daten müssen synchronisi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er: Bis auf Name und Adresse kaum Änder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lagennummer, Messgröße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BC63-E739-4A47-8480-9F528A2A61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kontrollverordnung (EK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lage sind die Bestimmungen des </a:t>
            </a:r>
            <a:r>
              <a:rPr b="1" lang="de-DE" sz="1800" spc="-1" strike="noStrike">
                <a:solidFill>
                  <a:srgbClr val="ec870e"/>
                </a:solidFill>
                <a:latin typeface="Arial"/>
              </a:rPr>
              <a:t>Wasserhaushaltsgesetz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WHG), u.a: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7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laubn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7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forderungen an das Einleiten von Abwass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18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asserbeseitigung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18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- und Betrieb von Abwasseran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250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c870e"/>
                </a:solidFill>
                <a:latin typeface="Arial"/>
              </a:rPr>
              <a:t>Wassergesetze der Länd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ggf. resultieren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c870e"/>
                </a:solidFill>
                <a:latin typeface="Arial"/>
              </a:rPr>
              <a:t>Verordnun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Selbstüberwachung / Eigenkontr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essen existiert seit 1986 eine restriktive Eigenkontrollverord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spflicht, aber kein Zwang zu elektronischer Übermittlung / Online-Zug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6560">
              <a:spcAft>
                <a:spcPts val="1001"/>
              </a:spcAft>
              <a:buClr>
                <a:srgbClr val="917f7f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o Email, Datenträger, schrift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D5A6-807D-4881-B93F-D49C917DE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äranlagen in H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800" y="1197000"/>
            <a:ext cx="8526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3961080" cy="561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65600" y="4941720"/>
            <a:ext cx="4919760" cy="1366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4800" y="1413000"/>
            <a:ext cx="8526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68880" y="1484280"/>
            <a:ext cx="4203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00 Kläranla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0 Kanalnet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0 Kleinkläranla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37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77C7-D0A8-4D97-9EB6-1678A25AA6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KVO-Anwendungen und deren Funktio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3600" y="2060640"/>
            <a:ext cx="1704600" cy="82548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nn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8200" y="2060640"/>
            <a:ext cx="1890720" cy="82548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nn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9000" y="3213000"/>
            <a:ext cx="2416320" cy="155700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n erf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mpor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560" y="5084640"/>
            <a:ext cx="2498760" cy="119124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dervor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lagema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ängelma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61560" y="5162400"/>
            <a:ext cx="1890720" cy="82548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64120" y="5157720"/>
            <a:ext cx="1688040" cy="82548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4920" y="3105000"/>
            <a:ext cx="1924200" cy="119124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mm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nd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387720" y="5186160"/>
            <a:ext cx="1636200" cy="45972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615600" y="2705040"/>
            <a:ext cx="2091960" cy="45972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ual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052640"/>
            <a:ext cx="5473440" cy="459720"/>
          </a:xfrm>
          <a:prstGeom prst="rect">
            <a:avLst/>
          </a:prstGeom>
          <a:solidFill>
            <a:srgbClr val="e7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hanwendung / Behö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61240" y="1052640"/>
            <a:ext cx="3744720" cy="825480"/>
          </a:xfrm>
          <a:prstGeom prst="rect">
            <a:avLst/>
          </a:prstGeom>
          <a:solidFill>
            <a:srgbClr val="e7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reiber (Berichterstel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5" idx="2"/>
            <a:endCxn id="126" idx="0"/>
          </p:cNvCxnSpPr>
          <p:nvPr/>
        </p:nvCxnSpPr>
        <p:spPr>
          <a:xfrm>
            <a:off x="6883200" y="2882520"/>
            <a:ext cx="45468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29" idx="0"/>
          </p:cNvCxnSpPr>
          <p:nvPr/>
        </p:nvCxnSpPr>
        <p:spPr>
          <a:xfrm flipH="1">
            <a:off x="6808320" y="4765320"/>
            <a:ext cx="52920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4" idx="3"/>
            <a:endCxn id="125" idx="1"/>
          </p:cNvCxnSpPr>
          <p:nvPr/>
        </p:nvCxnSpPr>
        <p:spPr>
          <a:xfrm>
            <a:off x="4141440" y="2471400"/>
            <a:ext cx="1793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8" idx="1"/>
            <a:endCxn id="127" idx="3"/>
          </p:cNvCxnSpPr>
          <p:nvPr/>
        </p:nvCxnSpPr>
        <p:spPr>
          <a:xfrm flipH="1">
            <a:off x="3285720" y="5573520"/>
            <a:ext cx="372240" cy="1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1"/>
            <a:endCxn id="128" idx="3"/>
          </p:cNvCxnSpPr>
          <p:nvPr/>
        </p:nvCxnSpPr>
        <p:spPr>
          <a:xfrm flipH="1">
            <a:off x="5555520" y="5568840"/>
            <a:ext cx="4057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8" idx="1"/>
            <a:endCxn id="130" idx="2"/>
          </p:cNvCxnSpPr>
          <p:nvPr/>
        </p:nvCxnSpPr>
        <p:spPr>
          <a:xfrm flipH="1" flipV="1">
            <a:off x="3247560" y="4292280"/>
            <a:ext cx="410400" cy="12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8660520" y="5006160"/>
            <a:ext cx="1636200" cy="45972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8406720" y="2914560"/>
            <a:ext cx="2143800" cy="45972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-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6520" y="1052640"/>
            <a:ext cx="0" cy="525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745760" y="3783960"/>
            <a:ext cx="2312640" cy="45972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03C0-4FB0-47FC-B4FF-6978978E5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sche Grundl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4186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clipse Rich Client Platform (RC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-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siness Intelligence and Reporting Tools (BI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ort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llsoft Scriptable Install System (NSI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st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D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tformunabhängiger Aufruf von Programmen (z.B. Mail-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tformunabhäng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1079640"/>
            <a:ext cx="4187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clipse Modelling Frame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 Objekt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n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zwischen EMF und Hiber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abhängigkeit von 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DB für Behö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SQL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ierte Datenbank für Berichtersteller (Betrei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40B4-F400-4DC9-8079-62A5ABC7B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clipse Rich Client Platform (RC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8920" y="1079640"/>
            <a:ext cx="8526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lipse RCP ist ein minimaler Anwendungsra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zusagen ein leeres Fenster, leeres Menü, eine leere Schnellstartleiste, leere Hilfe und Mechanismen, um diese sehr einfach zu 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-Objektmodell (EMF) mit einfacher Anbindung an 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elle Komponenten-Plattform für Rich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tformunabhängige Anwendungen durch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über EXE (unter Windows), eingebettete JRE, Online-Update auf Komponenten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Aft>
                <a:spcPts val="1125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t 2001 Open Source, verwaltet von der Eclipse Fou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hfolger von IBM Visual Age (40 Mio US$ Entwicklungskos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52360">
              <a:lnSpc>
                <a:spcPct val="90000"/>
              </a:lnSpc>
              <a:spcAft>
                <a:spcPts val="1001"/>
              </a:spcAft>
              <a:buClr>
                <a:srgbClr val="ec87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 Basis für viele Anwendungen (Open Source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n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kommerzi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1800" y="281628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gleich: Browser mit 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88160" y="281628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clipse RCP: alles ist ein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16160" y="2960640"/>
            <a:ext cx="1727280" cy="576360"/>
          </a:xfrm>
          <a:prstGeom prst="rect">
            <a:avLst/>
          </a:prstGeom>
          <a:solidFill>
            <a:srgbClr val="e7e2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16160" y="353700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7080" y="353700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90720" y="267336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40160" y="353700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16520" y="353700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91440" y="353700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67440" y="353700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27800" y="324972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03800" y="324972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80160" y="324972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67440" y="296064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91440" y="296064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16520" y="296064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0160" y="296064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267336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03800" y="2673360"/>
            <a:ext cx="57492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80160" y="2673360"/>
            <a:ext cx="57456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56520" y="2673360"/>
            <a:ext cx="28728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40160" y="2673360"/>
            <a:ext cx="28764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40160" y="3249720"/>
            <a:ext cx="28764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6520" y="3249720"/>
            <a:ext cx="287280" cy="287280"/>
          </a:xfrm>
          <a:prstGeom prst="rect">
            <a:avLst/>
          </a:prstGeom>
          <a:solidFill>
            <a:srgbClr val="9fb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82AD-4BB7-4914-8C76-2000142BF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mponentenbasierte Anwendu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532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onentenpool (Plugins)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Basis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Eclipse Rich Client Platform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9120" y="3824280"/>
            <a:ext cx="2430000" cy="1191240"/>
          </a:xfrm>
          <a:prstGeom prst="rect">
            <a:avLst/>
          </a:prstGeom>
          <a:solidFill>
            <a:srgbClr val="ead2d7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V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h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Behö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5040" y="5264280"/>
            <a:ext cx="1295280" cy="1009440"/>
          </a:xfrm>
          <a:prstGeom prst="flowChartMagneticDisk">
            <a:avLst/>
          </a:prstGeom>
          <a:solidFill>
            <a:srgbClr val="ead2d7"/>
          </a:solidFill>
          <a:ln w="93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7" idx="1"/>
            <a:endCxn id="176" idx="2"/>
          </p:cNvCxnSpPr>
          <p:nvPr/>
        </p:nvCxnSpPr>
        <p:spPr>
          <a:xfrm flipV="1">
            <a:off x="1552680" y="5020560"/>
            <a:ext cx="2160" cy="243720"/>
          </a:xfrm>
          <a:prstGeom prst="straightConnector1">
            <a:avLst/>
          </a:prstGeom>
          <a:ln w="9360">
            <a:solidFill>
              <a:srgbClr val="971d37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3663000" y="3824280"/>
            <a:ext cx="2347920" cy="825480"/>
          </a:xfrm>
          <a:prstGeom prst="rect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KVO-Clien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ichters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89320" y="5264280"/>
            <a:ext cx="1295640" cy="1009440"/>
          </a:xfrm>
          <a:prstGeom prst="flowChartMagneticDisk">
            <a:avLst/>
          </a:prstGeom>
          <a:solidFill>
            <a:srgbClr val="9fbad3"/>
          </a:solidFill>
          <a:ln w="93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QL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1"/>
            <a:endCxn id="179" idx="2"/>
          </p:cNvCxnSpPr>
          <p:nvPr/>
        </p:nvCxnSpPr>
        <p:spPr>
          <a:xfrm flipV="1">
            <a:off x="4836600" y="4655520"/>
            <a:ext cx="10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476480" y="3862440"/>
            <a:ext cx="1370880" cy="459720"/>
          </a:xfrm>
          <a:prstGeom prst="rect">
            <a:avLst/>
          </a:prstGeom>
          <a:solidFill>
            <a:srgbClr val="ec870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08880" y="5229360"/>
            <a:ext cx="1295280" cy="1009440"/>
          </a:xfrm>
          <a:prstGeom prst="flowChartMagneticDisk">
            <a:avLst/>
          </a:prstGeom>
          <a:solidFill>
            <a:srgbClr val="ec870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3" idx="1"/>
            <a:endCxn id="182" idx="2"/>
          </p:cNvCxnSpPr>
          <p:nvPr/>
        </p:nvCxnSpPr>
        <p:spPr>
          <a:xfrm flipV="1">
            <a:off x="8156520" y="4328280"/>
            <a:ext cx="7200" cy="90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5" name=""/>
          <p:cNvSpPr/>
          <p:nvPr/>
        </p:nvSpPr>
        <p:spPr>
          <a:xfrm>
            <a:off x="1389240" y="270828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29240" y="270828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8480000">
            <a:off x="6428880" y="2313360"/>
            <a:ext cx="360360" cy="1727280"/>
          </a:xfrm>
          <a:prstGeom prst="downArrow">
            <a:avLst>
              <a:gd name="adj1" fmla="val 49778"/>
              <a:gd name="adj2" fmla="val 68281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19440" y="2755800"/>
            <a:ext cx="270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onentenausw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7A1E-D9BB-4BCA-87EC-CAE56CA90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38320" y="139320"/>
            <a:ext cx="457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KVO-Anwendungen: Kompon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760" y="310356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7680" y="410544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2640" y="51069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edervor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7560" y="58039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-Zug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26640" y="331956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64360" y="414648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77000" y="4975200"/>
            <a:ext cx="23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 sichern / wiederhe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9600" y="58039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SQLDB-Zug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76680" y="1268280"/>
            <a:ext cx="23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l der Geschäftsob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92520" y="2176560"/>
            <a:ext cx="22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kenmodell und Ma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19680" y="3084480"/>
            <a:ext cx="18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kter DB-Zug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1080" y="399420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 a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75240" y="459756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ionsb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67400" y="52005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e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8320" y="580536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r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2800" y="1071720"/>
            <a:ext cx="2259360" cy="703800"/>
          </a:xfrm>
          <a:prstGeom prst="rect">
            <a:avLst/>
          </a:prstGeom>
          <a:solidFill>
            <a:srgbClr val="ead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hanwend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Behö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63720" y="1270080"/>
            <a:ext cx="2119320" cy="1008720"/>
          </a:xfrm>
          <a:prstGeom prst="rect">
            <a:avLst/>
          </a:prstGeom>
          <a:solidFill>
            <a:srgbClr val="9fb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wendung fü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ichterste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etrei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24160" y="1268280"/>
            <a:ext cx="6157800" cy="5148360"/>
          </a:xfrm>
          <a:prstGeom prst="rect">
            <a:avLst/>
          </a:prstGeom>
          <a:noFill/>
          <a:ln w="38160">
            <a:solidFill>
              <a:srgbClr val="1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4520" y="1052640"/>
            <a:ext cx="6229440" cy="5221080"/>
          </a:xfrm>
          <a:prstGeom prst="rect">
            <a:avLst/>
          </a:prstGeom>
          <a:noFill/>
          <a:ln w="38160">
            <a:solidFill>
              <a:srgbClr val="97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E2AC-B538-4E83-B418-32E803AB2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48:31Z</dcterms:created>
  <dc:creator>Ingo Mohr</dc:creator>
  <dc:description/>
  <dc:language>en-US</dc:language>
  <cp:lastModifiedBy>Ingo Mohr</cp:lastModifiedBy>
  <dcterms:modified xsi:type="dcterms:W3CDTF">2007-05-20T13:48:38Z</dcterms:modified>
  <cp:revision>91</cp:revision>
  <dc:subject/>
  <dc:title>Folie 1</dc:title>
</cp:coreProperties>
</file>